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C4A9-8C6E-4378-89C8-168911BE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7F3B-F6B0-4FDA-A16B-6FA8D137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D27D-262E-401A-9267-F4BA7D07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DA2-DAAB-4DD4-9505-5FC8282C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474F-EB2F-460F-A87B-C18F5BDF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030-F634-47D4-87B6-6D32EB53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93A-A5A5-4411-B0F0-4A80E586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181-BB09-4F4E-A66C-D01C9FFC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12E-1BB1-4A30-8C9E-0FA58C54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4F6-2CF0-482F-BC48-F0FC3080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FBA4-DD04-4BD6-B83B-F40B88E0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51C9-C5AC-43C6-913F-85C66122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CB4C-0E67-4FC6-B42B-42B6C1A9F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 -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5 x 4/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/13 x 15/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02000" y="1625760"/>
            <a:ext cx="1947960" cy="963360"/>
          </a:xfrm>
          <a:custGeom>
            <a:avLst/>
            <a:gdLst/>
            <a:ahLst/>
            <a:rect l="l" t="t" r="r" b="b"/>
            <a:pathLst>
              <a:path w="5408" h="2680">
                <a:moveTo>
                  <a:pt x="9550" y="5655"/>
                </a:moveTo>
                <a:cubicBezTo>
                  <a:pt x="9571" y="5624"/>
                  <a:pt x="9874" y="5351"/>
                  <a:pt x="9847" y="5556"/>
                </a:cubicBezTo>
                <a:cubicBezTo>
                  <a:pt x="9776" y="5698"/>
                  <a:pt x="9755" y="5742"/>
                  <a:pt x="9699" y="5829"/>
                </a:cubicBezTo>
                <a:cubicBezTo>
                  <a:pt x="9682" y="5846"/>
                  <a:pt x="9666" y="5862"/>
                  <a:pt x="9649" y="5879"/>
                </a:cubicBezTo>
                <a:cubicBezTo>
                  <a:pt x="9750" y="5833"/>
                  <a:pt x="10028" y="5761"/>
                  <a:pt x="9922" y="6003"/>
                </a:cubicBezTo>
                <a:cubicBezTo>
                  <a:pt x="9841" y="6189"/>
                  <a:pt x="9691" y="6208"/>
                  <a:pt x="9525" y="6251"/>
                </a:cubicBezTo>
              </a:path>
              <a:path w="5408" h="2680">
                <a:moveTo>
                  <a:pt x="9451" y="6524"/>
                </a:moveTo>
                <a:cubicBezTo>
                  <a:pt x="9696" y="6447"/>
                  <a:pt x="9916" y="6392"/>
                  <a:pt x="10170" y="6350"/>
                </a:cubicBezTo>
              </a:path>
              <a:path w="5408" h="2680">
                <a:moveTo>
                  <a:pt x="9947" y="6648"/>
                </a:moveTo>
                <a:cubicBezTo>
                  <a:pt x="9791" y="6663"/>
                  <a:pt x="9726" y="6654"/>
                  <a:pt x="9699" y="6821"/>
                </a:cubicBezTo>
                <a:cubicBezTo>
                  <a:pt x="9699" y="6854"/>
                  <a:pt x="9699" y="6888"/>
                  <a:pt x="9699" y="6921"/>
                </a:cubicBezTo>
                <a:cubicBezTo>
                  <a:pt x="9803" y="6962"/>
                  <a:pt x="9924" y="6815"/>
                  <a:pt x="10046" y="6821"/>
                </a:cubicBezTo>
                <a:cubicBezTo>
                  <a:pt x="10071" y="6838"/>
                  <a:pt x="10095" y="6854"/>
                  <a:pt x="10120" y="6871"/>
                </a:cubicBezTo>
                <a:cubicBezTo>
                  <a:pt x="10077" y="7101"/>
                  <a:pt x="9967" y="7130"/>
                  <a:pt x="9748" y="7193"/>
                </a:cubicBezTo>
              </a:path>
              <a:path w="5408" h="2680">
                <a:moveTo>
                  <a:pt x="10616" y="6424"/>
                </a:moveTo>
                <a:cubicBezTo>
                  <a:pt x="10706" y="6544"/>
                  <a:pt x="10778" y="6597"/>
                  <a:pt x="10914" y="6672"/>
                </a:cubicBezTo>
              </a:path>
              <a:path w="5408" h="2680">
                <a:moveTo>
                  <a:pt x="10790" y="6325"/>
                </a:moveTo>
                <a:cubicBezTo>
                  <a:pt x="10733" y="6480"/>
                  <a:pt x="10705" y="6629"/>
                  <a:pt x="10691" y="6796"/>
                </a:cubicBezTo>
              </a:path>
              <a:path w="5408" h="2680">
                <a:moveTo>
                  <a:pt x="11509" y="5631"/>
                </a:moveTo>
                <a:cubicBezTo>
                  <a:pt x="11464" y="5745"/>
                  <a:pt x="11450" y="5777"/>
                  <a:pt x="11435" y="5854"/>
                </a:cubicBezTo>
                <a:cubicBezTo>
                  <a:pt x="11570" y="5854"/>
                  <a:pt x="11628" y="5807"/>
                  <a:pt x="11757" y="5730"/>
                </a:cubicBezTo>
              </a:path>
              <a:path w="5408" h="2680">
                <a:moveTo>
                  <a:pt x="11633" y="5383"/>
                </a:moveTo>
                <a:cubicBezTo>
                  <a:pt x="11655" y="5639"/>
                  <a:pt x="11680" y="5896"/>
                  <a:pt x="11708" y="6152"/>
                </a:cubicBezTo>
              </a:path>
              <a:path w="5408" h="2680">
                <a:moveTo>
                  <a:pt x="11435" y="6300"/>
                </a:moveTo>
                <a:cubicBezTo>
                  <a:pt x="11648" y="6239"/>
                  <a:pt x="11862" y="6160"/>
                  <a:pt x="12080" y="6127"/>
                </a:cubicBezTo>
              </a:path>
              <a:path w="5408" h="2680">
                <a:moveTo>
                  <a:pt x="11609" y="6499"/>
                </a:moveTo>
                <a:cubicBezTo>
                  <a:pt x="11697" y="6483"/>
                  <a:pt x="11950" y="6337"/>
                  <a:pt x="12030" y="6400"/>
                </a:cubicBezTo>
                <a:cubicBezTo>
                  <a:pt x="12118" y="6469"/>
                  <a:pt x="12001" y="6805"/>
                  <a:pt x="11981" y="6896"/>
                </a:cubicBezTo>
                <a:cubicBezTo>
                  <a:pt x="11973" y="6929"/>
                  <a:pt x="11964" y="6962"/>
                  <a:pt x="11956" y="6995"/>
                </a:cubicBezTo>
              </a:path>
              <a:path w="5408" h="2680">
                <a:moveTo>
                  <a:pt x="12278" y="6176"/>
                </a:moveTo>
                <a:cubicBezTo>
                  <a:pt x="12362" y="6170"/>
                  <a:pt x="12442" y="6158"/>
                  <a:pt x="12526" y="6152"/>
                </a:cubicBezTo>
              </a:path>
              <a:path w="5408" h="2680">
                <a:moveTo>
                  <a:pt x="12353" y="6548"/>
                </a:moveTo>
                <a:cubicBezTo>
                  <a:pt x="12433" y="6495"/>
                  <a:pt x="12464" y="6475"/>
                  <a:pt x="12526" y="6449"/>
                </a:cubicBezTo>
              </a:path>
              <a:path w="5408" h="2680">
                <a:moveTo>
                  <a:pt x="13320" y="6350"/>
                </a:moveTo>
                <a:cubicBezTo>
                  <a:pt x="13460" y="6320"/>
                  <a:pt x="13626" y="6289"/>
                  <a:pt x="13494" y="6499"/>
                </a:cubicBezTo>
                <a:cubicBezTo>
                  <a:pt x="13469" y="6524"/>
                  <a:pt x="13444" y="6548"/>
                  <a:pt x="13419" y="6573"/>
                </a:cubicBezTo>
                <a:cubicBezTo>
                  <a:pt x="13592" y="6581"/>
                  <a:pt x="13776" y="6690"/>
                  <a:pt x="13519" y="6846"/>
                </a:cubicBezTo>
                <a:cubicBezTo>
                  <a:pt x="13388" y="6890"/>
                  <a:pt x="13358" y="6906"/>
                  <a:pt x="13271" y="6896"/>
                </a:cubicBezTo>
              </a:path>
              <a:path w="5408" h="2680">
                <a:moveTo>
                  <a:pt x="14039" y="6276"/>
                </a:moveTo>
                <a:cubicBezTo>
                  <a:pt x="13935" y="6345"/>
                  <a:pt x="13897" y="6412"/>
                  <a:pt x="13841" y="6524"/>
                </a:cubicBezTo>
                <a:cubicBezTo>
                  <a:pt x="13991" y="6515"/>
                  <a:pt x="14145" y="6425"/>
                  <a:pt x="14263" y="6548"/>
                </a:cubicBezTo>
                <a:cubicBezTo>
                  <a:pt x="14428" y="6720"/>
                  <a:pt x="14062" y="6765"/>
                  <a:pt x="13990" y="6772"/>
                </a:cubicBezTo>
              </a:path>
              <a:path w="5408" h="2680">
                <a:moveTo>
                  <a:pt x="14039" y="6325"/>
                </a:moveTo>
                <a:cubicBezTo>
                  <a:pt x="14105" y="6279"/>
                  <a:pt x="14161" y="6257"/>
                  <a:pt x="14238" y="6226"/>
                </a:cubicBezTo>
              </a:path>
              <a:path w="5408" h="2680">
                <a:moveTo>
                  <a:pt x="13171" y="6201"/>
                </a:moveTo>
                <a:cubicBezTo>
                  <a:pt x="13320" y="6033"/>
                  <a:pt x="13633" y="5985"/>
                  <a:pt x="13841" y="5928"/>
                </a:cubicBezTo>
                <a:cubicBezTo>
                  <a:pt x="14031" y="5876"/>
                  <a:pt x="14223" y="5835"/>
                  <a:pt x="14412" y="5779"/>
                </a:cubicBezTo>
              </a:path>
              <a:path w="5408" h="2680">
                <a:moveTo>
                  <a:pt x="13295" y="5333"/>
                </a:moveTo>
                <a:cubicBezTo>
                  <a:pt x="13295" y="5515"/>
                  <a:pt x="13269" y="5675"/>
                  <a:pt x="13246" y="5854"/>
                </a:cubicBezTo>
                <a:cubicBezTo>
                  <a:pt x="13246" y="5871"/>
                  <a:pt x="13246" y="5887"/>
                  <a:pt x="13246" y="5904"/>
                </a:cubicBezTo>
              </a:path>
              <a:path w="5408" h="2680">
                <a:moveTo>
                  <a:pt x="13543" y="5135"/>
                </a:moveTo>
                <a:cubicBezTo>
                  <a:pt x="13560" y="5180"/>
                  <a:pt x="13661" y="5061"/>
                  <a:pt x="13791" y="5035"/>
                </a:cubicBezTo>
                <a:cubicBezTo>
                  <a:pt x="13888" y="5278"/>
                  <a:pt x="13804" y="5421"/>
                  <a:pt x="13618" y="5606"/>
                </a:cubicBezTo>
                <a:cubicBezTo>
                  <a:pt x="13593" y="5622"/>
                  <a:pt x="13568" y="5639"/>
                  <a:pt x="13543" y="5655"/>
                </a:cubicBezTo>
                <a:cubicBezTo>
                  <a:pt x="13574" y="5501"/>
                  <a:pt x="13664" y="5401"/>
                  <a:pt x="13841" y="5432"/>
                </a:cubicBezTo>
                <a:cubicBezTo>
                  <a:pt x="13985" y="5457"/>
                  <a:pt x="13975" y="5607"/>
                  <a:pt x="14039" y="5705"/>
                </a:cubicBezTo>
              </a:path>
              <a:path w="5408" h="2680">
                <a:moveTo>
                  <a:pt x="14833" y="5829"/>
                </a:moveTo>
                <a:cubicBezTo>
                  <a:pt x="14849" y="5748"/>
                  <a:pt x="14872" y="5701"/>
                  <a:pt x="14858" y="5606"/>
                </a:cubicBezTo>
                <a:cubicBezTo>
                  <a:pt x="14840" y="5481"/>
                  <a:pt x="14780" y="5373"/>
                  <a:pt x="14734" y="5259"/>
                </a:cubicBezTo>
                <a:cubicBezTo>
                  <a:pt x="14703" y="5182"/>
                  <a:pt x="14670" y="5106"/>
                  <a:pt x="14635" y="5035"/>
                </a:cubicBezTo>
                <a:cubicBezTo>
                  <a:pt x="14594" y="4951"/>
                  <a:pt x="14542" y="4909"/>
                  <a:pt x="14486" y="4837"/>
                </a:cubicBezTo>
                <a:cubicBezTo>
                  <a:pt x="14406" y="4735"/>
                  <a:pt x="14389" y="4710"/>
                  <a:pt x="14288" y="4638"/>
                </a:cubicBezTo>
                <a:cubicBezTo>
                  <a:pt x="14199" y="4575"/>
                  <a:pt x="14105" y="4529"/>
                  <a:pt x="13990" y="4514"/>
                </a:cubicBezTo>
                <a:cubicBezTo>
                  <a:pt x="13827" y="4492"/>
                  <a:pt x="13582" y="4633"/>
                  <a:pt x="13469" y="4738"/>
                </a:cubicBezTo>
                <a:cubicBezTo>
                  <a:pt x="13356" y="4843"/>
                  <a:pt x="13268" y="5024"/>
                  <a:pt x="13196" y="5159"/>
                </a:cubicBezTo>
                <a:cubicBezTo>
                  <a:pt x="13115" y="5313"/>
                  <a:pt x="13071" y="5490"/>
                  <a:pt x="13022" y="5655"/>
                </a:cubicBezTo>
                <a:cubicBezTo>
                  <a:pt x="12994" y="5749"/>
                  <a:pt x="12998" y="5831"/>
                  <a:pt x="12998" y="5928"/>
                </a:cubicBezTo>
                <a:cubicBezTo>
                  <a:pt x="12998" y="6033"/>
                  <a:pt x="13054" y="6104"/>
                  <a:pt x="13072" y="6201"/>
                </a:cubicBezTo>
                <a:cubicBezTo>
                  <a:pt x="13083" y="6262"/>
                  <a:pt x="13092" y="6317"/>
                  <a:pt x="13097" y="6375"/>
                </a:cubicBezTo>
                <a:cubicBezTo>
                  <a:pt x="13105" y="6461"/>
                  <a:pt x="13109" y="6538"/>
                  <a:pt x="13122" y="6623"/>
                </a:cubicBezTo>
                <a:cubicBezTo>
                  <a:pt x="13132" y="6688"/>
                  <a:pt x="13133" y="6756"/>
                  <a:pt x="13146" y="6821"/>
                </a:cubicBezTo>
                <a:cubicBezTo>
                  <a:pt x="13161" y="6897"/>
                  <a:pt x="13185" y="6928"/>
                  <a:pt x="13246" y="6970"/>
                </a:cubicBezTo>
                <a:cubicBezTo>
                  <a:pt x="13309" y="7013"/>
                  <a:pt x="13403" y="7038"/>
                  <a:pt x="13469" y="7069"/>
                </a:cubicBezTo>
                <a:cubicBezTo>
                  <a:pt x="13534" y="7100"/>
                  <a:pt x="13605" y="7143"/>
                  <a:pt x="13667" y="7169"/>
                </a:cubicBezTo>
                <a:cubicBezTo>
                  <a:pt x="13765" y="7210"/>
                  <a:pt x="13841" y="7190"/>
                  <a:pt x="13940" y="7169"/>
                </a:cubicBezTo>
                <a:cubicBezTo>
                  <a:pt x="14038" y="7148"/>
                  <a:pt x="14096" y="7107"/>
                  <a:pt x="14188" y="7069"/>
                </a:cubicBezTo>
                <a:cubicBezTo>
                  <a:pt x="14265" y="7038"/>
                  <a:pt x="14424" y="6998"/>
                  <a:pt x="14486" y="6945"/>
                </a:cubicBezTo>
                <a:cubicBezTo>
                  <a:pt x="14566" y="6876"/>
                  <a:pt x="14634" y="6748"/>
                  <a:pt x="14660" y="6648"/>
                </a:cubicBezTo>
                <a:cubicBezTo>
                  <a:pt x="14679" y="6575"/>
                  <a:pt x="14700" y="6476"/>
                  <a:pt x="14709" y="6400"/>
                </a:cubicBezTo>
                <a:cubicBezTo>
                  <a:pt x="14725" y="6264"/>
                  <a:pt x="14722" y="6101"/>
                  <a:pt x="14734" y="5978"/>
                </a:cubicBezTo>
                <a:cubicBezTo>
                  <a:pt x="14740" y="5911"/>
                  <a:pt x="14753" y="5840"/>
                  <a:pt x="14759" y="5779"/>
                </a:cubicBezTo>
                <a:cubicBezTo>
                  <a:pt x="14765" y="5717"/>
                  <a:pt x="14779" y="5667"/>
                  <a:pt x="14784" y="5606"/>
                </a:cubicBezTo>
                <a:cubicBezTo>
                  <a:pt x="14790" y="5523"/>
                  <a:pt x="14768" y="5457"/>
                  <a:pt x="14759" y="5383"/>
                </a:cubicBezTo>
                <a:cubicBezTo>
                  <a:pt x="14759" y="5366"/>
                  <a:pt x="14759" y="5350"/>
                  <a:pt x="14759" y="53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05160" y="2152800"/>
            <a:ext cx="3332160" cy="4606920"/>
          </a:xfrm>
          <a:custGeom>
            <a:avLst/>
            <a:gdLst/>
            <a:ahLst/>
            <a:rect l="l" t="t" r="r" b="b"/>
            <a:pathLst>
              <a:path w="9253" h="12800">
                <a:moveTo>
                  <a:pt x="12948" y="11261"/>
                </a:moveTo>
                <a:cubicBezTo>
                  <a:pt x="12948" y="11534"/>
                  <a:pt x="12948" y="11807"/>
                  <a:pt x="12948" y="12080"/>
                </a:cubicBezTo>
              </a:path>
              <a:path w="9253" h="12800">
                <a:moveTo>
                  <a:pt x="13295" y="11286"/>
                </a:moveTo>
                <a:cubicBezTo>
                  <a:pt x="13581" y="11244"/>
                  <a:pt x="13696" y="11428"/>
                  <a:pt x="13593" y="11733"/>
                </a:cubicBezTo>
                <a:cubicBezTo>
                  <a:pt x="13512" y="11973"/>
                  <a:pt x="13328" y="11974"/>
                  <a:pt x="13246" y="11782"/>
                </a:cubicBezTo>
                <a:cubicBezTo>
                  <a:pt x="13434" y="11675"/>
                  <a:pt x="13525" y="11761"/>
                  <a:pt x="13692" y="11906"/>
                </a:cubicBezTo>
                <a:cubicBezTo>
                  <a:pt x="13700" y="11914"/>
                  <a:pt x="13709" y="11923"/>
                  <a:pt x="13717" y="11931"/>
                </a:cubicBezTo>
              </a:path>
              <a:path w="9253" h="12800">
                <a:moveTo>
                  <a:pt x="12626" y="12303"/>
                </a:moveTo>
                <a:cubicBezTo>
                  <a:pt x="12932" y="12220"/>
                  <a:pt x="13230" y="12136"/>
                  <a:pt x="13543" y="12080"/>
                </a:cubicBezTo>
              </a:path>
              <a:path w="9253" h="12800">
                <a:moveTo>
                  <a:pt x="12973" y="12452"/>
                </a:moveTo>
                <a:cubicBezTo>
                  <a:pt x="12944" y="12634"/>
                  <a:pt x="12926" y="12823"/>
                  <a:pt x="12874" y="12998"/>
                </a:cubicBezTo>
              </a:path>
              <a:path w="9253" h="12800">
                <a:moveTo>
                  <a:pt x="13171" y="12551"/>
                </a:moveTo>
                <a:cubicBezTo>
                  <a:pt x="13235" y="12529"/>
                  <a:pt x="13556" y="12379"/>
                  <a:pt x="13469" y="12601"/>
                </a:cubicBezTo>
                <a:cubicBezTo>
                  <a:pt x="13444" y="12634"/>
                  <a:pt x="13420" y="12667"/>
                  <a:pt x="13395" y="12700"/>
                </a:cubicBezTo>
                <a:cubicBezTo>
                  <a:pt x="13378" y="12717"/>
                  <a:pt x="13362" y="12733"/>
                  <a:pt x="13345" y="12750"/>
                </a:cubicBezTo>
                <a:cubicBezTo>
                  <a:pt x="13452" y="12710"/>
                  <a:pt x="13652" y="12731"/>
                  <a:pt x="13519" y="12898"/>
                </a:cubicBezTo>
                <a:cubicBezTo>
                  <a:pt x="13387" y="13064"/>
                  <a:pt x="13264" y="13011"/>
                  <a:pt x="13097" y="12973"/>
                </a:cubicBezTo>
              </a:path>
              <a:path w="9253" h="12800">
                <a:moveTo>
                  <a:pt x="14163" y="12080"/>
                </a:moveTo>
                <a:cubicBezTo>
                  <a:pt x="14248" y="12217"/>
                  <a:pt x="14312" y="12327"/>
                  <a:pt x="14362" y="12477"/>
                </a:cubicBezTo>
              </a:path>
              <a:path w="9253" h="12800">
                <a:moveTo>
                  <a:pt x="14263" y="12129"/>
                </a:moveTo>
                <a:cubicBezTo>
                  <a:pt x="14202" y="12281"/>
                  <a:pt x="14148" y="12412"/>
                  <a:pt x="14064" y="12551"/>
                </a:cubicBezTo>
              </a:path>
              <a:path w="9253" h="12800">
                <a:moveTo>
                  <a:pt x="15007" y="11609"/>
                </a:moveTo>
                <a:cubicBezTo>
                  <a:pt x="15007" y="11753"/>
                  <a:pt x="15007" y="11887"/>
                  <a:pt x="14982" y="12030"/>
                </a:cubicBezTo>
                <a:cubicBezTo>
                  <a:pt x="14974" y="12063"/>
                  <a:pt x="14965" y="12096"/>
                  <a:pt x="14957" y="12129"/>
                </a:cubicBezTo>
              </a:path>
              <a:path w="9253" h="12800">
                <a:moveTo>
                  <a:pt x="15329" y="11584"/>
                </a:moveTo>
                <a:cubicBezTo>
                  <a:pt x="15304" y="11633"/>
                  <a:pt x="15296" y="11650"/>
                  <a:pt x="15280" y="11683"/>
                </a:cubicBezTo>
                <a:cubicBezTo>
                  <a:pt x="15398" y="11733"/>
                  <a:pt x="15647" y="11806"/>
                  <a:pt x="15478" y="11981"/>
                </a:cubicBezTo>
                <a:cubicBezTo>
                  <a:pt x="15385" y="12027"/>
                  <a:pt x="15358" y="12047"/>
                  <a:pt x="15304" y="11981"/>
                </a:cubicBezTo>
              </a:path>
              <a:path w="9253" h="12800">
                <a:moveTo>
                  <a:pt x="15354" y="11559"/>
                </a:moveTo>
                <a:cubicBezTo>
                  <a:pt x="15524" y="11489"/>
                  <a:pt x="15715" y="11459"/>
                  <a:pt x="15900" y="11410"/>
                </a:cubicBezTo>
              </a:path>
              <a:path w="9253" h="12800">
                <a:moveTo>
                  <a:pt x="14883" y="12254"/>
                </a:moveTo>
                <a:cubicBezTo>
                  <a:pt x="15131" y="12226"/>
                  <a:pt x="15378" y="12183"/>
                  <a:pt x="15627" y="12154"/>
                </a:cubicBezTo>
                <a:cubicBezTo>
                  <a:pt x="15776" y="12135"/>
                  <a:pt x="15792" y="12127"/>
                  <a:pt x="15875" y="12129"/>
                </a:cubicBezTo>
              </a:path>
              <a:path w="9253" h="12800">
                <a:moveTo>
                  <a:pt x="15032" y="12427"/>
                </a:moveTo>
                <a:cubicBezTo>
                  <a:pt x="15019" y="12594"/>
                  <a:pt x="14990" y="12715"/>
                  <a:pt x="14932" y="12874"/>
                </a:cubicBezTo>
              </a:path>
              <a:path w="9253" h="12800">
                <a:moveTo>
                  <a:pt x="15304" y="12502"/>
                </a:moveTo>
                <a:cubicBezTo>
                  <a:pt x="15280" y="12606"/>
                  <a:pt x="15176" y="12840"/>
                  <a:pt x="15329" y="12898"/>
                </a:cubicBezTo>
                <a:cubicBezTo>
                  <a:pt x="15535" y="12976"/>
                  <a:pt x="15609" y="12762"/>
                  <a:pt x="15652" y="12626"/>
                </a:cubicBezTo>
                <a:cubicBezTo>
                  <a:pt x="15489" y="12638"/>
                  <a:pt x="15462" y="12680"/>
                  <a:pt x="15354" y="12799"/>
                </a:cubicBezTo>
              </a:path>
              <a:path w="9253" h="12800">
                <a:moveTo>
                  <a:pt x="14511" y="11981"/>
                </a:moveTo>
                <a:cubicBezTo>
                  <a:pt x="14355" y="12032"/>
                  <a:pt x="14308" y="12181"/>
                  <a:pt x="14238" y="12328"/>
                </a:cubicBezTo>
              </a:path>
              <a:path w="9253" h="12800">
                <a:moveTo>
                  <a:pt x="19993" y="6747"/>
                </a:moveTo>
                <a:cubicBezTo>
                  <a:pt x="19933" y="6965"/>
                  <a:pt x="19866" y="7178"/>
                  <a:pt x="19794" y="7392"/>
                </a:cubicBezTo>
              </a:path>
              <a:path w="9253" h="12800">
                <a:moveTo>
                  <a:pt x="20216" y="6796"/>
                </a:moveTo>
                <a:cubicBezTo>
                  <a:pt x="20322" y="6711"/>
                  <a:pt x="20353" y="6711"/>
                  <a:pt x="20489" y="6697"/>
                </a:cubicBezTo>
                <a:cubicBezTo>
                  <a:pt x="20588" y="6933"/>
                  <a:pt x="20545" y="7100"/>
                  <a:pt x="20265" y="7193"/>
                </a:cubicBezTo>
                <a:cubicBezTo>
                  <a:pt x="20232" y="7193"/>
                  <a:pt x="20199" y="7193"/>
                  <a:pt x="20166" y="7193"/>
                </a:cubicBezTo>
                <a:cubicBezTo>
                  <a:pt x="20279" y="7024"/>
                  <a:pt x="20381" y="6988"/>
                  <a:pt x="20538" y="7144"/>
                </a:cubicBezTo>
                <a:cubicBezTo>
                  <a:pt x="20555" y="7169"/>
                  <a:pt x="20571" y="7193"/>
                  <a:pt x="20588" y="7218"/>
                </a:cubicBezTo>
              </a:path>
              <a:path w="9253" h="12800">
                <a:moveTo>
                  <a:pt x="19174" y="7417"/>
                </a:moveTo>
                <a:cubicBezTo>
                  <a:pt x="19226" y="7590"/>
                  <a:pt x="19265" y="7760"/>
                  <a:pt x="19298" y="7938"/>
                </a:cubicBezTo>
              </a:path>
              <a:path w="9253" h="12800">
                <a:moveTo>
                  <a:pt x="19348" y="7417"/>
                </a:moveTo>
                <a:cubicBezTo>
                  <a:pt x="19249" y="7634"/>
                  <a:pt x="19168" y="7853"/>
                  <a:pt x="19124" y="8086"/>
                </a:cubicBezTo>
              </a:path>
              <a:path w="9253" h="12800">
                <a:moveTo>
                  <a:pt x="19720" y="7813"/>
                </a:moveTo>
                <a:cubicBezTo>
                  <a:pt x="19741" y="7997"/>
                  <a:pt x="19741" y="8151"/>
                  <a:pt x="19720" y="8334"/>
                </a:cubicBezTo>
              </a:path>
              <a:path w="9253" h="12800">
                <a:moveTo>
                  <a:pt x="20365" y="7640"/>
                </a:moveTo>
                <a:cubicBezTo>
                  <a:pt x="20222" y="7699"/>
                  <a:pt x="20190" y="7734"/>
                  <a:pt x="20166" y="7888"/>
                </a:cubicBezTo>
                <a:cubicBezTo>
                  <a:pt x="20356" y="7865"/>
                  <a:pt x="20426" y="7808"/>
                  <a:pt x="20588" y="7913"/>
                </a:cubicBezTo>
                <a:cubicBezTo>
                  <a:pt x="20481" y="8180"/>
                  <a:pt x="20399" y="8184"/>
                  <a:pt x="20117" y="8161"/>
                </a:cubicBezTo>
              </a:path>
              <a:path w="9253" h="12800">
                <a:moveTo>
                  <a:pt x="19100" y="8533"/>
                </a:moveTo>
                <a:cubicBezTo>
                  <a:pt x="19611" y="8416"/>
                  <a:pt x="20096" y="8336"/>
                  <a:pt x="20613" y="8285"/>
                </a:cubicBezTo>
                <a:cubicBezTo>
                  <a:pt x="20654" y="8277"/>
                  <a:pt x="20696" y="8268"/>
                  <a:pt x="20737" y="8260"/>
                </a:cubicBezTo>
              </a:path>
              <a:path w="9253" h="12800">
                <a:moveTo>
                  <a:pt x="20513" y="8582"/>
                </a:moveTo>
                <a:lnTo>
                  <a:pt x="20513" y="8582"/>
                </a:lnTo>
              </a:path>
              <a:path w="9253" h="12800">
                <a:moveTo>
                  <a:pt x="20538" y="8781"/>
                </a:moveTo>
                <a:cubicBezTo>
                  <a:pt x="20459" y="8768"/>
                  <a:pt x="20351" y="8712"/>
                  <a:pt x="20290" y="8806"/>
                </a:cubicBezTo>
                <a:cubicBezTo>
                  <a:pt x="20265" y="8905"/>
                  <a:pt x="20257" y="8938"/>
                  <a:pt x="20290" y="9004"/>
                </a:cubicBezTo>
                <a:cubicBezTo>
                  <a:pt x="20448" y="9048"/>
                  <a:pt x="20768" y="8993"/>
                  <a:pt x="20588" y="8731"/>
                </a:cubicBezTo>
                <a:cubicBezTo>
                  <a:pt x="20475" y="8703"/>
                  <a:pt x="20430" y="8702"/>
                  <a:pt x="20365" y="8781"/>
                </a:cubicBezTo>
              </a:path>
              <a:path w="9253" h="12800">
                <a:moveTo>
                  <a:pt x="19720" y="5978"/>
                </a:moveTo>
                <a:cubicBezTo>
                  <a:pt x="19720" y="6127"/>
                  <a:pt x="19720" y="6275"/>
                  <a:pt x="19720" y="6424"/>
                </a:cubicBezTo>
              </a:path>
              <a:path w="9253" h="12800">
                <a:moveTo>
                  <a:pt x="19745" y="8682"/>
                </a:moveTo>
                <a:cubicBezTo>
                  <a:pt x="19646" y="8888"/>
                  <a:pt x="19571" y="9026"/>
                  <a:pt x="19596" y="9252"/>
                </a:cubicBezTo>
                <a:cubicBezTo>
                  <a:pt x="19842" y="9264"/>
                  <a:pt x="19886" y="9212"/>
                  <a:pt x="19968" y="8979"/>
                </a:cubicBezTo>
                <a:cubicBezTo>
                  <a:pt x="19867" y="8878"/>
                  <a:pt x="19761" y="9055"/>
                  <a:pt x="19720" y="9153"/>
                </a:cubicBezTo>
                <a:cubicBezTo>
                  <a:pt x="19712" y="9186"/>
                  <a:pt x="19703" y="9219"/>
                  <a:pt x="19695" y="9252"/>
                </a:cubicBezTo>
              </a:path>
              <a:path w="9253" h="12800">
                <a:moveTo>
                  <a:pt x="20464" y="9426"/>
                </a:moveTo>
                <a:cubicBezTo>
                  <a:pt x="20391" y="9436"/>
                  <a:pt x="20345" y="9472"/>
                  <a:pt x="20315" y="9550"/>
                </a:cubicBezTo>
                <a:cubicBezTo>
                  <a:pt x="20290" y="9615"/>
                  <a:pt x="20276" y="9701"/>
                  <a:pt x="20290" y="9773"/>
                </a:cubicBezTo>
                <a:cubicBezTo>
                  <a:pt x="20321" y="9938"/>
                  <a:pt x="20399" y="9927"/>
                  <a:pt x="20538" y="9872"/>
                </a:cubicBezTo>
                <a:cubicBezTo>
                  <a:pt x="20641" y="9832"/>
                  <a:pt x="20828" y="9641"/>
                  <a:pt x="20687" y="9525"/>
                </a:cubicBezTo>
                <a:cubicBezTo>
                  <a:pt x="20605" y="9504"/>
                  <a:pt x="20589" y="9496"/>
                  <a:pt x="20538" y="9500"/>
                </a:cubicBezTo>
              </a:path>
              <a:path w="9253" h="12800">
                <a:moveTo>
                  <a:pt x="19695" y="9550"/>
                </a:moveTo>
                <a:cubicBezTo>
                  <a:pt x="19791" y="9518"/>
                  <a:pt x="19860" y="9483"/>
                  <a:pt x="19968" y="9475"/>
                </a:cubicBezTo>
                <a:cubicBezTo>
                  <a:pt x="19937" y="9689"/>
                  <a:pt x="19819" y="9793"/>
                  <a:pt x="19670" y="9947"/>
                </a:cubicBezTo>
                <a:cubicBezTo>
                  <a:pt x="19645" y="9972"/>
                  <a:pt x="19621" y="9996"/>
                  <a:pt x="19596" y="10021"/>
                </a:cubicBezTo>
                <a:cubicBezTo>
                  <a:pt x="19745" y="9922"/>
                  <a:pt x="19827" y="9889"/>
                  <a:pt x="19993" y="9897"/>
                </a:cubicBezTo>
                <a:cubicBezTo>
                  <a:pt x="20001" y="9897"/>
                  <a:pt x="20009" y="9897"/>
                  <a:pt x="20017" y="9897"/>
                </a:cubicBezTo>
              </a:path>
              <a:path w="9253" h="12800">
                <a:moveTo>
                  <a:pt x="19174" y="9550"/>
                </a:moveTo>
                <a:cubicBezTo>
                  <a:pt x="19166" y="9550"/>
                  <a:pt x="19157" y="9550"/>
                  <a:pt x="19149" y="9550"/>
                </a:cubicBezTo>
              </a:path>
              <a:path w="9253" h="12800">
                <a:moveTo>
                  <a:pt x="19224" y="9575"/>
                </a:moveTo>
                <a:cubicBezTo>
                  <a:pt x="19190" y="9471"/>
                  <a:pt x="19155" y="9906"/>
                  <a:pt x="19149" y="9996"/>
                </a:cubicBezTo>
                <a:cubicBezTo>
                  <a:pt x="19149" y="10112"/>
                  <a:pt x="19149" y="10129"/>
                  <a:pt x="19149" y="10195"/>
                </a:cubicBezTo>
              </a:path>
              <a:path w="9253" h="12800">
                <a:moveTo>
                  <a:pt x="18777" y="10368"/>
                </a:moveTo>
                <a:cubicBezTo>
                  <a:pt x="19058" y="10347"/>
                  <a:pt x="19338" y="10303"/>
                  <a:pt x="19621" y="10294"/>
                </a:cubicBezTo>
                <a:cubicBezTo>
                  <a:pt x="20035" y="10281"/>
                  <a:pt x="20448" y="10293"/>
                  <a:pt x="20861" y="10269"/>
                </a:cubicBezTo>
                <a:cubicBezTo>
                  <a:pt x="20886" y="10269"/>
                  <a:pt x="20910" y="10269"/>
                  <a:pt x="20935" y="10269"/>
                </a:cubicBezTo>
              </a:path>
              <a:path w="9253" h="12800">
                <a:moveTo>
                  <a:pt x="18579" y="9723"/>
                </a:moveTo>
                <a:cubicBezTo>
                  <a:pt x="18563" y="9875"/>
                  <a:pt x="18554" y="10017"/>
                  <a:pt x="18554" y="10170"/>
                </a:cubicBezTo>
              </a:path>
              <a:path w="9253" h="12800">
                <a:moveTo>
                  <a:pt x="18380" y="10021"/>
                </a:moveTo>
                <a:cubicBezTo>
                  <a:pt x="18505" y="10015"/>
                  <a:pt x="18627" y="10003"/>
                  <a:pt x="18752" y="9996"/>
                </a:cubicBezTo>
              </a:path>
              <a:path w="9253" h="12800">
                <a:moveTo>
                  <a:pt x="20588" y="10542"/>
                </a:moveTo>
                <a:cubicBezTo>
                  <a:pt x="20467" y="10715"/>
                  <a:pt x="20414" y="10828"/>
                  <a:pt x="20389" y="11038"/>
                </a:cubicBezTo>
                <a:cubicBezTo>
                  <a:pt x="20589" y="11088"/>
                  <a:pt x="20776" y="11019"/>
                  <a:pt x="20811" y="10765"/>
                </a:cubicBezTo>
                <a:cubicBezTo>
                  <a:pt x="20837" y="10578"/>
                  <a:pt x="20633" y="10636"/>
                  <a:pt x="20538" y="10641"/>
                </a:cubicBezTo>
              </a:path>
              <a:path w="9253" h="12800">
                <a:moveTo>
                  <a:pt x="19918" y="10716"/>
                </a:moveTo>
                <a:cubicBezTo>
                  <a:pt x="19772" y="10745"/>
                  <a:pt x="19722" y="10747"/>
                  <a:pt x="19621" y="10840"/>
                </a:cubicBezTo>
                <a:cubicBezTo>
                  <a:pt x="19687" y="10985"/>
                  <a:pt x="19883" y="10967"/>
                  <a:pt x="19968" y="11137"/>
                </a:cubicBezTo>
                <a:cubicBezTo>
                  <a:pt x="20032" y="11265"/>
                  <a:pt x="19850" y="11254"/>
                  <a:pt x="19794" y="11261"/>
                </a:cubicBezTo>
                <a:cubicBezTo>
                  <a:pt x="19752" y="11072"/>
                  <a:pt x="19816" y="10997"/>
                  <a:pt x="19893" y="10815"/>
                </a:cubicBezTo>
              </a:path>
              <a:path w="9253" h="12800">
                <a:moveTo>
                  <a:pt x="19199" y="10864"/>
                </a:moveTo>
                <a:cubicBezTo>
                  <a:pt x="19199" y="11043"/>
                  <a:pt x="19194" y="11233"/>
                  <a:pt x="19174" y="11410"/>
                </a:cubicBezTo>
                <a:cubicBezTo>
                  <a:pt x="19166" y="11443"/>
                  <a:pt x="19157" y="11476"/>
                  <a:pt x="19149" y="11509"/>
                </a:cubicBezTo>
              </a:path>
              <a:path w="9253" h="12800">
                <a:moveTo>
                  <a:pt x="16321" y="12254"/>
                </a:moveTo>
                <a:cubicBezTo>
                  <a:pt x="16388" y="12274"/>
                  <a:pt x="16451" y="12293"/>
                  <a:pt x="16520" y="12303"/>
                </a:cubicBezTo>
              </a:path>
              <a:path w="9253" h="12800">
                <a:moveTo>
                  <a:pt x="16346" y="12477"/>
                </a:moveTo>
                <a:cubicBezTo>
                  <a:pt x="16446" y="12452"/>
                  <a:pt x="16479" y="12444"/>
                  <a:pt x="16545" y="12427"/>
                </a:cubicBezTo>
              </a:path>
              <a:path w="9253" h="12800">
                <a:moveTo>
                  <a:pt x="16793" y="11683"/>
                </a:moveTo>
                <a:cubicBezTo>
                  <a:pt x="16759" y="11842"/>
                  <a:pt x="16755" y="12013"/>
                  <a:pt x="16718" y="12179"/>
                </a:cubicBezTo>
              </a:path>
              <a:path w="9253" h="12800">
                <a:moveTo>
                  <a:pt x="17214" y="11534"/>
                </a:moveTo>
                <a:cubicBezTo>
                  <a:pt x="17140" y="11579"/>
                  <a:pt x="16900" y="11705"/>
                  <a:pt x="17016" y="11832"/>
                </a:cubicBezTo>
                <a:cubicBezTo>
                  <a:pt x="17095" y="11918"/>
                  <a:pt x="17173" y="11902"/>
                  <a:pt x="17239" y="12005"/>
                </a:cubicBezTo>
                <a:cubicBezTo>
                  <a:pt x="17166" y="12079"/>
                  <a:pt x="17142" y="12104"/>
                  <a:pt x="17066" y="12105"/>
                </a:cubicBezTo>
                <a:cubicBezTo>
                  <a:pt x="17094" y="11929"/>
                  <a:pt x="17169" y="11797"/>
                  <a:pt x="17239" y="11633"/>
                </a:cubicBezTo>
              </a:path>
              <a:path w="9253" h="12800">
                <a:moveTo>
                  <a:pt x="17587" y="11559"/>
                </a:moveTo>
                <a:cubicBezTo>
                  <a:pt x="17454" y="11731"/>
                  <a:pt x="17402" y="11844"/>
                  <a:pt x="17413" y="12055"/>
                </a:cubicBezTo>
                <a:cubicBezTo>
                  <a:pt x="17589" y="12055"/>
                  <a:pt x="17884" y="11981"/>
                  <a:pt x="17785" y="11708"/>
                </a:cubicBezTo>
                <a:cubicBezTo>
                  <a:pt x="17683" y="11606"/>
                  <a:pt x="17647" y="11574"/>
                  <a:pt x="17537" y="11633"/>
                </a:cubicBezTo>
              </a:path>
              <a:path w="9253" h="12800">
                <a:moveTo>
                  <a:pt x="16570" y="12378"/>
                </a:moveTo>
                <a:cubicBezTo>
                  <a:pt x="16876" y="12423"/>
                  <a:pt x="17178" y="12355"/>
                  <a:pt x="17487" y="12328"/>
                </a:cubicBezTo>
                <a:cubicBezTo>
                  <a:pt x="17711" y="12308"/>
                  <a:pt x="17913" y="12285"/>
                  <a:pt x="18132" y="12303"/>
                </a:cubicBezTo>
              </a:path>
              <a:path w="9253" h="12800">
                <a:moveTo>
                  <a:pt x="16694" y="12526"/>
                </a:moveTo>
                <a:cubicBezTo>
                  <a:pt x="16719" y="12501"/>
                  <a:pt x="16743" y="12477"/>
                  <a:pt x="16768" y="12452"/>
                </a:cubicBezTo>
                <a:cubicBezTo>
                  <a:pt x="16936" y="12581"/>
                  <a:pt x="16945" y="12842"/>
                  <a:pt x="16718" y="12998"/>
                </a:cubicBezTo>
                <a:cubicBezTo>
                  <a:pt x="16601" y="13021"/>
                  <a:pt x="16565" y="13034"/>
                  <a:pt x="16520" y="12948"/>
                </a:cubicBezTo>
                <a:cubicBezTo>
                  <a:pt x="16621" y="12811"/>
                  <a:pt x="16811" y="12665"/>
                  <a:pt x="16966" y="12874"/>
                </a:cubicBezTo>
                <a:cubicBezTo>
                  <a:pt x="16974" y="12915"/>
                  <a:pt x="16983" y="12957"/>
                  <a:pt x="16991" y="12998"/>
                </a:cubicBezTo>
              </a:path>
              <a:path w="9253" h="12800">
                <a:moveTo>
                  <a:pt x="17239" y="12551"/>
                </a:moveTo>
                <a:cubicBezTo>
                  <a:pt x="17142" y="12737"/>
                  <a:pt x="17070" y="12883"/>
                  <a:pt x="17165" y="13072"/>
                </a:cubicBezTo>
                <a:cubicBezTo>
                  <a:pt x="17328" y="12963"/>
                  <a:pt x="17486" y="12799"/>
                  <a:pt x="17214" y="12675"/>
                </a:cubicBezTo>
                <a:cubicBezTo>
                  <a:pt x="17189" y="12675"/>
                  <a:pt x="17165" y="12675"/>
                  <a:pt x="17140" y="12675"/>
                </a:cubicBezTo>
              </a:path>
              <a:path w="9253" h="12800">
                <a:moveTo>
                  <a:pt x="17562" y="12502"/>
                </a:moveTo>
                <a:cubicBezTo>
                  <a:pt x="17459" y="12584"/>
                  <a:pt x="17426" y="12592"/>
                  <a:pt x="17413" y="12675"/>
                </a:cubicBezTo>
                <a:cubicBezTo>
                  <a:pt x="17484" y="12707"/>
                  <a:pt x="17818" y="12784"/>
                  <a:pt x="17686" y="12923"/>
                </a:cubicBezTo>
                <a:cubicBezTo>
                  <a:pt x="17661" y="12931"/>
                  <a:pt x="17636" y="12940"/>
                  <a:pt x="17611" y="12948"/>
                </a:cubicBezTo>
                <a:cubicBezTo>
                  <a:pt x="17631" y="12758"/>
                  <a:pt x="17700" y="12606"/>
                  <a:pt x="17760" y="12427"/>
                </a:cubicBezTo>
              </a:path>
              <a:path w="9253" h="12800">
                <a:moveTo>
                  <a:pt x="11906" y="12750"/>
                </a:moveTo>
                <a:lnTo>
                  <a:pt x="11906" y="12750"/>
                </a:lnTo>
              </a:path>
              <a:path w="9253" h="12800">
                <a:moveTo>
                  <a:pt x="18231" y="12477"/>
                </a:moveTo>
                <a:cubicBezTo>
                  <a:pt x="18318" y="12483"/>
                  <a:pt x="18393" y="12495"/>
                  <a:pt x="18479" y="12502"/>
                </a:cubicBezTo>
              </a:path>
              <a:path w="9253" h="12800">
                <a:moveTo>
                  <a:pt x="18281" y="12254"/>
                </a:moveTo>
                <a:lnTo>
                  <a:pt x="18281" y="12254"/>
                </a:lnTo>
              </a:path>
              <a:path w="9253" h="12800">
                <a:moveTo>
                  <a:pt x="18281" y="12774"/>
                </a:moveTo>
                <a:lnTo>
                  <a:pt x="18281" y="12774"/>
                </a:lnTo>
              </a:path>
              <a:path w="9253" h="12800">
                <a:moveTo>
                  <a:pt x="18479" y="12105"/>
                </a:moveTo>
                <a:cubicBezTo>
                  <a:pt x="18529" y="12264"/>
                  <a:pt x="18541" y="12234"/>
                  <a:pt x="18678" y="12154"/>
                </a:cubicBezTo>
              </a:path>
              <a:path w="9253" h="12800">
                <a:moveTo>
                  <a:pt x="18604" y="11981"/>
                </a:moveTo>
                <a:cubicBezTo>
                  <a:pt x="18604" y="12105"/>
                  <a:pt x="18604" y="12229"/>
                  <a:pt x="18604" y="12353"/>
                </a:cubicBezTo>
              </a:path>
              <a:path w="9253" h="12800">
                <a:moveTo>
                  <a:pt x="18479" y="12526"/>
                </a:moveTo>
                <a:cubicBezTo>
                  <a:pt x="18606" y="12502"/>
                  <a:pt x="18650" y="12493"/>
                  <a:pt x="18728" y="12452"/>
                </a:cubicBezTo>
              </a:path>
              <a:path w="9253" h="12800">
                <a:moveTo>
                  <a:pt x="18529" y="12725"/>
                </a:moveTo>
                <a:cubicBezTo>
                  <a:pt x="18465" y="12867"/>
                  <a:pt x="18473" y="12871"/>
                  <a:pt x="18628" y="12849"/>
                </a:cubicBezTo>
              </a:path>
              <a:path w="9253" h="12800">
                <a:moveTo>
                  <a:pt x="18728" y="12675"/>
                </a:moveTo>
                <a:cubicBezTo>
                  <a:pt x="18691" y="12815"/>
                  <a:pt x="18663" y="12953"/>
                  <a:pt x="18653" y="13097"/>
                </a:cubicBezTo>
              </a:path>
              <a:path w="9253" h="12800">
                <a:moveTo>
                  <a:pt x="18901" y="12254"/>
                </a:moveTo>
                <a:cubicBezTo>
                  <a:pt x="18973" y="12269"/>
                  <a:pt x="19021" y="12260"/>
                  <a:pt x="19100" y="12254"/>
                </a:cubicBezTo>
              </a:path>
              <a:path w="9253" h="12800">
                <a:moveTo>
                  <a:pt x="18976" y="12477"/>
                </a:moveTo>
                <a:cubicBezTo>
                  <a:pt x="19045" y="12454"/>
                  <a:pt x="19103" y="12435"/>
                  <a:pt x="19174" y="12427"/>
                </a:cubicBezTo>
              </a:path>
              <a:path w="9253" h="12800">
                <a:moveTo>
                  <a:pt x="12874" y="15180"/>
                </a:moveTo>
                <a:cubicBezTo>
                  <a:pt x="12829" y="15403"/>
                  <a:pt x="12730" y="15610"/>
                  <a:pt x="12650" y="15825"/>
                </a:cubicBezTo>
              </a:path>
              <a:path w="9253" h="12800">
                <a:moveTo>
                  <a:pt x="13419" y="15106"/>
                </a:moveTo>
                <a:cubicBezTo>
                  <a:pt x="13183" y="15280"/>
                  <a:pt x="13172" y="15294"/>
                  <a:pt x="13295" y="15528"/>
                </a:cubicBezTo>
                <a:cubicBezTo>
                  <a:pt x="13372" y="15675"/>
                  <a:pt x="13357" y="15684"/>
                  <a:pt x="13246" y="15751"/>
                </a:cubicBezTo>
                <a:cubicBezTo>
                  <a:pt x="13232" y="15511"/>
                  <a:pt x="13328" y="15397"/>
                  <a:pt x="13469" y="15205"/>
                </a:cubicBezTo>
              </a:path>
              <a:path w="9253" h="12800">
                <a:moveTo>
                  <a:pt x="13816" y="15081"/>
                </a:moveTo>
                <a:cubicBezTo>
                  <a:pt x="13742" y="15274"/>
                  <a:pt x="13726" y="15370"/>
                  <a:pt x="13742" y="15577"/>
                </a:cubicBezTo>
                <a:cubicBezTo>
                  <a:pt x="14008" y="15494"/>
                  <a:pt x="14039" y="15394"/>
                  <a:pt x="14039" y="15131"/>
                </a:cubicBezTo>
              </a:path>
              <a:path w="9253" h="12800">
                <a:moveTo>
                  <a:pt x="12303" y="15974"/>
                </a:moveTo>
                <a:cubicBezTo>
                  <a:pt x="12314" y="15725"/>
                  <a:pt x="12360" y="15479"/>
                  <a:pt x="12378" y="15230"/>
                </a:cubicBezTo>
                <a:cubicBezTo>
                  <a:pt x="12383" y="15166"/>
                  <a:pt x="12378" y="15097"/>
                  <a:pt x="12378" y="15032"/>
                </a:cubicBezTo>
                <a:cubicBezTo>
                  <a:pt x="12678" y="14974"/>
                  <a:pt x="12964" y="14982"/>
                  <a:pt x="13271" y="14982"/>
                </a:cubicBezTo>
                <a:cubicBezTo>
                  <a:pt x="13790" y="14982"/>
                  <a:pt x="14314" y="14926"/>
                  <a:pt x="14833" y="14957"/>
                </a:cubicBezTo>
                <a:cubicBezTo>
                  <a:pt x="14883" y="14965"/>
                  <a:pt x="14932" y="14974"/>
                  <a:pt x="14982" y="14982"/>
                </a:cubicBezTo>
              </a:path>
              <a:path w="9253" h="12800">
                <a:moveTo>
                  <a:pt x="11733" y="15230"/>
                </a:moveTo>
                <a:cubicBezTo>
                  <a:pt x="11726" y="15287"/>
                  <a:pt x="11623" y="15500"/>
                  <a:pt x="11733" y="15503"/>
                </a:cubicBezTo>
                <a:cubicBezTo>
                  <a:pt x="11820" y="15505"/>
                  <a:pt x="11994" y="15432"/>
                  <a:pt x="12080" y="15404"/>
                </a:cubicBezTo>
              </a:path>
              <a:path w="9253" h="12800">
                <a:moveTo>
                  <a:pt x="12005" y="15106"/>
                </a:moveTo>
                <a:cubicBezTo>
                  <a:pt x="11963" y="15339"/>
                  <a:pt x="11898" y="15568"/>
                  <a:pt x="11857" y="15801"/>
                </a:cubicBezTo>
                <a:cubicBezTo>
                  <a:pt x="11857" y="15809"/>
                  <a:pt x="11857" y="15817"/>
                  <a:pt x="11857" y="15825"/>
                </a:cubicBezTo>
              </a:path>
              <a:path w="9253" h="12800">
                <a:moveTo>
                  <a:pt x="13221" y="14337"/>
                </a:moveTo>
                <a:lnTo>
                  <a:pt x="13221" y="14337"/>
                </a:lnTo>
              </a:path>
              <a:path w="9253" h="12800">
                <a:moveTo>
                  <a:pt x="13271" y="14312"/>
                </a:moveTo>
                <a:cubicBezTo>
                  <a:pt x="13271" y="14304"/>
                  <a:pt x="13271" y="14296"/>
                  <a:pt x="13271" y="14288"/>
                </a:cubicBezTo>
              </a:path>
              <a:path w="9253" h="12800">
                <a:moveTo>
                  <a:pt x="13568" y="14089"/>
                </a:moveTo>
                <a:cubicBezTo>
                  <a:pt x="13549" y="14300"/>
                  <a:pt x="13530" y="14506"/>
                  <a:pt x="13469" y="14709"/>
                </a:cubicBezTo>
                <a:cubicBezTo>
                  <a:pt x="13461" y="14726"/>
                  <a:pt x="13452" y="14742"/>
                  <a:pt x="13444" y="14759"/>
                </a:cubicBezTo>
              </a:path>
              <a:path w="9253" h="12800">
                <a:moveTo>
                  <a:pt x="13345" y="14263"/>
                </a:moveTo>
                <a:cubicBezTo>
                  <a:pt x="13293" y="14360"/>
                  <a:pt x="13256" y="14454"/>
                  <a:pt x="13221" y="14560"/>
                </a:cubicBezTo>
                <a:cubicBezTo>
                  <a:pt x="13320" y="14546"/>
                  <a:pt x="13393" y="14536"/>
                  <a:pt x="13494" y="14536"/>
                </a:cubicBezTo>
              </a:path>
              <a:path w="9253" h="12800">
                <a:moveTo>
                  <a:pt x="12774" y="16024"/>
                </a:moveTo>
                <a:lnTo>
                  <a:pt x="12774" y="16024"/>
                </a:lnTo>
              </a:path>
              <a:path w="9253" h="12800">
                <a:moveTo>
                  <a:pt x="13196" y="16073"/>
                </a:moveTo>
                <a:lnTo>
                  <a:pt x="13196" y="16073"/>
                </a:lnTo>
              </a:path>
              <a:path w="9253" h="12800">
                <a:moveTo>
                  <a:pt x="13221" y="16049"/>
                </a:moveTo>
                <a:cubicBezTo>
                  <a:pt x="13214" y="16120"/>
                  <a:pt x="13096" y="16470"/>
                  <a:pt x="13146" y="16520"/>
                </a:cubicBezTo>
                <a:cubicBezTo>
                  <a:pt x="13302" y="16675"/>
                  <a:pt x="13445" y="16427"/>
                  <a:pt x="13494" y="16321"/>
                </a:cubicBezTo>
                <a:cubicBezTo>
                  <a:pt x="13345" y="16322"/>
                  <a:pt x="13313" y="16400"/>
                  <a:pt x="13246" y="16545"/>
                </a:cubicBezTo>
              </a:path>
              <a:path w="9253" h="12800">
                <a:moveTo>
                  <a:pt x="12849" y="15974"/>
                </a:moveTo>
                <a:cubicBezTo>
                  <a:pt x="12830" y="16163"/>
                  <a:pt x="12776" y="16336"/>
                  <a:pt x="12725" y="16520"/>
                </a:cubicBezTo>
              </a:path>
              <a:path w="9253" h="12800">
                <a:moveTo>
                  <a:pt x="12477" y="16892"/>
                </a:moveTo>
                <a:cubicBezTo>
                  <a:pt x="12716" y="16865"/>
                  <a:pt x="12956" y="16842"/>
                  <a:pt x="13196" y="16818"/>
                </a:cubicBezTo>
                <a:cubicBezTo>
                  <a:pt x="13329" y="16805"/>
                  <a:pt x="13461" y="16783"/>
                  <a:pt x="13593" y="16768"/>
                </a:cubicBezTo>
              </a:path>
              <a:path w="9253" h="12800">
                <a:moveTo>
                  <a:pt x="12105" y="16297"/>
                </a:moveTo>
                <a:cubicBezTo>
                  <a:pt x="12160" y="16286"/>
                  <a:pt x="12194" y="16277"/>
                  <a:pt x="12254" y="16272"/>
                </a:cubicBezTo>
              </a:path>
              <a:path w="9253" h="12800">
                <a:moveTo>
                  <a:pt x="13320" y="17115"/>
                </a:moveTo>
                <a:cubicBezTo>
                  <a:pt x="13236" y="17118"/>
                  <a:pt x="13456" y="17046"/>
                  <a:pt x="13519" y="17041"/>
                </a:cubicBezTo>
                <a:cubicBezTo>
                  <a:pt x="13589" y="17238"/>
                  <a:pt x="13535" y="17290"/>
                  <a:pt x="13395" y="17438"/>
                </a:cubicBezTo>
                <a:cubicBezTo>
                  <a:pt x="13362" y="17471"/>
                  <a:pt x="13328" y="17504"/>
                  <a:pt x="13295" y="17537"/>
                </a:cubicBezTo>
                <a:cubicBezTo>
                  <a:pt x="13439" y="17548"/>
                  <a:pt x="13574" y="17497"/>
                  <a:pt x="13717" y="17438"/>
                </a:cubicBezTo>
              </a:path>
              <a:path w="9253" h="12800">
                <a:moveTo>
                  <a:pt x="13965" y="15850"/>
                </a:moveTo>
                <a:cubicBezTo>
                  <a:pt x="13906" y="16104"/>
                  <a:pt x="13915" y="16354"/>
                  <a:pt x="13915" y="16619"/>
                </a:cubicBezTo>
              </a:path>
              <a:path w="9253" h="12800">
                <a:moveTo>
                  <a:pt x="13618" y="16446"/>
                </a:moveTo>
                <a:cubicBezTo>
                  <a:pt x="13698" y="16564"/>
                  <a:pt x="13753" y="16632"/>
                  <a:pt x="13866" y="16718"/>
                </a:cubicBezTo>
                <a:cubicBezTo>
                  <a:pt x="13988" y="16597"/>
                  <a:pt x="14072" y="16414"/>
                  <a:pt x="14188" y="16272"/>
                </a:cubicBezTo>
              </a:path>
              <a:path w="9253" h="12800">
                <a:moveTo>
                  <a:pt x="14015" y="16942"/>
                </a:moveTo>
                <a:cubicBezTo>
                  <a:pt x="13937" y="16911"/>
                  <a:pt x="13859" y="16983"/>
                  <a:pt x="13816" y="17066"/>
                </a:cubicBezTo>
                <a:cubicBezTo>
                  <a:pt x="13741" y="17209"/>
                  <a:pt x="13753" y="17312"/>
                  <a:pt x="13767" y="17462"/>
                </a:cubicBezTo>
                <a:cubicBezTo>
                  <a:pt x="13979" y="17427"/>
                  <a:pt x="14108" y="17361"/>
                  <a:pt x="14114" y="17115"/>
                </a:cubicBezTo>
                <a:cubicBezTo>
                  <a:pt x="14116" y="17006"/>
                  <a:pt x="14021" y="16935"/>
                  <a:pt x="13940" y="16966"/>
                </a:cubicBezTo>
              </a:path>
              <a:path w="9253" h="12800">
                <a:moveTo>
                  <a:pt x="14015" y="14139"/>
                </a:moveTo>
                <a:cubicBezTo>
                  <a:pt x="13904" y="14134"/>
                  <a:pt x="13802" y="14124"/>
                  <a:pt x="13692" y="14114"/>
                </a:cubicBezTo>
                <a:cubicBezTo>
                  <a:pt x="13729" y="14232"/>
                  <a:pt x="13709" y="14370"/>
                  <a:pt x="13841" y="14337"/>
                </a:cubicBezTo>
                <a:cubicBezTo>
                  <a:pt x="13988" y="14289"/>
                  <a:pt x="14036" y="14272"/>
                  <a:pt x="14139" y="14312"/>
                </a:cubicBezTo>
                <a:cubicBezTo>
                  <a:pt x="14147" y="14495"/>
                  <a:pt x="14127" y="14710"/>
                  <a:pt x="13866" y="14684"/>
                </a:cubicBezTo>
                <a:cubicBezTo>
                  <a:pt x="13833" y="14668"/>
                  <a:pt x="13800" y="14651"/>
                  <a:pt x="13767" y="14635"/>
                </a:cubicBezTo>
              </a:path>
              <a:path w="9253" h="12800">
                <a:moveTo>
                  <a:pt x="13419" y="17686"/>
                </a:moveTo>
                <a:cubicBezTo>
                  <a:pt x="13534" y="17721"/>
                  <a:pt x="13686" y="17731"/>
                  <a:pt x="13618" y="17909"/>
                </a:cubicBezTo>
                <a:cubicBezTo>
                  <a:pt x="13552" y="18081"/>
                  <a:pt x="13377" y="18080"/>
                  <a:pt x="13271" y="18008"/>
                </a:cubicBezTo>
                <a:cubicBezTo>
                  <a:pt x="13401" y="17878"/>
                  <a:pt x="13474" y="17905"/>
                  <a:pt x="13643" y="17983"/>
                </a:cubicBezTo>
              </a:path>
              <a:path w="9253" h="12800">
                <a:moveTo>
                  <a:pt x="13816" y="17686"/>
                </a:moveTo>
                <a:cubicBezTo>
                  <a:pt x="13759" y="17801"/>
                  <a:pt x="13659" y="18161"/>
                  <a:pt x="13940" y="17959"/>
                </a:cubicBezTo>
                <a:cubicBezTo>
                  <a:pt x="14071" y="17865"/>
                  <a:pt x="14062" y="17795"/>
                  <a:pt x="13990" y="17711"/>
                </a:cubicBezTo>
              </a:path>
              <a:path w="9253" h="12800">
                <a:moveTo>
                  <a:pt x="13271" y="18281"/>
                </a:moveTo>
                <a:cubicBezTo>
                  <a:pt x="13608" y="18299"/>
                  <a:pt x="13952" y="18247"/>
                  <a:pt x="14288" y="18306"/>
                </a:cubicBezTo>
                <a:cubicBezTo>
                  <a:pt x="14304" y="18314"/>
                  <a:pt x="14321" y="18323"/>
                  <a:pt x="14337" y="18331"/>
                </a:cubicBezTo>
              </a:path>
              <a:path w="9253" h="12800">
                <a:moveTo>
                  <a:pt x="14163" y="18529"/>
                </a:moveTo>
                <a:cubicBezTo>
                  <a:pt x="14087" y="18629"/>
                  <a:pt x="14074" y="18650"/>
                  <a:pt x="14064" y="18777"/>
                </a:cubicBezTo>
                <a:cubicBezTo>
                  <a:pt x="14166" y="18753"/>
                  <a:pt x="14506" y="18617"/>
                  <a:pt x="14387" y="18430"/>
                </a:cubicBezTo>
                <a:cubicBezTo>
                  <a:pt x="14270" y="18401"/>
                  <a:pt x="14220" y="18398"/>
                  <a:pt x="14139" y="18455"/>
                </a:cubicBezTo>
              </a:path>
              <a:path w="9253" h="12800">
                <a:moveTo>
                  <a:pt x="19397" y="11757"/>
                </a:moveTo>
                <a:cubicBezTo>
                  <a:pt x="19374" y="11848"/>
                  <a:pt x="19366" y="11871"/>
                  <a:pt x="19372" y="11931"/>
                </a:cubicBezTo>
                <a:cubicBezTo>
                  <a:pt x="19477" y="11919"/>
                  <a:pt x="19546" y="11902"/>
                  <a:pt x="19645" y="11857"/>
                </a:cubicBezTo>
              </a:path>
              <a:path w="9253" h="12800">
                <a:moveTo>
                  <a:pt x="19546" y="11633"/>
                </a:moveTo>
                <a:cubicBezTo>
                  <a:pt x="19536" y="11799"/>
                  <a:pt x="19506" y="11963"/>
                  <a:pt x="19496" y="12129"/>
                </a:cubicBezTo>
              </a:path>
              <a:path w="9253" h="12800">
                <a:moveTo>
                  <a:pt x="19893" y="11633"/>
                </a:moveTo>
                <a:cubicBezTo>
                  <a:pt x="19756" y="11675"/>
                  <a:pt x="19758" y="11749"/>
                  <a:pt x="19695" y="11881"/>
                </a:cubicBezTo>
                <a:cubicBezTo>
                  <a:pt x="19825" y="11834"/>
                  <a:pt x="19865" y="11812"/>
                  <a:pt x="19993" y="11832"/>
                </a:cubicBezTo>
                <a:cubicBezTo>
                  <a:pt x="19974" y="12017"/>
                  <a:pt x="19918" y="11994"/>
                  <a:pt x="19745" y="12030"/>
                </a:cubicBezTo>
              </a:path>
              <a:path w="9253" h="12800">
                <a:moveTo>
                  <a:pt x="19248" y="12229"/>
                </a:moveTo>
                <a:cubicBezTo>
                  <a:pt x="19494" y="12158"/>
                  <a:pt x="19764" y="12135"/>
                  <a:pt x="20017" y="12080"/>
                </a:cubicBezTo>
                <a:cubicBezTo>
                  <a:pt x="20168" y="12047"/>
                  <a:pt x="20235" y="12006"/>
                  <a:pt x="20365" y="12055"/>
                </a:cubicBezTo>
              </a:path>
              <a:path w="9253" h="12800">
                <a:moveTo>
                  <a:pt x="16619" y="15106"/>
                </a:moveTo>
                <a:cubicBezTo>
                  <a:pt x="16659" y="15227"/>
                  <a:pt x="16909" y="15059"/>
                  <a:pt x="16892" y="15354"/>
                </a:cubicBezTo>
                <a:cubicBezTo>
                  <a:pt x="16876" y="15630"/>
                  <a:pt x="16659" y="15859"/>
                  <a:pt x="16470" y="15701"/>
                </a:cubicBezTo>
                <a:cubicBezTo>
                  <a:pt x="16676" y="15561"/>
                  <a:pt x="16758" y="15548"/>
                  <a:pt x="16966" y="15701"/>
                </a:cubicBezTo>
              </a:path>
              <a:path w="9253" h="12800">
                <a:moveTo>
                  <a:pt x="17190" y="15205"/>
                </a:moveTo>
                <a:cubicBezTo>
                  <a:pt x="17036" y="15395"/>
                  <a:pt x="16960" y="15491"/>
                  <a:pt x="17066" y="15701"/>
                </a:cubicBezTo>
                <a:cubicBezTo>
                  <a:pt x="17234" y="15606"/>
                  <a:pt x="17532" y="15401"/>
                  <a:pt x="17264" y="15205"/>
                </a:cubicBezTo>
                <a:cubicBezTo>
                  <a:pt x="17239" y="15205"/>
                  <a:pt x="17215" y="15205"/>
                  <a:pt x="17190" y="15205"/>
                </a:cubicBezTo>
              </a:path>
              <a:path w="9253" h="12800">
                <a:moveTo>
                  <a:pt x="17810" y="15156"/>
                </a:moveTo>
                <a:cubicBezTo>
                  <a:pt x="17724" y="15173"/>
                  <a:pt x="17367" y="15276"/>
                  <a:pt x="17562" y="15429"/>
                </a:cubicBezTo>
                <a:cubicBezTo>
                  <a:pt x="17728" y="15560"/>
                  <a:pt x="17761" y="15451"/>
                  <a:pt x="17760" y="15677"/>
                </a:cubicBezTo>
                <a:cubicBezTo>
                  <a:pt x="17456" y="15751"/>
                  <a:pt x="17728" y="15388"/>
                  <a:pt x="17785" y="15255"/>
                </a:cubicBezTo>
              </a:path>
              <a:path w="9253" h="12800">
                <a:moveTo>
                  <a:pt x="16421" y="15999"/>
                </a:moveTo>
                <a:cubicBezTo>
                  <a:pt x="16444" y="15744"/>
                  <a:pt x="16469" y="15510"/>
                  <a:pt x="16396" y="15255"/>
                </a:cubicBezTo>
                <a:cubicBezTo>
                  <a:pt x="16366" y="15149"/>
                  <a:pt x="16285" y="14971"/>
                  <a:pt x="16247" y="14858"/>
                </a:cubicBezTo>
                <a:cubicBezTo>
                  <a:pt x="16742" y="14818"/>
                  <a:pt x="17238" y="14787"/>
                  <a:pt x="17735" y="14759"/>
                </a:cubicBezTo>
                <a:cubicBezTo>
                  <a:pt x="18008" y="14743"/>
                  <a:pt x="18289" y="14714"/>
                  <a:pt x="18554" y="14759"/>
                </a:cubicBezTo>
              </a:path>
              <a:path w="9253" h="12800">
                <a:moveTo>
                  <a:pt x="15652" y="15280"/>
                </a:moveTo>
                <a:cubicBezTo>
                  <a:pt x="15652" y="15377"/>
                  <a:pt x="15647" y="15459"/>
                  <a:pt x="15627" y="15553"/>
                </a:cubicBezTo>
                <a:cubicBezTo>
                  <a:pt x="15808" y="15527"/>
                  <a:pt x="15906" y="15477"/>
                  <a:pt x="16073" y="15404"/>
                </a:cubicBezTo>
              </a:path>
              <a:path w="9253" h="12800">
                <a:moveTo>
                  <a:pt x="15900" y="15255"/>
                </a:moveTo>
                <a:cubicBezTo>
                  <a:pt x="15900" y="15495"/>
                  <a:pt x="15900" y="15734"/>
                  <a:pt x="15900" y="15974"/>
                </a:cubicBezTo>
              </a:path>
              <a:path w="9253" h="12800">
                <a:moveTo>
                  <a:pt x="17165" y="14213"/>
                </a:moveTo>
                <a:lnTo>
                  <a:pt x="17165" y="14213"/>
                </a:lnTo>
              </a:path>
              <a:path w="9253" h="12800">
                <a:moveTo>
                  <a:pt x="17165" y="14188"/>
                </a:moveTo>
                <a:cubicBezTo>
                  <a:pt x="17233" y="14178"/>
                  <a:pt x="17297" y="14159"/>
                  <a:pt x="17363" y="14139"/>
                </a:cubicBezTo>
                <a:cubicBezTo>
                  <a:pt x="17249" y="14201"/>
                  <a:pt x="17129" y="14195"/>
                  <a:pt x="17016" y="14238"/>
                </a:cubicBezTo>
                <a:cubicBezTo>
                  <a:pt x="16941" y="14266"/>
                  <a:pt x="17002" y="14367"/>
                  <a:pt x="17016" y="14412"/>
                </a:cubicBezTo>
                <a:cubicBezTo>
                  <a:pt x="17126" y="14357"/>
                  <a:pt x="17174" y="14248"/>
                  <a:pt x="17289" y="14337"/>
                </a:cubicBezTo>
                <a:cubicBezTo>
                  <a:pt x="17428" y="14444"/>
                  <a:pt x="17308" y="14660"/>
                  <a:pt x="17140" y="14660"/>
                </a:cubicBezTo>
                <a:cubicBezTo>
                  <a:pt x="17099" y="14643"/>
                  <a:pt x="17057" y="14627"/>
                  <a:pt x="17016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23080" y="4054320"/>
            <a:ext cx="650880" cy="642960"/>
          </a:xfrm>
          <a:custGeom>
            <a:avLst/>
            <a:gdLst/>
            <a:ahLst/>
            <a:rect l="l" t="t" r="r" b="b"/>
            <a:pathLst>
              <a:path w="1812" h="1787">
                <a:moveTo>
                  <a:pt x="19670" y="12328"/>
                </a:moveTo>
                <a:cubicBezTo>
                  <a:pt x="19525" y="12344"/>
                  <a:pt x="19502" y="12324"/>
                  <a:pt x="19472" y="12477"/>
                </a:cubicBezTo>
                <a:cubicBezTo>
                  <a:pt x="19472" y="12493"/>
                  <a:pt x="19472" y="12510"/>
                  <a:pt x="19472" y="12526"/>
                </a:cubicBezTo>
                <a:cubicBezTo>
                  <a:pt x="19560" y="12536"/>
                  <a:pt x="19710" y="12436"/>
                  <a:pt x="19794" y="12551"/>
                </a:cubicBezTo>
                <a:cubicBezTo>
                  <a:pt x="19944" y="12755"/>
                  <a:pt x="19626" y="12794"/>
                  <a:pt x="19521" y="12799"/>
                </a:cubicBezTo>
                <a:cubicBezTo>
                  <a:pt x="19488" y="12799"/>
                  <a:pt x="19455" y="12799"/>
                  <a:pt x="19422" y="12799"/>
                </a:cubicBezTo>
              </a:path>
              <a:path w="1812" h="1787">
                <a:moveTo>
                  <a:pt x="19918" y="12303"/>
                </a:moveTo>
                <a:cubicBezTo>
                  <a:pt x="19989" y="12294"/>
                  <a:pt x="20001" y="12286"/>
                  <a:pt x="20067" y="12303"/>
                </a:cubicBezTo>
                <a:cubicBezTo>
                  <a:pt x="20085" y="12461"/>
                  <a:pt x="20055" y="12485"/>
                  <a:pt x="19968" y="12626"/>
                </a:cubicBezTo>
                <a:cubicBezTo>
                  <a:pt x="19960" y="12642"/>
                  <a:pt x="19951" y="12659"/>
                  <a:pt x="19943" y="12675"/>
                </a:cubicBezTo>
                <a:cubicBezTo>
                  <a:pt x="20055" y="12647"/>
                  <a:pt x="20150" y="12626"/>
                  <a:pt x="20265" y="12626"/>
                </a:cubicBezTo>
              </a:path>
              <a:path w="1812" h="1787">
                <a:moveTo>
                  <a:pt x="20464" y="12030"/>
                </a:moveTo>
                <a:cubicBezTo>
                  <a:pt x="20464" y="11962"/>
                  <a:pt x="20443" y="11884"/>
                  <a:pt x="20439" y="11832"/>
                </a:cubicBezTo>
                <a:cubicBezTo>
                  <a:pt x="20427" y="11697"/>
                  <a:pt x="20385" y="11610"/>
                  <a:pt x="20290" y="11509"/>
                </a:cubicBezTo>
                <a:cubicBezTo>
                  <a:pt x="20241" y="11457"/>
                  <a:pt x="20180" y="11418"/>
                  <a:pt x="20117" y="11385"/>
                </a:cubicBezTo>
                <a:cubicBezTo>
                  <a:pt x="20049" y="11349"/>
                  <a:pt x="20011" y="11352"/>
                  <a:pt x="19943" y="11336"/>
                </a:cubicBezTo>
                <a:cubicBezTo>
                  <a:pt x="19859" y="11316"/>
                  <a:pt x="19799" y="11304"/>
                  <a:pt x="19720" y="11286"/>
                </a:cubicBezTo>
                <a:cubicBezTo>
                  <a:pt x="19617" y="11263"/>
                  <a:pt x="19569" y="11268"/>
                  <a:pt x="19472" y="11286"/>
                </a:cubicBezTo>
                <a:cubicBezTo>
                  <a:pt x="19371" y="11304"/>
                  <a:pt x="19283" y="11360"/>
                  <a:pt x="19199" y="11410"/>
                </a:cubicBezTo>
                <a:cubicBezTo>
                  <a:pt x="19091" y="11475"/>
                  <a:pt x="19044" y="11512"/>
                  <a:pt x="19000" y="11633"/>
                </a:cubicBezTo>
                <a:cubicBezTo>
                  <a:pt x="18968" y="11721"/>
                  <a:pt x="18938" y="11863"/>
                  <a:pt x="18951" y="11956"/>
                </a:cubicBezTo>
                <a:cubicBezTo>
                  <a:pt x="18964" y="12054"/>
                  <a:pt x="18963" y="12155"/>
                  <a:pt x="18976" y="12254"/>
                </a:cubicBezTo>
                <a:cubicBezTo>
                  <a:pt x="18985" y="12321"/>
                  <a:pt x="19004" y="12415"/>
                  <a:pt x="19025" y="12477"/>
                </a:cubicBezTo>
                <a:cubicBezTo>
                  <a:pt x="19053" y="12561"/>
                  <a:pt x="19095" y="12641"/>
                  <a:pt x="19124" y="12725"/>
                </a:cubicBezTo>
                <a:cubicBezTo>
                  <a:pt x="19148" y="12796"/>
                  <a:pt x="19216" y="12919"/>
                  <a:pt x="19273" y="12973"/>
                </a:cubicBezTo>
                <a:cubicBezTo>
                  <a:pt x="19363" y="13058"/>
                  <a:pt x="19529" y="13066"/>
                  <a:pt x="19645" y="13047"/>
                </a:cubicBezTo>
                <a:cubicBezTo>
                  <a:pt x="19769" y="13027"/>
                  <a:pt x="19875" y="12959"/>
                  <a:pt x="19993" y="12923"/>
                </a:cubicBezTo>
                <a:cubicBezTo>
                  <a:pt x="20111" y="12887"/>
                  <a:pt x="20210" y="12865"/>
                  <a:pt x="20315" y="12799"/>
                </a:cubicBezTo>
                <a:cubicBezTo>
                  <a:pt x="20415" y="12736"/>
                  <a:pt x="20485" y="12660"/>
                  <a:pt x="20563" y="12576"/>
                </a:cubicBezTo>
                <a:cubicBezTo>
                  <a:pt x="20626" y="12508"/>
                  <a:pt x="20702" y="12418"/>
                  <a:pt x="20737" y="12328"/>
                </a:cubicBezTo>
                <a:cubicBezTo>
                  <a:pt x="20750" y="12294"/>
                  <a:pt x="20777" y="12196"/>
                  <a:pt x="20762" y="12154"/>
                </a:cubicBezTo>
                <a:cubicBezTo>
                  <a:pt x="20733" y="12072"/>
                  <a:pt x="20671" y="11990"/>
                  <a:pt x="20638" y="11906"/>
                </a:cubicBezTo>
                <a:cubicBezTo>
                  <a:pt x="20598" y="11802"/>
                  <a:pt x="20551" y="11767"/>
                  <a:pt x="20489" y="116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13320" y="5045040"/>
            <a:ext cx="152640" cy="268200"/>
          </a:xfrm>
          <a:custGeom>
            <a:avLst/>
            <a:gdLst/>
            <a:ahLst/>
            <a:rect l="l" t="t" r="r" b="b"/>
            <a:pathLst>
              <a:path w="423" h="745">
                <a:moveTo>
                  <a:pt x="17686" y="14163"/>
                </a:moveTo>
                <a:cubicBezTo>
                  <a:pt x="17640" y="14118"/>
                  <a:pt x="17666" y="14037"/>
                  <a:pt x="17760" y="14015"/>
                </a:cubicBezTo>
                <a:cubicBezTo>
                  <a:pt x="17838" y="14015"/>
                  <a:pt x="17855" y="14000"/>
                  <a:pt x="17884" y="14039"/>
                </a:cubicBezTo>
                <a:cubicBezTo>
                  <a:pt x="17847" y="14264"/>
                  <a:pt x="17717" y="14385"/>
                  <a:pt x="17611" y="14585"/>
                </a:cubicBezTo>
                <a:cubicBezTo>
                  <a:pt x="17571" y="14685"/>
                  <a:pt x="17567" y="14703"/>
                  <a:pt x="17537" y="14759"/>
                </a:cubicBezTo>
                <a:cubicBezTo>
                  <a:pt x="17659" y="14651"/>
                  <a:pt x="17746" y="14621"/>
                  <a:pt x="17909" y="14610"/>
                </a:cubicBezTo>
                <a:cubicBezTo>
                  <a:pt x="17926" y="14610"/>
                  <a:pt x="17942" y="14610"/>
                  <a:pt x="17959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23000" y="5715000"/>
            <a:ext cx="741240" cy="928800"/>
          </a:xfrm>
          <a:custGeom>
            <a:avLst/>
            <a:gdLst/>
            <a:ahLst/>
            <a:rect l="l" t="t" r="r" b="b"/>
            <a:pathLst>
              <a:path w="2059" h="2581">
                <a:moveTo>
                  <a:pt x="16644" y="16024"/>
                </a:moveTo>
                <a:cubicBezTo>
                  <a:pt x="16658" y="15897"/>
                  <a:pt x="16652" y="15929"/>
                  <a:pt x="16768" y="15875"/>
                </a:cubicBezTo>
                <a:cubicBezTo>
                  <a:pt x="16891" y="15967"/>
                  <a:pt x="17025" y="16191"/>
                  <a:pt x="16793" y="16321"/>
                </a:cubicBezTo>
                <a:cubicBezTo>
                  <a:pt x="16604" y="16427"/>
                  <a:pt x="16555" y="16316"/>
                  <a:pt x="16495" y="16197"/>
                </a:cubicBezTo>
                <a:cubicBezTo>
                  <a:pt x="16613" y="16097"/>
                  <a:pt x="16721" y="16029"/>
                  <a:pt x="16842" y="16197"/>
                </a:cubicBezTo>
                <a:cubicBezTo>
                  <a:pt x="16850" y="16214"/>
                  <a:pt x="16859" y="16230"/>
                  <a:pt x="16867" y="16247"/>
                </a:cubicBezTo>
              </a:path>
              <a:path w="2059" h="2581">
                <a:moveTo>
                  <a:pt x="17165" y="15999"/>
                </a:moveTo>
                <a:cubicBezTo>
                  <a:pt x="17103" y="16106"/>
                  <a:pt x="17097" y="16222"/>
                  <a:pt x="17090" y="16346"/>
                </a:cubicBezTo>
                <a:cubicBezTo>
                  <a:pt x="17250" y="16321"/>
                  <a:pt x="17361" y="16316"/>
                  <a:pt x="17314" y="16123"/>
                </a:cubicBezTo>
              </a:path>
              <a:path w="2059" h="2581">
                <a:moveTo>
                  <a:pt x="16173" y="16148"/>
                </a:moveTo>
                <a:cubicBezTo>
                  <a:pt x="16278" y="16148"/>
                  <a:pt x="16368" y="16156"/>
                  <a:pt x="16470" y="16173"/>
                </a:cubicBezTo>
              </a:path>
              <a:path w="2059" h="2581">
                <a:moveTo>
                  <a:pt x="16421" y="16594"/>
                </a:moveTo>
                <a:cubicBezTo>
                  <a:pt x="16754" y="16548"/>
                  <a:pt x="17076" y="16501"/>
                  <a:pt x="17413" y="16495"/>
                </a:cubicBezTo>
                <a:cubicBezTo>
                  <a:pt x="17446" y="16495"/>
                  <a:pt x="17479" y="16495"/>
                  <a:pt x="17512" y="16495"/>
                </a:cubicBezTo>
              </a:path>
              <a:path w="2059" h="2581">
                <a:moveTo>
                  <a:pt x="17314" y="16743"/>
                </a:moveTo>
                <a:cubicBezTo>
                  <a:pt x="17202" y="16771"/>
                  <a:pt x="17026" y="16988"/>
                  <a:pt x="17066" y="17165"/>
                </a:cubicBezTo>
                <a:cubicBezTo>
                  <a:pt x="17091" y="17190"/>
                  <a:pt x="17115" y="17214"/>
                  <a:pt x="17140" y="17239"/>
                </a:cubicBezTo>
                <a:cubicBezTo>
                  <a:pt x="17303" y="17162"/>
                  <a:pt x="17579" y="17023"/>
                  <a:pt x="17388" y="16793"/>
                </a:cubicBezTo>
                <a:cubicBezTo>
                  <a:pt x="17314" y="16768"/>
                  <a:pt x="17289" y="16759"/>
                  <a:pt x="17239" y="16743"/>
                </a:cubicBezTo>
              </a:path>
              <a:path w="2059" h="2581">
                <a:moveTo>
                  <a:pt x="17686" y="15974"/>
                </a:moveTo>
                <a:cubicBezTo>
                  <a:pt x="17686" y="16106"/>
                  <a:pt x="17686" y="16239"/>
                  <a:pt x="17686" y="16371"/>
                </a:cubicBezTo>
              </a:path>
              <a:path w="2059" h="2581">
                <a:moveTo>
                  <a:pt x="17562" y="16371"/>
                </a:moveTo>
                <a:cubicBezTo>
                  <a:pt x="17721" y="16451"/>
                  <a:pt x="17781" y="16397"/>
                  <a:pt x="17859" y="16222"/>
                </a:cubicBezTo>
                <a:cubicBezTo>
                  <a:pt x="17867" y="16189"/>
                  <a:pt x="17876" y="16156"/>
                  <a:pt x="17884" y="16123"/>
                </a:cubicBezTo>
              </a:path>
              <a:path w="2059" h="2581">
                <a:moveTo>
                  <a:pt x="17909" y="16619"/>
                </a:moveTo>
                <a:cubicBezTo>
                  <a:pt x="17778" y="16645"/>
                  <a:pt x="17719" y="16692"/>
                  <a:pt x="17636" y="16793"/>
                </a:cubicBezTo>
                <a:cubicBezTo>
                  <a:pt x="17712" y="16835"/>
                  <a:pt x="17858" y="16880"/>
                  <a:pt x="17884" y="16966"/>
                </a:cubicBezTo>
                <a:cubicBezTo>
                  <a:pt x="17921" y="17088"/>
                  <a:pt x="17809" y="17078"/>
                  <a:pt x="17735" y="17090"/>
                </a:cubicBezTo>
                <a:cubicBezTo>
                  <a:pt x="17763" y="16939"/>
                  <a:pt x="17839" y="16808"/>
                  <a:pt x="17909" y="16669"/>
                </a:cubicBezTo>
              </a:path>
              <a:path w="2059" h="2581">
                <a:moveTo>
                  <a:pt x="17934" y="17289"/>
                </a:moveTo>
                <a:cubicBezTo>
                  <a:pt x="17809" y="17268"/>
                  <a:pt x="17754" y="17304"/>
                  <a:pt x="17636" y="17363"/>
                </a:cubicBezTo>
                <a:cubicBezTo>
                  <a:pt x="17750" y="17446"/>
                  <a:pt x="17876" y="17481"/>
                  <a:pt x="18008" y="17537"/>
                </a:cubicBezTo>
                <a:cubicBezTo>
                  <a:pt x="17978" y="17597"/>
                  <a:pt x="17911" y="17724"/>
                  <a:pt x="17835" y="17611"/>
                </a:cubicBezTo>
                <a:cubicBezTo>
                  <a:pt x="17752" y="17487"/>
                  <a:pt x="17875" y="17363"/>
                  <a:pt x="17934" y="17264"/>
                </a:cubicBezTo>
              </a:path>
              <a:path w="2059" h="2581">
                <a:moveTo>
                  <a:pt x="17066" y="17785"/>
                </a:moveTo>
                <a:cubicBezTo>
                  <a:pt x="17383" y="17785"/>
                  <a:pt x="17692" y="17754"/>
                  <a:pt x="18008" y="17735"/>
                </a:cubicBezTo>
                <a:cubicBezTo>
                  <a:pt x="18107" y="17735"/>
                  <a:pt x="18124" y="17735"/>
                  <a:pt x="18182" y="17735"/>
                </a:cubicBezTo>
              </a:path>
              <a:path w="2059" h="2581">
                <a:moveTo>
                  <a:pt x="16793" y="17587"/>
                </a:moveTo>
                <a:cubicBezTo>
                  <a:pt x="16884" y="17587"/>
                  <a:pt x="16926" y="17584"/>
                  <a:pt x="16991" y="17562"/>
                </a:cubicBezTo>
              </a:path>
              <a:path w="2059" h="2581">
                <a:moveTo>
                  <a:pt x="18132" y="18033"/>
                </a:moveTo>
                <a:cubicBezTo>
                  <a:pt x="18000" y="18000"/>
                  <a:pt x="17902" y="18205"/>
                  <a:pt x="17884" y="18331"/>
                </a:cubicBezTo>
                <a:cubicBezTo>
                  <a:pt x="17892" y="18372"/>
                  <a:pt x="17901" y="18414"/>
                  <a:pt x="17909" y="18455"/>
                </a:cubicBezTo>
                <a:cubicBezTo>
                  <a:pt x="18046" y="18418"/>
                  <a:pt x="18335" y="18267"/>
                  <a:pt x="18231" y="18058"/>
                </a:cubicBezTo>
                <a:cubicBezTo>
                  <a:pt x="18136" y="18010"/>
                  <a:pt x="18107" y="17993"/>
                  <a:pt x="18033" y="180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62840" y="4249800"/>
            <a:ext cx="858960" cy="1849320"/>
          </a:xfrm>
          <a:custGeom>
            <a:avLst/>
            <a:gdLst/>
            <a:ahLst/>
            <a:rect l="l" t="t" r="r" b="b"/>
            <a:pathLst>
              <a:path w="2382" h="5136">
                <a:moveTo>
                  <a:pt x="20886" y="12254"/>
                </a:moveTo>
                <a:cubicBezTo>
                  <a:pt x="20914" y="12458"/>
                  <a:pt x="20857" y="12664"/>
                  <a:pt x="20811" y="12874"/>
                </a:cubicBezTo>
              </a:path>
              <a:path w="2382" h="5136">
                <a:moveTo>
                  <a:pt x="21183" y="12179"/>
                </a:moveTo>
                <a:cubicBezTo>
                  <a:pt x="21428" y="12044"/>
                  <a:pt x="21416" y="12111"/>
                  <a:pt x="21307" y="12328"/>
                </a:cubicBezTo>
                <a:cubicBezTo>
                  <a:pt x="21291" y="12336"/>
                  <a:pt x="21274" y="12345"/>
                  <a:pt x="21258" y="12353"/>
                </a:cubicBezTo>
                <a:cubicBezTo>
                  <a:pt x="21390" y="12326"/>
                  <a:pt x="21439" y="12319"/>
                  <a:pt x="21530" y="12353"/>
                </a:cubicBezTo>
                <a:cubicBezTo>
                  <a:pt x="21502" y="12563"/>
                  <a:pt x="21397" y="12614"/>
                  <a:pt x="21183" y="12650"/>
                </a:cubicBezTo>
              </a:path>
              <a:path w="2382" h="5136">
                <a:moveTo>
                  <a:pt x="20389" y="12948"/>
                </a:moveTo>
                <a:cubicBezTo>
                  <a:pt x="20451" y="13096"/>
                  <a:pt x="20513" y="13244"/>
                  <a:pt x="20563" y="13395"/>
                </a:cubicBezTo>
              </a:path>
              <a:path w="2382" h="5136">
                <a:moveTo>
                  <a:pt x="20613" y="12948"/>
                </a:moveTo>
                <a:cubicBezTo>
                  <a:pt x="20533" y="13123"/>
                  <a:pt x="20469" y="13330"/>
                  <a:pt x="20414" y="13519"/>
                </a:cubicBezTo>
              </a:path>
              <a:path w="2382" h="5136">
                <a:moveTo>
                  <a:pt x="21034" y="13047"/>
                </a:moveTo>
                <a:cubicBezTo>
                  <a:pt x="21022" y="13218"/>
                  <a:pt x="20981" y="13377"/>
                  <a:pt x="20960" y="13543"/>
                </a:cubicBezTo>
              </a:path>
              <a:path w="2382" h="5136">
                <a:moveTo>
                  <a:pt x="21357" y="12973"/>
                </a:moveTo>
                <a:cubicBezTo>
                  <a:pt x="21324" y="13115"/>
                  <a:pt x="21169" y="13444"/>
                  <a:pt x="21307" y="13568"/>
                </a:cubicBezTo>
                <a:cubicBezTo>
                  <a:pt x="21466" y="13711"/>
                  <a:pt x="21613" y="13426"/>
                  <a:pt x="21679" y="13345"/>
                </a:cubicBezTo>
                <a:cubicBezTo>
                  <a:pt x="21630" y="13122"/>
                  <a:pt x="21535" y="13468"/>
                  <a:pt x="21506" y="13543"/>
                </a:cubicBezTo>
              </a:path>
              <a:path w="2382" h="5136">
                <a:moveTo>
                  <a:pt x="20389" y="14139"/>
                </a:moveTo>
                <a:cubicBezTo>
                  <a:pt x="20906" y="14007"/>
                  <a:pt x="21405" y="13957"/>
                  <a:pt x="21927" y="13891"/>
                </a:cubicBezTo>
              </a:path>
              <a:path w="2382" h="5136">
                <a:moveTo>
                  <a:pt x="21878" y="14139"/>
                </a:moveTo>
                <a:cubicBezTo>
                  <a:pt x="21738" y="14196"/>
                  <a:pt x="21681" y="14246"/>
                  <a:pt x="21580" y="14362"/>
                </a:cubicBezTo>
                <a:cubicBezTo>
                  <a:pt x="21707" y="14450"/>
                  <a:pt x="21980" y="14500"/>
                  <a:pt x="21927" y="14709"/>
                </a:cubicBezTo>
                <a:cubicBezTo>
                  <a:pt x="21902" y="14742"/>
                  <a:pt x="21878" y="14775"/>
                  <a:pt x="21853" y="14808"/>
                </a:cubicBezTo>
                <a:cubicBezTo>
                  <a:pt x="21761" y="14624"/>
                  <a:pt x="21871" y="14414"/>
                  <a:pt x="21952" y="14188"/>
                </a:cubicBezTo>
              </a:path>
              <a:path w="2382" h="5136">
                <a:moveTo>
                  <a:pt x="20737" y="11807"/>
                </a:moveTo>
                <a:cubicBezTo>
                  <a:pt x="20715" y="11936"/>
                  <a:pt x="20715" y="12025"/>
                  <a:pt x="20737" y="12154"/>
                </a:cubicBezTo>
              </a:path>
              <a:path w="2382" h="5136">
                <a:moveTo>
                  <a:pt x="20886" y="14337"/>
                </a:moveTo>
                <a:cubicBezTo>
                  <a:pt x="20886" y="14446"/>
                  <a:pt x="20891" y="14473"/>
                  <a:pt x="20861" y="14536"/>
                </a:cubicBezTo>
                <a:cubicBezTo>
                  <a:pt x="20861" y="14597"/>
                  <a:pt x="20878" y="14365"/>
                  <a:pt x="20886" y="14337"/>
                </a:cubicBezTo>
                <a:cubicBezTo>
                  <a:pt x="20913" y="14247"/>
                  <a:pt x="21062" y="14255"/>
                  <a:pt x="21134" y="14213"/>
                </a:cubicBezTo>
                <a:cubicBezTo>
                  <a:pt x="21165" y="14453"/>
                  <a:pt x="21066" y="14626"/>
                  <a:pt x="21010" y="14858"/>
                </a:cubicBezTo>
                <a:cubicBezTo>
                  <a:pt x="21010" y="14875"/>
                  <a:pt x="21010" y="14891"/>
                  <a:pt x="21010" y="14908"/>
                </a:cubicBezTo>
              </a:path>
              <a:path w="2382" h="5136">
                <a:moveTo>
                  <a:pt x="21828" y="15081"/>
                </a:moveTo>
                <a:lnTo>
                  <a:pt x="21828" y="15081"/>
                </a:lnTo>
              </a:path>
              <a:path w="2382" h="5136">
                <a:moveTo>
                  <a:pt x="21853" y="15180"/>
                </a:moveTo>
                <a:cubicBezTo>
                  <a:pt x="21714" y="15120"/>
                  <a:pt x="21663" y="15090"/>
                  <a:pt x="21580" y="15230"/>
                </a:cubicBezTo>
                <a:cubicBezTo>
                  <a:pt x="21492" y="15378"/>
                  <a:pt x="21428" y="15660"/>
                  <a:pt x="21630" y="15751"/>
                </a:cubicBezTo>
                <a:cubicBezTo>
                  <a:pt x="21760" y="15810"/>
                  <a:pt x="21964" y="15679"/>
                  <a:pt x="22002" y="15553"/>
                </a:cubicBezTo>
                <a:cubicBezTo>
                  <a:pt x="22029" y="15464"/>
                  <a:pt x="22011" y="15242"/>
                  <a:pt x="21927" y="15180"/>
                </a:cubicBezTo>
                <a:cubicBezTo>
                  <a:pt x="21862" y="15159"/>
                  <a:pt x="21846" y="15151"/>
                  <a:pt x="21803" y="15156"/>
                </a:cubicBezTo>
              </a:path>
              <a:path w="2382" h="5136">
                <a:moveTo>
                  <a:pt x="20836" y="15156"/>
                </a:moveTo>
                <a:cubicBezTo>
                  <a:pt x="20901" y="15106"/>
                  <a:pt x="21077" y="14987"/>
                  <a:pt x="21059" y="15180"/>
                </a:cubicBezTo>
                <a:cubicBezTo>
                  <a:pt x="21015" y="15313"/>
                  <a:pt x="21011" y="15351"/>
                  <a:pt x="20935" y="15404"/>
                </a:cubicBezTo>
                <a:cubicBezTo>
                  <a:pt x="20952" y="15387"/>
                  <a:pt x="20968" y="15371"/>
                  <a:pt x="20985" y="15354"/>
                </a:cubicBezTo>
                <a:cubicBezTo>
                  <a:pt x="21146" y="15354"/>
                  <a:pt x="21212" y="15474"/>
                  <a:pt x="21059" y="15627"/>
                </a:cubicBezTo>
                <a:cubicBezTo>
                  <a:pt x="20935" y="15750"/>
                  <a:pt x="20882" y="15718"/>
                  <a:pt x="20811" y="15627"/>
                </a:cubicBezTo>
              </a:path>
              <a:path w="2382" h="5136">
                <a:moveTo>
                  <a:pt x="20340" y="15131"/>
                </a:moveTo>
                <a:cubicBezTo>
                  <a:pt x="20415" y="15348"/>
                  <a:pt x="20414" y="15545"/>
                  <a:pt x="20414" y="15776"/>
                </a:cubicBezTo>
                <a:cubicBezTo>
                  <a:pt x="20414" y="15792"/>
                  <a:pt x="20414" y="15809"/>
                  <a:pt x="20414" y="15825"/>
                </a:cubicBezTo>
              </a:path>
              <a:path w="2382" h="5136">
                <a:moveTo>
                  <a:pt x="20166" y="16123"/>
                </a:moveTo>
                <a:cubicBezTo>
                  <a:pt x="20563" y="16111"/>
                  <a:pt x="20960" y="16098"/>
                  <a:pt x="21357" y="16073"/>
                </a:cubicBezTo>
                <a:cubicBezTo>
                  <a:pt x="21551" y="16061"/>
                  <a:pt x="21700" y="16030"/>
                  <a:pt x="21878" y="16073"/>
                </a:cubicBezTo>
              </a:path>
              <a:path w="2382" h="5136">
                <a:moveTo>
                  <a:pt x="19745" y="15453"/>
                </a:moveTo>
                <a:cubicBezTo>
                  <a:pt x="19807" y="15561"/>
                  <a:pt x="19792" y="15704"/>
                  <a:pt x="19819" y="15825"/>
                </a:cubicBezTo>
                <a:cubicBezTo>
                  <a:pt x="19827" y="15842"/>
                  <a:pt x="19836" y="15858"/>
                  <a:pt x="19844" y="15875"/>
                </a:cubicBezTo>
              </a:path>
              <a:path w="2382" h="5136">
                <a:moveTo>
                  <a:pt x="19621" y="15652"/>
                </a:moveTo>
                <a:cubicBezTo>
                  <a:pt x="19761" y="15652"/>
                  <a:pt x="19902" y="15652"/>
                  <a:pt x="20042" y="15652"/>
                </a:cubicBezTo>
              </a:path>
              <a:path w="2382" h="5136">
                <a:moveTo>
                  <a:pt x="21977" y="16173"/>
                </a:moveTo>
                <a:cubicBezTo>
                  <a:pt x="21824" y="16157"/>
                  <a:pt x="21756" y="16254"/>
                  <a:pt x="21654" y="16371"/>
                </a:cubicBezTo>
                <a:cubicBezTo>
                  <a:pt x="21694" y="16529"/>
                  <a:pt x="21849" y="16496"/>
                  <a:pt x="21952" y="16594"/>
                </a:cubicBezTo>
                <a:cubicBezTo>
                  <a:pt x="22058" y="16695"/>
                  <a:pt x="21760" y="16746"/>
                  <a:pt x="21729" y="16743"/>
                </a:cubicBezTo>
                <a:cubicBezTo>
                  <a:pt x="21787" y="16587"/>
                  <a:pt x="21859" y="16435"/>
                  <a:pt x="21952" y="16297"/>
                </a:cubicBezTo>
              </a:path>
              <a:path w="2382" h="5136">
                <a:moveTo>
                  <a:pt x="21084" y="16173"/>
                </a:moveTo>
                <a:cubicBezTo>
                  <a:pt x="21013" y="16300"/>
                  <a:pt x="20817" y="16584"/>
                  <a:pt x="20935" y="16743"/>
                </a:cubicBezTo>
                <a:cubicBezTo>
                  <a:pt x="20960" y="16751"/>
                  <a:pt x="20985" y="16760"/>
                  <a:pt x="21010" y="16768"/>
                </a:cubicBezTo>
                <a:cubicBezTo>
                  <a:pt x="21174" y="16625"/>
                  <a:pt x="21257" y="16442"/>
                  <a:pt x="21109" y="16222"/>
                </a:cubicBezTo>
                <a:cubicBezTo>
                  <a:pt x="21084" y="16206"/>
                  <a:pt x="21059" y="16189"/>
                  <a:pt x="21034" y="16173"/>
                </a:cubicBezTo>
              </a:path>
              <a:path w="2382" h="5136">
                <a:moveTo>
                  <a:pt x="20166" y="14288"/>
                </a:moveTo>
                <a:cubicBezTo>
                  <a:pt x="20183" y="14406"/>
                  <a:pt x="20210" y="14529"/>
                  <a:pt x="20216" y="14660"/>
                </a:cubicBezTo>
              </a:path>
              <a:path w="2382" h="5136">
                <a:moveTo>
                  <a:pt x="20191" y="16346"/>
                </a:moveTo>
                <a:cubicBezTo>
                  <a:pt x="20202" y="16380"/>
                  <a:pt x="20269" y="16270"/>
                  <a:pt x="20389" y="16222"/>
                </a:cubicBezTo>
                <a:cubicBezTo>
                  <a:pt x="20471" y="16491"/>
                  <a:pt x="20490" y="16678"/>
                  <a:pt x="20265" y="16892"/>
                </a:cubicBezTo>
                <a:cubicBezTo>
                  <a:pt x="20232" y="16909"/>
                  <a:pt x="20199" y="16925"/>
                  <a:pt x="20166" y="16942"/>
                </a:cubicBezTo>
                <a:cubicBezTo>
                  <a:pt x="20137" y="16869"/>
                  <a:pt x="20065" y="16678"/>
                  <a:pt x="20216" y="16669"/>
                </a:cubicBezTo>
                <a:cubicBezTo>
                  <a:pt x="20315" y="16663"/>
                  <a:pt x="20443" y="16716"/>
                  <a:pt x="20538" y="167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cript MT Bold"/>
              </a:rPr>
              <a:t>Objective:  Students will multiply fractions and mixed numb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Frac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Cross simplify if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Multiply the numer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Multiply the denomin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Reduce if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3880" y="5105520"/>
          <a:ext cx="1524240" cy="96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5105520"/>
                    <a:ext cx="1524240" cy="96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181480" y="5105520"/>
          <a:ext cx="152424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5105520"/>
                    <a:ext cx="15242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126120" y="1276200"/>
            <a:ext cx="1438200" cy="822600"/>
          </a:xfrm>
          <a:custGeom>
            <a:avLst/>
            <a:gdLst/>
            <a:ahLst/>
            <a:rect l="l" t="t" r="r" b="b"/>
            <a:pathLst>
              <a:path w="3995" h="2283">
                <a:moveTo>
                  <a:pt x="17462" y="4068"/>
                </a:moveTo>
                <a:cubicBezTo>
                  <a:pt x="17506" y="3938"/>
                  <a:pt x="17581" y="3912"/>
                  <a:pt x="17711" y="3870"/>
                </a:cubicBezTo>
                <a:cubicBezTo>
                  <a:pt x="17835" y="3965"/>
                  <a:pt x="17724" y="4131"/>
                  <a:pt x="17661" y="4242"/>
                </a:cubicBezTo>
                <a:cubicBezTo>
                  <a:pt x="17582" y="4381"/>
                  <a:pt x="17474" y="4478"/>
                  <a:pt x="17363" y="4589"/>
                </a:cubicBezTo>
                <a:cubicBezTo>
                  <a:pt x="17517" y="4495"/>
                  <a:pt x="17627" y="4453"/>
                  <a:pt x="17810" y="4490"/>
                </a:cubicBezTo>
                <a:cubicBezTo>
                  <a:pt x="17875" y="4511"/>
                  <a:pt x="17891" y="4519"/>
                  <a:pt x="17934" y="4514"/>
                </a:cubicBezTo>
              </a:path>
              <a:path w="3995" h="2283">
                <a:moveTo>
                  <a:pt x="17165" y="4787"/>
                </a:moveTo>
                <a:cubicBezTo>
                  <a:pt x="17403" y="4758"/>
                  <a:pt x="17641" y="4704"/>
                  <a:pt x="17884" y="4688"/>
                </a:cubicBezTo>
                <a:cubicBezTo>
                  <a:pt x="17975" y="4688"/>
                  <a:pt x="17983" y="4688"/>
                  <a:pt x="18033" y="4688"/>
                </a:cubicBezTo>
              </a:path>
              <a:path w="3995" h="2283">
                <a:moveTo>
                  <a:pt x="17314" y="5135"/>
                </a:moveTo>
                <a:cubicBezTo>
                  <a:pt x="17431" y="5079"/>
                  <a:pt x="17510" y="5050"/>
                  <a:pt x="17636" y="5035"/>
                </a:cubicBezTo>
                <a:cubicBezTo>
                  <a:pt x="17650" y="5229"/>
                  <a:pt x="17576" y="5281"/>
                  <a:pt x="17413" y="5383"/>
                </a:cubicBezTo>
                <a:cubicBezTo>
                  <a:pt x="17502" y="5344"/>
                  <a:pt x="17793" y="5251"/>
                  <a:pt x="17661" y="5482"/>
                </a:cubicBezTo>
                <a:cubicBezTo>
                  <a:pt x="17542" y="5691"/>
                  <a:pt x="17323" y="5676"/>
                  <a:pt x="17165" y="5581"/>
                </a:cubicBezTo>
              </a:path>
              <a:path w="3995" h="2283">
                <a:moveTo>
                  <a:pt x="18306" y="4614"/>
                </a:moveTo>
                <a:cubicBezTo>
                  <a:pt x="18427" y="4720"/>
                  <a:pt x="18521" y="4822"/>
                  <a:pt x="18604" y="4961"/>
                </a:cubicBezTo>
              </a:path>
              <a:path w="3995" h="2283">
                <a:moveTo>
                  <a:pt x="18628" y="4440"/>
                </a:moveTo>
                <a:cubicBezTo>
                  <a:pt x="18550" y="4629"/>
                  <a:pt x="18483" y="4823"/>
                  <a:pt x="18405" y="5011"/>
                </a:cubicBezTo>
              </a:path>
              <a:path w="3995" h="2283">
                <a:moveTo>
                  <a:pt x="19943" y="3944"/>
                </a:moveTo>
                <a:cubicBezTo>
                  <a:pt x="19923" y="3824"/>
                  <a:pt x="19871" y="3701"/>
                  <a:pt x="19720" y="3696"/>
                </a:cubicBezTo>
                <a:cubicBezTo>
                  <a:pt x="19562" y="3691"/>
                  <a:pt x="19499" y="3946"/>
                  <a:pt x="19596" y="4043"/>
                </a:cubicBezTo>
                <a:cubicBezTo>
                  <a:pt x="19732" y="4179"/>
                  <a:pt x="19867" y="3955"/>
                  <a:pt x="19918" y="3870"/>
                </a:cubicBezTo>
                <a:cubicBezTo>
                  <a:pt x="19918" y="3853"/>
                  <a:pt x="19918" y="3837"/>
                  <a:pt x="19918" y="3820"/>
                </a:cubicBezTo>
                <a:cubicBezTo>
                  <a:pt x="19918" y="4030"/>
                  <a:pt x="19884" y="4189"/>
                  <a:pt x="19844" y="4390"/>
                </a:cubicBezTo>
                <a:cubicBezTo>
                  <a:pt x="19844" y="4407"/>
                  <a:pt x="19844" y="4423"/>
                  <a:pt x="19844" y="4440"/>
                </a:cubicBezTo>
              </a:path>
              <a:path w="3995" h="2283">
                <a:moveTo>
                  <a:pt x="19372" y="4564"/>
                </a:moveTo>
                <a:cubicBezTo>
                  <a:pt x="19575" y="4527"/>
                  <a:pt x="19812" y="4460"/>
                  <a:pt x="20017" y="4465"/>
                </a:cubicBezTo>
                <a:cubicBezTo>
                  <a:pt x="20050" y="4473"/>
                  <a:pt x="20084" y="4482"/>
                  <a:pt x="20117" y="4490"/>
                </a:cubicBezTo>
              </a:path>
              <a:path w="3995" h="2283">
                <a:moveTo>
                  <a:pt x="19943" y="4837"/>
                </a:moveTo>
                <a:cubicBezTo>
                  <a:pt x="19807" y="4846"/>
                  <a:pt x="19671" y="4854"/>
                  <a:pt x="19571" y="4961"/>
                </a:cubicBezTo>
                <a:cubicBezTo>
                  <a:pt x="19563" y="4978"/>
                  <a:pt x="19554" y="4994"/>
                  <a:pt x="19546" y="5011"/>
                </a:cubicBezTo>
                <a:cubicBezTo>
                  <a:pt x="19653" y="5117"/>
                  <a:pt x="19789" y="5179"/>
                  <a:pt x="19893" y="5283"/>
                </a:cubicBezTo>
                <a:cubicBezTo>
                  <a:pt x="19918" y="5333"/>
                  <a:pt x="19926" y="5350"/>
                  <a:pt x="19893" y="5383"/>
                </a:cubicBezTo>
                <a:cubicBezTo>
                  <a:pt x="19758" y="5375"/>
                  <a:pt x="19603" y="5375"/>
                  <a:pt x="19695" y="5184"/>
                </a:cubicBezTo>
                <a:cubicBezTo>
                  <a:pt x="19747" y="5077"/>
                  <a:pt x="19840" y="4994"/>
                  <a:pt x="19893" y="4887"/>
                </a:cubicBezTo>
              </a:path>
              <a:path w="3995" h="2283">
                <a:moveTo>
                  <a:pt x="18380" y="4663"/>
                </a:moveTo>
                <a:cubicBezTo>
                  <a:pt x="18380" y="4513"/>
                  <a:pt x="18385" y="4606"/>
                  <a:pt x="18455" y="4688"/>
                </a:cubicBezTo>
                <a:cubicBezTo>
                  <a:pt x="18506" y="4748"/>
                  <a:pt x="18542" y="4788"/>
                  <a:pt x="18604" y="4837"/>
                </a:cubicBezTo>
                <a:cubicBezTo>
                  <a:pt x="18675" y="4893"/>
                  <a:pt x="18727" y="4939"/>
                  <a:pt x="18802" y="4986"/>
                </a:cubicBezTo>
                <a:cubicBezTo>
                  <a:pt x="18832" y="5016"/>
                  <a:pt x="18834" y="5021"/>
                  <a:pt x="18777" y="4986"/>
                </a:cubicBezTo>
                <a:cubicBezTo>
                  <a:pt x="18729" y="4929"/>
                  <a:pt x="18669" y="4862"/>
                  <a:pt x="18604" y="4812"/>
                </a:cubicBezTo>
                <a:cubicBezTo>
                  <a:pt x="18542" y="4764"/>
                  <a:pt x="18460" y="4749"/>
                  <a:pt x="18405" y="4688"/>
                </a:cubicBezTo>
                <a:cubicBezTo>
                  <a:pt x="18357" y="4635"/>
                  <a:pt x="18325" y="4569"/>
                  <a:pt x="18281" y="4514"/>
                </a:cubicBezTo>
                <a:cubicBezTo>
                  <a:pt x="18376" y="4609"/>
                  <a:pt x="18452" y="4725"/>
                  <a:pt x="18554" y="4812"/>
                </a:cubicBezTo>
                <a:cubicBezTo>
                  <a:pt x="18619" y="4856"/>
                  <a:pt x="18633" y="4867"/>
                  <a:pt x="18678" y="4887"/>
                </a:cubicBezTo>
                <a:cubicBezTo>
                  <a:pt x="18810" y="4961"/>
                  <a:pt x="18718" y="4889"/>
                  <a:pt x="18653" y="4837"/>
                </a:cubicBezTo>
                <a:cubicBezTo>
                  <a:pt x="18563" y="4766"/>
                  <a:pt x="18479" y="4696"/>
                  <a:pt x="18405" y="4614"/>
                </a:cubicBezTo>
                <a:cubicBezTo>
                  <a:pt x="18365" y="4569"/>
                  <a:pt x="18299" y="4502"/>
                  <a:pt x="18256" y="4465"/>
                </a:cubicBezTo>
                <a:cubicBezTo>
                  <a:pt x="18240" y="4457"/>
                  <a:pt x="18223" y="4448"/>
                  <a:pt x="18207" y="4440"/>
                </a:cubicBezTo>
                <a:cubicBezTo>
                  <a:pt x="18199" y="4456"/>
                  <a:pt x="18328" y="4615"/>
                  <a:pt x="18380" y="4663"/>
                </a:cubicBezTo>
                <a:cubicBezTo>
                  <a:pt x="18462" y="4738"/>
                  <a:pt x="18571" y="4786"/>
                  <a:pt x="18653" y="4862"/>
                </a:cubicBezTo>
                <a:cubicBezTo>
                  <a:pt x="18695" y="4901"/>
                  <a:pt x="18734" y="4926"/>
                  <a:pt x="18777" y="4961"/>
                </a:cubicBezTo>
                <a:cubicBezTo>
                  <a:pt x="18677" y="4927"/>
                  <a:pt x="18575" y="4846"/>
                  <a:pt x="18504" y="4762"/>
                </a:cubicBezTo>
                <a:cubicBezTo>
                  <a:pt x="18441" y="4688"/>
                  <a:pt x="18377" y="4635"/>
                  <a:pt x="18306" y="4564"/>
                </a:cubicBezTo>
                <a:cubicBezTo>
                  <a:pt x="18273" y="4531"/>
                  <a:pt x="18240" y="4498"/>
                  <a:pt x="18207" y="4465"/>
                </a:cubicBezTo>
                <a:cubicBezTo>
                  <a:pt x="18311" y="4517"/>
                  <a:pt x="18416" y="4628"/>
                  <a:pt x="18504" y="4713"/>
                </a:cubicBezTo>
                <a:cubicBezTo>
                  <a:pt x="18583" y="4789"/>
                  <a:pt x="18638" y="4877"/>
                  <a:pt x="18703" y="4961"/>
                </a:cubicBezTo>
                <a:cubicBezTo>
                  <a:pt x="18727" y="4992"/>
                  <a:pt x="18859" y="5142"/>
                  <a:pt x="18752" y="5011"/>
                </a:cubicBezTo>
                <a:cubicBezTo>
                  <a:pt x="18615" y="4907"/>
                  <a:pt x="18560" y="4795"/>
                  <a:pt x="18455" y="4663"/>
                </a:cubicBezTo>
                <a:cubicBezTo>
                  <a:pt x="18388" y="4597"/>
                  <a:pt x="18372" y="4581"/>
                  <a:pt x="18331" y="4539"/>
                </a:cubicBezTo>
                <a:cubicBezTo>
                  <a:pt x="18227" y="4457"/>
                  <a:pt x="18272" y="4506"/>
                  <a:pt x="18355" y="4589"/>
                </a:cubicBezTo>
                <a:cubicBezTo>
                  <a:pt x="18454" y="4688"/>
                  <a:pt x="18562" y="4863"/>
                  <a:pt x="18678" y="4936"/>
                </a:cubicBezTo>
                <a:cubicBezTo>
                  <a:pt x="18703" y="4944"/>
                  <a:pt x="18727" y="4953"/>
                  <a:pt x="18752" y="4961"/>
                </a:cubicBezTo>
                <a:cubicBezTo>
                  <a:pt x="18893" y="5102"/>
                  <a:pt x="18593" y="4801"/>
                  <a:pt x="18579" y="4787"/>
                </a:cubicBezTo>
                <a:cubicBezTo>
                  <a:pt x="18470" y="4678"/>
                  <a:pt x="18410" y="4555"/>
                  <a:pt x="18281" y="4465"/>
                </a:cubicBezTo>
                <a:cubicBezTo>
                  <a:pt x="18220" y="4422"/>
                  <a:pt x="18163" y="4393"/>
                  <a:pt x="18107" y="4341"/>
                </a:cubicBezTo>
                <a:cubicBezTo>
                  <a:pt x="18099" y="4333"/>
                  <a:pt x="18091" y="4324"/>
                  <a:pt x="18083" y="4316"/>
                </a:cubicBezTo>
              </a:path>
              <a:path w="3995" h="2283">
                <a:moveTo>
                  <a:pt x="18033" y="3820"/>
                </a:moveTo>
                <a:cubicBezTo>
                  <a:pt x="17880" y="4006"/>
                  <a:pt x="17707" y="4171"/>
                  <a:pt x="17537" y="4341"/>
                </a:cubicBezTo>
                <a:cubicBezTo>
                  <a:pt x="17431" y="4447"/>
                  <a:pt x="17327" y="4546"/>
                  <a:pt x="17239" y="4663"/>
                </a:cubicBezTo>
                <a:cubicBezTo>
                  <a:pt x="17211" y="4691"/>
                  <a:pt x="17202" y="4705"/>
                  <a:pt x="17214" y="4738"/>
                </a:cubicBezTo>
              </a:path>
              <a:path w="3995" h="2283">
                <a:moveTo>
                  <a:pt x="17438" y="3597"/>
                </a:moveTo>
                <a:cubicBezTo>
                  <a:pt x="17438" y="3580"/>
                  <a:pt x="17438" y="3564"/>
                  <a:pt x="17438" y="3547"/>
                </a:cubicBezTo>
                <a:cubicBezTo>
                  <a:pt x="17412" y="3657"/>
                  <a:pt x="17388" y="3757"/>
                  <a:pt x="17388" y="3870"/>
                </a:cubicBezTo>
              </a:path>
              <a:path w="3995" h="2283">
                <a:moveTo>
                  <a:pt x="20042" y="4738"/>
                </a:moveTo>
                <a:cubicBezTo>
                  <a:pt x="19914" y="4951"/>
                  <a:pt x="19789" y="5173"/>
                  <a:pt x="19621" y="5358"/>
                </a:cubicBezTo>
                <a:cubicBezTo>
                  <a:pt x="19562" y="5423"/>
                  <a:pt x="19491" y="5508"/>
                  <a:pt x="19447" y="5581"/>
                </a:cubicBezTo>
                <a:cubicBezTo>
                  <a:pt x="19447" y="5589"/>
                  <a:pt x="19447" y="5598"/>
                  <a:pt x="19447" y="5606"/>
                </a:cubicBezTo>
              </a:path>
              <a:path w="3995" h="2283">
                <a:moveTo>
                  <a:pt x="20389" y="5333"/>
                </a:moveTo>
                <a:cubicBezTo>
                  <a:pt x="20298" y="5293"/>
                  <a:pt x="20253" y="5281"/>
                  <a:pt x="20216" y="5407"/>
                </a:cubicBezTo>
                <a:cubicBezTo>
                  <a:pt x="20167" y="5575"/>
                  <a:pt x="20423" y="5458"/>
                  <a:pt x="20489" y="5432"/>
                </a:cubicBezTo>
              </a:path>
              <a:path w="3995" h="2283">
                <a:moveTo>
                  <a:pt x="20489" y="5135"/>
                </a:moveTo>
                <a:cubicBezTo>
                  <a:pt x="20460" y="5324"/>
                  <a:pt x="20407" y="5511"/>
                  <a:pt x="20389" y="5705"/>
                </a:cubicBezTo>
                <a:cubicBezTo>
                  <a:pt x="20389" y="5730"/>
                  <a:pt x="20389" y="5754"/>
                  <a:pt x="20389" y="5779"/>
                </a:cubicBezTo>
              </a:path>
              <a:path w="3995" h="2283">
                <a:moveTo>
                  <a:pt x="20216" y="5259"/>
                </a:moveTo>
                <a:cubicBezTo>
                  <a:pt x="20238" y="5317"/>
                  <a:pt x="20241" y="5344"/>
                  <a:pt x="20241" y="5407"/>
                </a:cubicBezTo>
              </a:path>
              <a:path w="3995" h="2283">
                <a:moveTo>
                  <a:pt x="18802" y="4514"/>
                </a:moveTo>
                <a:cubicBezTo>
                  <a:pt x="18665" y="4721"/>
                  <a:pt x="18514" y="4869"/>
                  <a:pt x="18331" y="5035"/>
                </a:cubicBezTo>
                <a:cubicBezTo>
                  <a:pt x="18252" y="5114"/>
                  <a:pt x="18267" y="5104"/>
                  <a:pt x="18430" y="4961"/>
                </a:cubicBezTo>
                <a:cubicBezTo>
                  <a:pt x="18443" y="4950"/>
                  <a:pt x="18864" y="4570"/>
                  <a:pt x="18852" y="4564"/>
                </a:cubicBezTo>
                <a:cubicBezTo>
                  <a:pt x="18800" y="4538"/>
                  <a:pt x="18344" y="4940"/>
                  <a:pt x="18281" y="4986"/>
                </a:cubicBezTo>
                <a:cubicBezTo>
                  <a:pt x="17948" y="5193"/>
                  <a:pt x="18298" y="4944"/>
                  <a:pt x="18380" y="4887"/>
                </a:cubicBezTo>
                <a:cubicBezTo>
                  <a:pt x="18431" y="4852"/>
                  <a:pt x="19118" y="4315"/>
                  <a:pt x="18703" y="4638"/>
                </a:cubicBezTo>
                <a:cubicBezTo>
                  <a:pt x="18639" y="4688"/>
                  <a:pt x="17948" y="5281"/>
                  <a:pt x="18256" y="4986"/>
                </a:cubicBezTo>
                <a:cubicBezTo>
                  <a:pt x="18442" y="4808"/>
                  <a:pt x="18654" y="4654"/>
                  <a:pt x="18852" y="4490"/>
                </a:cubicBezTo>
                <a:cubicBezTo>
                  <a:pt x="19031" y="4305"/>
                  <a:pt x="18429" y="4849"/>
                  <a:pt x="18355" y="4911"/>
                </a:cubicBezTo>
                <a:cubicBezTo>
                  <a:pt x="18034" y="5180"/>
                  <a:pt x="18650" y="4659"/>
                  <a:pt x="18728" y="4589"/>
                </a:cubicBezTo>
                <a:cubicBezTo>
                  <a:pt x="18761" y="4556"/>
                  <a:pt x="18794" y="4523"/>
                  <a:pt x="18827" y="4490"/>
                </a:cubicBezTo>
              </a:path>
              <a:path w="3995" h="2283">
                <a:moveTo>
                  <a:pt x="17884" y="5011"/>
                </a:moveTo>
                <a:lnTo>
                  <a:pt x="17884" y="5011"/>
                </a:lnTo>
              </a:path>
              <a:path w="3995" h="2283">
                <a:moveTo>
                  <a:pt x="17462" y="5234"/>
                </a:moveTo>
                <a:cubicBezTo>
                  <a:pt x="17606" y="5111"/>
                  <a:pt x="17629" y="5079"/>
                  <a:pt x="17735" y="5035"/>
                </a:cubicBezTo>
                <a:cubicBezTo>
                  <a:pt x="17578" y="5247"/>
                  <a:pt x="17366" y="5429"/>
                  <a:pt x="17190" y="5631"/>
                </a:cubicBezTo>
                <a:cubicBezTo>
                  <a:pt x="17092" y="5748"/>
                  <a:pt x="17080" y="5768"/>
                  <a:pt x="17016" y="5829"/>
                </a:cubicBezTo>
              </a:path>
              <a:path w="3995" h="2283">
                <a:moveTo>
                  <a:pt x="18008" y="5358"/>
                </a:moveTo>
                <a:cubicBezTo>
                  <a:pt x="18037" y="5483"/>
                  <a:pt x="18037" y="5580"/>
                  <a:pt x="18008" y="5705"/>
                </a:cubicBezTo>
              </a:path>
              <a:path w="3995" h="2283">
                <a:moveTo>
                  <a:pt x="20166" y="3646"/>
                </a:moveTo>
                <a:cubicBezTo>
                  <a:pt x="19980" y="3864"/>
                  <a:pt x="19838" y="4108"/>
                  <a:pt x="19670" y="4341"/>
                </a:cubicBezTo>
                <a:cubicBezTo>
                  <a:pt x="19642" y="4369"/>
                  <a:pt x="19633" y="4382"/>
                  <a:pt x="19645" y="4415"/>
                </a:cubicBezTo>
              </a:path>
              <a:path w="3995" h="2283">
                <a:moveTo>
                  <a:pt x="20538" y="3696"/>
                </a:moveTo>
                <a:cubicBezTo>
                  <a:pt x="20546" y="3688"/>
                  <a:pt x="20555" y="3679"/>
                  <a:pt x="20563" y="3671"/>
                </a:cubicBezTo>
                <a:cubicBezTo>
                  <a:pt x="20650" y="3736"/>
                  <a:pt x="20604" y="3804"/>
                  <a:pt x="20538" y="3870"/>
                </a:cubicBezTo>
                <a:cubicBezTo>
                  <a:pt x="20599" y="4005"/>
                  <a:pt x="20597" y="4014"/>
                  <a:pt x="20489" y="4093"/>
                </a:cubicBezTo>
                <a:cubicBezTo>
                  <a:pt x="20461" y="4121"/>
                  <a:pt x="20447" y="4130"/>
                  <a:pt x="20414" y="4118"/>
                </a:cubicBezTo>
              </a:path>
              <a:path w="3995" h="2283">
                <a:moveTo>
                  <a:pt x="20811" y="4465"/>
                </a:moveTo>
                <a:cubicBezTo>
                  <a:pt x="20919" y="4443"/>
                  <a:pt x="20946" y="4440"/>
                  <a:pt x="21010" y="4415"/>
                </a:cubicBezTo>
              </a:path>
              <a:path w="3995" h="2283">
                <a:moveTo>
                  <a:pt x="20836" y="4614"/>
                </a:moveTo>
                <a:cubicBezTo>
                  <a:pt x="20913" y="4594"/>
                  <a:pt x="20931" y="4602"/>
                  <a:pt x="20960" y="45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11960" y="2320920"/>
            <a:ext cx="1116000" cy="509760"/>
          </a:xfrm>
          <a:custGeom>
            <a:avLst/>
            <a:gdLst/>
            <a:ahLst/>
            <a:rect l="l" t="t" r="r" b="b"/>
            <a:pathLst>
              <a:path w="3101" h="1415">
                <a:moveTo>
                  <a:pt x="20439" y="7491"/>
                </a:moveTo>
                <a:lnTo>
                  <a:pt x="20439" y="7491"/>
                </a:lnTo>
              </a:path>
              <a:path w="3101" h="1415">
                <a:moveTo>
                  <a:pt x="18132" y="6623"/>
                </a:moveTo>
                <a:cubicBezTo>
                  <a:pt x="18126" y="6740"/>
                  <a:pt x="18115" y="6832"/>
                  <a:pt x="18083" y="6945"/>
                </a:cubicBezTo>
              </a:path>
              <a:path w="3101" h="1415">
                <a:moveTo>
                  <a:pt x="17810" y="7119"/>
                </a:moveTo>
                <a:cubicBezTo>
                  <a:pt x="18001" y="7073"/>
                  <a:pt x="18184" y="7040"/>
                  <a:pt x="18380" y="7020"/>
                </a:cubicBezTo>
              </a:path>
              <a:path w="3101" h="1415">
                <a:moveTo>
                  <a:pt x="18083" y="7243"/>
                </a:moveTo>
                <a:cubicBezTo>
                  <a:pt x="18052" y="7366"/>
                  <a:pt x="18000" y="7492"/>
                  <a:pt x="17959" y="7615"/>
                </a:cubicBezTo>
              </a:path>
              <a:path w="3101" h="1415">
                <a:moveTo>
                  <a:pt x="18703" y="7069"/>
                </a:moveTo>
                <a:cubicBezTo>
                  <a:pt x="18780" y="7158"/>
                  <a:pt x="18855" y="7248"/>
                  <a:pt x="18926" y="7342"/>
                </a:cubicBezTo>
              </a:path>
              <a:path w="3101" h="1415">
                <a:moveTo>
                  <a:pt x="18976" y="6995"/>
                </a:moveTo>
                <a:cubicBezTo>
                  <a:pt x="18932" y="7089"/>
                  <a:pt x="18793" y="7342"/>
                  <a:pt x="18802" y="7342"/>
                </a:cubicBezTo>
              </a:path>
              <a:path w="3101" h="1415">
                <a:moveTo>
                  <a:pt x="19298" y="6772"/>
                </a:moveTo>
                <a:cubicBezTo>
                  <a:pt x="19458" y="6708"/>
                  <a:pt x="19571" y="6741"/>
                  <a:pt x="19372" y="6896"/>
                </a:cubicBezTo>
                <a:cubicBezTo>
                  <a:pt x="19279" y="6942"/>
                  <a:pt x="19240" y="6962"/>
                  <a:pt x="19348" y="6896"/>
                </a:cubicBezTo>
                <a:cubicBezTo>
                  <a:pt x="19449" y="6896"/>
                  <a:pt x="19470" y="6886"/>
                  <a:pt x="19521" y="6921"/>
                </a:cubicBezTo>
                <a:cubicBezTo>
                  <a:pt x="19474" y="7099"/>
                  <a:pt x="19464" y="7067"/>
                  <a:pt x="19273" y="7119"/>
                </a:cubicBezTo>
              </a:path>
              <a:path w="3101" h="1415">
                <a:moveTo>
                  <a:pt x="19174" y="7268"/>
                </a:moveTo>
                <a:cubicBezTo>
                  <a:pt x="19381" y="7221"/>
                  <a:pt x="19440" y="7209"/>
                  <a:pt x="19571" y="7169"/>
                </a:cubicBezTo>
              </a:path>
              <a:path w="3101" h="1415">
                <a:moveTo>
                  <a:pt x="19248" y="7367"/>
                </a:moveTo>
                <a:cubicBezTo>
                  <a:pt x="19233" y="7426"/>
                  <a:pt x="19182" y="7594"/>
                  <a:pt x="19323" y="7541"/>
                </a:cubicBezTo>
                <a:cubicBezTo>
                  <a:pt x="19446" y="7467"/>
                  <a:pt x="19486" y="7443"/>
                  <a:pt x="19546" y="7367"/>
                </a:cubicBezTo>
              </a:path>
              <a:path w="3101" h="1415">
                <a:moveTo>
                  <a:pt x="19496" y="7342"/>
                </a:moveTo>
                <a:cubicBezTo>
                  <a:pt x="19421" y="7485"/>
                  <a:pt x="19377" y="7627"/>
                  <a:pt x="19348" y="7789"/>
                </a:cubicBezTo>
              </a:path>
              <a:path w="3101" h="1415">
                <a:moveTo>
                  <a:pt x="19819" y="7193"/>
                </a:moveTo>
                <a:cubicBezTo>
                  <a:pt x="19911" y="7160"/>
                  <a:pt x="20002" y="7130"/>
                  <a:pt x="20092" y="7094"/>
                </a:cubicBezTo>
              </a:path>
              <a:path w="3101" h="1415">
                <a:moveTo>
                  <a:pt x="19720" y="7317"/>
                </a:moveTo>
                <a:cubicBezTo>
                  <a:pt x="19860" y="7310"/>
                  <a:pt x="19994" y="7305"/>
                  <a:pt x="20117" y="7243"/>
                </a:cubicBezTo>
              </a:path>
              <a:path w="3101" h="1415">
                <a:moveTo>
                  <a:pt x="20588" y="6474"/>
                </a:moveTo>
                <a:cubicBezTo>
                  <a:pt x="20580" y="6482"/>
                  <a:pt x="20571" y="6491"/>
                  <a:pt x="20563" y="6499"/>
                </a:cubicBezTo>
                <a:cubicBezTo>
                  <a:pt x="20622" y="6491"/>
                  <a:pt x="20700" y="6407"/>
                  <a:pt x="20737" y="6499"/>
                </a:cubicBezTo>
                <a:cubicBezTo>
                  <a:pt x="20781" y="6608"/>
                  <a:pt x="20675" y="6691"/>
                  <a:pt x="20588" y="6722"/>
                </a:cubicBezTo>
                <a:cubicBezTo>
                  <a:pt x="20580" y="6722"/>
                  <a:pt x="20571" y="6722"/>
                  <a:pt x="20563" y="6722"/>
                </a:cubicBezTo>
                <a:cubicBezTo>
                  <a:pt x="20623" y="6698"/>
                  <a:pt x="20813" y="6619"/>
                  <a:pt x="20836" y="6747"/>
                </a:cubicBezTo>
                <a:cubicBezTo>
                  <a:pt x="20858" y="6867"/>
                  <a:pt x="20670" y="6933"/>
                  <a:pt x="20588" y="6921"/>
                </a:cubicBezTo>
                <a:cubicBezTo>
                  <a:pt x="20580" y="6913"/>
                  <a:pt x="20571" y="6904"/>
                  <a:pt x="20563" y="6896"/>
                </a:cubicBezTo>
              </a:path>
              <a:path w="3101" h="1415">
                <a:moveTo>
                  <a:pt x="20241" y="7169"/>
                </a:moveTo>
                <a:cubicBezTo>
                  <a:pt x="20465" y="7161"/>
                  <a:pt x="20686" y="7130"/>
                  <a:pt x="20910" y="7119"/>
                </a:cubicBezTo>
              </a:path>
              <a:path w="3101" h="1415">
                <a:moveTo>
                  <a:pt x="20439" y="7367"/>
                </a:moveTo>
                <a:cubicBezTo>
                  <a:pt x="20439" y="7434"/>
                  <a:pt x="20438" y="7486"/>
                  <a:pt x="20414" y="7541"/>
                </a:cubicBezTo>
                <a:cubicBezTo>
                  <a:pt x="20517" y="7541"/>
                  <a:pt x="20610" y="7529"/>
                  <a:pt x="20712" y="7516"/>
                </a:cubicBezTo>
              </a:path>
              <a:path w="3101" h="1415">
                <a:moveTo>
                  <a:pt x="20712" y="7268"/>
                </a:moveTo>
                <a:cubicBezTo>
                  <a:pt x="20712" y="7420"/>
                  <a:pt x="20674" y="7563"/>
                  <a:pt x="20662" y="7714"/>
                </a:cubicBezTo>
                <a:cubicBezTo>
                  <a:pt x="20662" y="7805"/>
                  <a:pt x="20662" y="7813"/>
                  <a:pt x="20662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1295280"/>
            <a:ext cx="598320" cy="509760"/>
          </a:xfrm>
          <a:custGeom>
            <a:avLst/>
            <a:gdLst/>
            <a:ahLst/>
            <a:rect l="l" t="t" r="r" b="b"/>
            <a:pathLst>
              <a:path w="1663" h="1415">
                <a:moveTo>
                  <a:pt x="12898" y="3671"/>
                </a:moveTo>
                <a:cubicBezTo>
                  <a:pt x="12980" y="3610"/>
                  <a:pt x="13196" y="3532"/>
                  <a:pt x="13196" y="3746"/>
                </a:cubicBezTo>
                <a:cubicBezTo>
                  <a:pt x="13196" y="3958"/>
                  <a:pt x="12943" y="4003"/>
                  <a:pt x="12799" y="3994"/>
                </a:cubicBezTo>
                <a:cubicBezTo>
                  <a:pt x="12979" y="3829"/>
                  <a:pt x="13010" y="3886"/>
                  <a:pt x="13196" y="3994"/>
                </a:cubicBezTo>
                <a:cubicBezTo>
                  <a:pt x="13204" y="3994"/>
                  <a:pt x="13213" y="3994"/>
                  <a:pt x="13221" y="3994"/>
                </a:cubicBezTo>
              </a:path>
              <a:path w="1663" h="1415">
                <a:moveTo>
                  <a:pt x="12750" y="4192"/>
                </a:moveTo>
                <a:cubicBezTo>
                  <a:pt x="12925" y="4170"/>
                  <a:pt x="13095" y="4150"/>
                  <a:pt x="13271" y="4142"/>
                </a:cubicBezTo>
              </a:path>
              <a:path w="1663" h="1415">
                <a:moveTo>
                  <a:pt x="12750" y="4465"/>
                </a:moveTo>
                <a:cubicBezTo>
                  <a:pt x="12777" y="4465"/>
                  <a:pt x="13083" y="4421"/>
                  <a:pt x="13022" y="4514"/>
                </a:cubicBezTo>
                <a:cubicBezTo>
                  <a:pt x="12964" y="4572"/>
                  <a:pt x="12956" y="4581"/>
                  <a:pt x="12923" y="4614"/>
                </a:cubicBezTo>
                <a:cubicBezTo>
                  <a:pt x="13042" y="4590"/>
                  <a:pt x="13037" y="4604"/>
                  <a:pt x="13122" y="4688"/>
                </a:cubicBezTo>
                <a:cubicBezTo>
                  <a:pt x="13009" y="4842"/>
                  <a:pt x="12949" y="4870"/>
                  <a:pt x="12750" y="4887"/>
                </a:cubicBezTo>
              </a:path>
              <a:path w="1663" h="1415">
                <a:moveTo>
                  <a:pt x="13519" y="4167"/>
                </a:moveTo>
                <a:cubicBezTo>
                  <a:pt x="13589" y="4275"/>
                  <a:pt x="13661" y="4377"/>
                  <a:pt x="13717" y="4490"/>
                </a:cubicBezTo>
              </a:path>
              <a:path w="1663" h="1415">
                <a:moveTo>
                  <a:pt x="13667" y="4242"/>
                </a:moveTo>
                <a:cubicBezTo>
                  <a:pt x="13557" y="4418"/>
                  <a:pt x="13523" y="4460"/>
                  <a:pt x="13494" y="4589"/>
                </a:cubicBezTo>
              </a:path>
              <a:path w="1663" h="1415">
                <a:moveTo>
                  <a:pt x="14387" y="3845"/>
                </a:moveTo>
                <a:cubicBezTo>
                  <a:pt x="14367" y="3778"/>
                  <a:pt x="14258" y="3621"/>
                  <a:pt x="14163" y="3746"/>
                </a:cubicBezTo>
                <a:cubicBezTo>
                  <a:pt x="14127" y="3836"/>
                  <a:pt x="14111" y="3841"/>
                  <a:pt x="14114" y="3894"/>
                </a:cubicBezTo>
                <a:cubicBezTo>
                  <a:pt x="14214" y="3871"/>
                  <a:pt x="14257" y="3843"/>
                  <a:pt x="14337" y="3770"/>
                </a:cubicBezTo>
                <a:cubicBezTo>
                  <a:pt x="14352" y="3903"/>
                  <a:pt x="14369" y="4004"/>
                  <a:pt x="14337" y="4142"/>
                </a:cubicBezTo>
                <a:cubicBezTo>
                  <a:pt x="14329" y="4167"/>
                  <a:pt x="14320" y="4192"/>
                  <a:pt x="14312" y="4217"/>
                </a:cubicBezTo>
              </a:path>
              <a:path w="1663" h="1415">
                <a:moveTo>
                  <a:pt x="13965" y="4366"/>
                </a:moveTo>
                <a:cubicBezTo>
                  <a:pt x="14188" y="4316"/>
                  <a:pt x="14263" y="4299"/>
                  <a:pt x="14412" y="4266"/>
                </a:cubicBezTo>
              </a:path>
              <a:path w="1663" h="1415">
                <a:moveTo>
                  <a:pt x="14362" y="4589"/>
                </a:moveTo>
                <a:cubicBezTo>
                  <a:pt x="14225" y="4618"/>
                  <a:pt x="14022" y="4665"/>
                  <a:pt x="14163" y="4812"/>
                </a:cubicBezTo>
                <a:cubicBezTo>
                  <a:pt x="14254" y="4907"/>
                  <a:pt x="14277" y="4871"/>
                  <a:pt x="14213" y="4986"/>
                </a:cubicBezTo>
                <a:cubicBezTo>
                  <a:pt x="14196" y="4994"/>
                  <a:pt x="14180" y="5003"/>
                  <a:pt x="14163" y="5011"/>
                </a:cubicBezTo>
                <a:cubicBezTo>
                  <a:pt x="14193" y="4834"/>
                  <a:pt x="14267" y="4697"/>
                  <a:pt x="14362" y="45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13240" y="1295280"/>
            <a:ext cx="750960" cy="428760"/>
          </a:xfrm>
          <a:custGeom>
            <a:avLst/>
            <a:gdLst/>
            <a:ahLst/>
            <a:rect l="l" t="t" r="r" b="b"/>
            <a:pathLst>
              <a:path w="2084" h="1191">
                <a:moveTo>
                  <a:pt x="14808" y="4167"/>
                </a:moveTo>
                <a:cubicBezTo>
                  <a:pt x="14879" y="4167"/>
                  <a:pt x="14926" y="4176"/>
                  <a:pt x="14982" y="4142"/>
                </a:cubicBezTo>
              </a:path>
              <a:path w="2084" h="1191">
                <a:moveTo>
                  <a:pt x="14759" y="4291"/>
                </a:moveTo>
                <a:cubicBezTo>
                  <a:pt x="14792" y="4283"/>
                  <a:pt x="14825" y="4274"/>
                  <a:pt x="14858" y="4266"/>
                </a:cubicBezTo>
              </a:path>
              <a:path w="2084" h="1191">
                <a:moveTo>
                  <a:pt x="15230" y="3597"/>
                </a:moveTo>
                <a:cubicBezTo>
                  <a:pt x="15206" y="3747"/>
                  <a:pt x="15182" y="3877"/>
                  <a:pt x="15131" y="4018"/>
                </a:cubicBezTo>
              </a:path>
              <a:path w="2084" h="1191">
                <a:moveTo>
                  <a:pt x="15503" y="3597"/>
                </a:moveTo>
                <a:cubicBezTo>
                  <a:pt x="15383" y="3716"/>
                  <a:pt x="15354" y="3708"/>
                  <a:pt x="15478" y="3820"/>
                </a:cubicBezTo>
                <a:cubicBezTo>
                  <a:pt x="15524" y="3866"/>
                  <a:pt x="15539" y="3878"/>
                  <a:pt x="15553" y="3919"/>
                </a:cubicBezTo>
                <a:cubicBezTo>
                  <a:pt x="15503" y="3944"/>
                  <a:pt x="15486" y="3952"/>
                  <a:pt x="15453" y="3969"/>
                </a:cubicBezTo>
                <a:cubicBezTo>
                  <a:pt x="15444" y="3865"/>
                  <a:pt x="15473" y="3817"/>
                  <a:pt x="15528" y="3721"/>
                </a:cubicBezTo>
              </a:path>
              <a:path w="2084" h="1191">
                <a:moveTo>
                  <a:pt x="15081" y="4291"/>
                </a:moveTo>
                <a:cubicBezTo>
                  <a:pt x="15228" y="4218"/>
                  <a:pt x="15338" y="4192"/>
                  <a:pt x="15503" y="4192"/>
                </a:cubicBezTo>
              </a:path>
              <a:path w="2084" h="1191">
                <a:moveTo>
                  <a:pt x="15007" y="4465"/>
                </a:moveTo>
                <a:cubicBezTo>
                  <a:pt x="15063" y="4436"/>
                  <a:pt x="15087" y="4431"/>
                  <a:pt x="15131" y="4465"/>
                </a:cubicBezTo>
                <a:cubicBezTo>
                  <a:pt x="15131" y="4615"/>
                  <a:pt x="15114" y="4681"/>
                  <a:pt x="14957" y="4738"/>
                </a:cubicBezTo>
                <a:cubicBezTo>
                  <a:pt x="14931" y="4747"/>
                  <a:pt x="14981" y="4638"/>
                  <a:pt x="15131" y="4713"/>
                </a:cubicBezTo>
              </a:path>
              <a:path w="2084" h="1191">
                <a:moveTo>
                  <a:pt x="15304" y="4415"/>
                </a:moveTo>
                <a:cubicBezTo>
                  <a:pt x="15288" y="4470"/>
                  <a:pt x="15226" y="4607"/>
                  <a:pt x="15354" y="4564"/>
                </a:cubicBezTo>
                <a:cubicBezTo>
                  <a:pt x="15444" y="4534"/>
                  <a:pt x="15444" y="4489"/>
                  <a:pt x="15453" y="4415"/>
                </a:cubicBezTo>
                <a:cubicBezTo>
                  <a:pt x="15420" y="4523"/>
                  <a:pt x="15392" y="4633"/>
                  <a:pt x="15354" y="4738"/>
                </a:cubicBezTo>
              </a:path>
              <a:path w="2084" h="1191">
                <a:moveTo>
                  <a:pt x="15652" y="4242"/>
                </a:moveTo>
                <a:cubicBezTo>
                  <a:pt x="15718" y="4242"/>
                  <a:pt x="15784" y="4242"/>
                  <a:pt x="15850" y="4242"/>
                </a:cubicBezTo>
              </a:path>
              <a:path w="2084" h="1191">
                <a:moveTo>
                  <a:pt x="15776" y="4093"/>
                </a:moveTo>
                <a:lnTo>
                  <a:pt x="15776" y="4093"/>
                </a:lnTo>
              </a:path>
              <a:path w="2084" h="1191">
                <a:moveTo>
                  <a:pt x="15677" y="4490"/>
                </a:moveTo>
                <a:lnTo>
                  <a:pt x="15677" y="4490"/>
                </a:lnTo>
              </a:path>
              <a:path w="2084" h="1191">
                <a:moveTo>
                  <a:pt x="16049" y="3870"/>
                </a:moveTo>
                <a:lnTo>
                  <a:pt x="16049" y="3870"/>
                </a:lnTo>
              </a:path>
              <a:path w="2084" h="1191">
                <a:moveTo>
                  <a:pt x="16148" y="3770"/>
                </a:moveTo>
                <a:cubicBezTo>
                  <a:pt x="16133" y="3814"/>
                  <a:pt x="15979" y="4121"/>
                  <a:pt x="15999" y="4167"/>
                </a:cubicBezTo>
                <a:cubicBezTo>
                  <a:pt x="16049" y="4283"/>
                  <a:pt x="16172" y="4133"/>
                  <a:pt x="16197" y="4093"/>
                </a:cubicBezTo>
                <a:cubicBezTo>
                  <a:pt x="16197" y="4029"/>
                  <a:pt x="16116" y="4119"/>
                  <a:pt x="16073" y="4167"/>
                </a:cubicBezTo>
              </a:path>
              <a:path w="2084" h="1191">
                <a:moveTo>
                  <a:pt x="15974" y="4341"/>
                </a:moveTo>
                <a:cubicBezTo>
                  <a:pt x="16068" y="4332"/>
                  <a:pt x="16155" y="4313"/>
                  <a:pt x="16247" y="4291"/>
                </a:cubicBezTo>
              </a:path>
              <a:path w="2084" h="1191">
                <a:moveTo>
                  <a:pt x="16049" y="4440"/>
                </a:moveTo>
                <a:cubicBezTo>
                  <a:pt x="15969" y="4533"/>
                  <a:pt x="15913" y="4581"/>
                  <a:pt x="15925" y="4688"/>
                </a:cubicBezTo>
                <a:cubicBezTo>
                  <a:pt x="16083" y="4652"/>
                  <a:pt x="16107" y="4506"/>
                  <a:pt x="16049" y="4564"/>
                </a:cubicBezTo>
                <a:cubicBezTo>
                  <a:pt x="16041" y="4589"/>
                  <a:pt x="16032" y="4613"/>
                  <a:pt x="16024" y="4638"/>
                </a:cubicBezTo>
              </a:path>
              <a:path w="2084" h="1191">
                <a:moveTo>
                  <a:pt x="16346" y="4242"/>
                </a:moveTo>
                <a:cubicBezTo>
                  <a:pt x="16363" y="4242"/>
                  <a:pt x="16379" y="4242"/>
                  <a:pt x="16396" y="4242"/>
                </a:cubicBezTo>
              </a:path>
              <a:path w="2084" h="1191">
                <a:moveTo>
                  <a:pt x="16321" y="4316"/>
                </a:moveTo>
                <a:cubicBezTo>
                  <a:pt x="16354" y="4308"/>
                  <a:pt x="16388" y="4299"/>
                  <a:pt x="16421" y="4291"/>
                </a:cubicBezTo>
              </a:path>
              <a:path w="2084" h="1191">
                <a:moveTo>
                  <a:pt x="16619" y="3770"/>
                </a:moveTo>
                <a:cubicBezTo>
                  <a:pt x="16744" y="3719"/>
                  <a:pt x="16871" y="3771"/>
                  <a:pt x="16743" y="3919"/>
                </a:cubicBezTo>
                <a:cubicBezTo>
                  <a:pt x="16718" y="3936"/>
                  <a:pt x="16694" y="3952"/>
                  <a:pt x="16669" y="3969"/>
                </a:cubicBezTo>
                <a:cubicBezTo>
                  <a:pt x="16708" y="3973"/>
                  <a:pt x="16871" y="4009"/>
                  <a:pt x="16768" y="4093"/>
                </a:cubicBezTo>
                <a:cubicBezTo>
                  <a:pt x="16688" y="4159"/>
                  <a:pt x="16624" y="4151"/>
                  <a:pt x="16545" y="4118"/>
                </a:cubicBezTo>
              </a:path>
              <a:path w="2084" h="1191">
                <a:moveTo>
                  <a:pt x="16545" y="4242"/>
                </a:moveTo>
                <a:cubicBezTo>
                  <a:pt x="16645" y="4278"/>
                  <a:pt x="16734" y="4253"/>
                  <a:pt x="16842" y="4242"/>
                </a:cubicBezTo>
              </a:path>
              <a:path w="2084" h="1191">
                <a:moveTo>
                  <a:pt x="16520" y="4440"/>
                </a:moveTo>
                <a:cubicBezTo>
                  <a:pt x="16513" y="4482"/>
                  <a:pt x="16502" y="4522"/>
                  <a:pt x="16495" y="4564"/>
                </a:cubicBezTo>
                <a:cubicBezTo>
                  <a:pt x="16590" y="4588"/>
                  <a:pt x="16620" y="4599"/>
                  <a:pt x="16669" y="4539"/>
                </a:cubicBezTo>
              </a:path>
              <a:path w="2084" h="1191">
                <a:moveTo>
                  <a:pt x="16768" y="4366"/>
                </a:moveTo>
                <a:cubicBezTo>
                  <a:pt x="16689" y="4504"/>
                  <a:pt x="16656" y="4632"/>
                  <a:pt x="16619" y="47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16120" y="6045120"/>
            <a:ext cx="322200" cy="689040"/>
          </a:xfrm>
          <a:custGeom>
            <a:avLst/>
            <a:gdLst/>
            <a:ahLst/>
            <a:rect l="l" t="t" r="r" b="b"/>
            <a:pathLst>
              <a:path w="894" h="1911">
                <a:moveTo>
                  <a:pt x="8086" y="18678"/>
                </a:moveTo>
                <a:cubicBezTo>
                  <a:pt x="8078" y="18686"/>
                  <a:pt x="8070" y="18695"/>
                  <a:pt x="8062" y="18703"/>
                </a:cubicBezTo>
              </a:path>
              <a:path w="894" h="1911">
                <a:moveTo>
                  <a:pt x="7541" y="16793"/>
                </a:moveTo>
                <a:cubicBezTo>
                  <a:pt x="7409" y="16925"/>
                  <a:pt x="7388" y="17128"/>
                  <a:pt x="7342" y="17314"/>
                </a:cubicBezTo>
                <a:cubicBezTo>
                  <a:pt x="7315" y="17422"/>
                  <a:pt x="7236" y="17594"/>
                  <a:pt x="7268" y="17487"/>
                </a:cubicBezTo>
                <a:cubicBezTo>
                  <a:pt x="7276" y="17471"/>
                  <a:pt x="7285" y="17454"/>
                  <a:pt x="7293" y="17438"/>
                </a:cubicBezTo>
              </a:path>
              <a:path w="894" h="1911">
                <a:moveTo>
                  <a:pt x="7764" y="17636"/>
                </a:moveTo>
                <a:cubicBezTo>
                  <a:pt x="7796" y="17588"/>
                  <a:pt x="7949" y="17379"/>
                  <a:pt x="8012" y="17537"/>
                </a:cubicBezTo>
                <a:cubicBezTo>
                  <a:pt x="8042" y="17612"/>
                  <a:pt x="8008" y="17739"/>
                  <a:pt x="7987" y="17810"/>
                </a:cubicBezTo>
                <a:cubicBezTo>
                  <a:pt x="8019" y="17714"/>
                  <a:pt x="8138" y="17629"/>
                  <a:pt x="8161" y="17810"/>
                </a:cubicBezTo>
                <a:cubicBezTo>
                  <a:pt x="8184" y="17997"/>
                  <a:pt x="8027" y="18051"/>
                  <a:pt x="7888" y="18058"/>
                </a:cubicBezTo>
                <a:cubicBezTo>
                  <a:pt x="7880" y="18058"/>
                  <a:pt x="7871" y="18058"/>
                  <a:pt x="7863" y="180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5080" y="5295960"/>
            <a:ext cx="243000" cy="534960"/>
          </a:xfrm>
          <a:custGeom>
            <a:avLst/>
            <a:gdLst/>
            <a:ahLst/>
            <a:rect l="l" t="t" r="r" b="b"/>
            <a:pathLst>
              <a:path w="671" h="1489">
                <a:moveTo>
                  <a:pt x="9302" y="14709"/>
                </a:moveTo>
                <a:cubicBezTo>
                  <a:pt x="9295" y="14901"/>
                  <a:pt x="9268" y="15089"/>
                  <a:pt x="9252" y="15280"/>
                </a:cubicBezTo>
              </a:path>
              <a:path w="671" h="1489">
                <a:moveTo>
                  <a:pt x="8954" y="15379"/>
                </a:moveTo>
                <a:cubicBezTo>
                  <a:pt x="9161" y="15379"/>
                  <a:pt x="9368" y="15379"/>
                  <a:pt x="9575" y="15379"/>
                </a:cubicBezTo>
              </a:path>
              <a:path w="671" h="1489">
                <a:moveTo>
                  <a:pt x="9128" y="15577"/>
                </a:moveTo>
                <a:cubicBezTo>
                  <a:pt x="9033" y="15699"/>
                  <a:pt x="8943" y="15798"/>
                  <a:pt x="8905" y="15949"/>
                </a:cubicBezTo>
                <a:cubicBezTo>
                  <a:pt x="8889" y="16013"/>
                  <a:pt x="8913" y="16079"/>
                  <a:pt x="8979" y="16098"/>
                </a:cubicBezTo>
                <a:cubicBezTo>
                  <a:pt x="9060" y="16122"/>
                  <a:pt x="9092" y="16061"/>
                  <a:pt x="9153" y="16049"/>
                </a:cubicBezTo>
                <a:cubicBezTo>
                  <a:pt x="9246" y="16031"/>
                  <a:pt x="9290" y="16035"/>
                  <a:pt x="9351" y="15949"/>
                </a:cubicBezTo>
                <a:cubicBezTo>
                  <a:pt x="9371" y="15909"/>
                  <a:pt x="9380" y="15903"/>
                  <a:pt x="9376" y="15875"/>
                </a:cubicBezTo>
                <a:cubicBezTo>
                  <a:pt x="9299" y="15846"/>
                  <a:pt x="9268" y="15840"/>
                  <a:pt x="9203" y="15900"/>
                </a:cubicBezTo>
                <a:cubicBezTo>
                  <a:pt x="9137" y="15961"/>
                  <a:pt x="9106" y="16030"/>
                  <a:pt x="9128" y="16123"/>
                </a:cubicBezTo>
                <a:cubicBezTo>
                  <a:pt x="9148" y="16163"/>
                  <a:pt x="9157" y="16170"/>
                  <a:pt x="9153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16120" y="6000840"/>
            <a:ext cx="135000" cy="22392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7516" y="16793"/>
                </a:moveTo>
                <a:cubicBezTo>
                  <a:pt x="7476" y="16714"/>
                  <a:pt x="7444" y="16707"/>
                  <a:pt x="7367" y="16669"/>
                </a:cubicBezTo>
                <a:cubicBezTo>
                  <a:pt x="7288" y="16770"/>
                  <a:pt x="7238" y="16882"/>
                  <a:pt x="7293" y="17016"/>
                </a:cubicBezTo>
                <a:cubicBezTo>
                  <a:pt x="7309" y="17033"/>
                  <a:pt x="7326" y="17049"/>
                  <a:pt x="7342" y="17066"/>
                </a:cubicBezTo>
                <a:cubicBezTo>
                  <a:pt x="7398" y="16954"/>
                  <a:pt x="7430" y="16869"/>
                  <a:pt x="7441" y="16743"/>
                </a:cubicBezTo>
                <a:cubicBezTo>
                  <a:pt x="7542" y="16917"/>
                  <a:pt x="7588" y="17092"/>
                  <a:pt x="7640" y="172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74920" y="5688000"/>
            <a:ext cx="214200" cy="339840"/>
          </a:xfrm>
          <a:custGeom>
            <a:avLst/>
            <a:gdLst/>
            <a:ahLst/>
            <a:rect l="l" t="t" r="r" b="b"/>
            <a:pathLst>
              <a:path w="596" h="943">
                <a:moveTo>
                  <a:pt x="7193" y="15801"/>
                </a:moveTo>
                <a:cubicBezTo>
                  <a:pt x="7083" y="16063"/>
                  <a:pt x="6936" y="16279"/>
                  <a:pt x="6747" y="16495"/>
                </a:cubicBezTo>
                <a:cubicBezTo>
                  <a:pt x="6672" y="16581"/>
                  <a:pt x="6612" y="16630"/>
                  <a:pt x="6598" y="167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2880" y="5510160"/>
            <a:ext cx="249120" cy="177840"/>
          </a:xfrm>
          <a:custGeom>
            <a:avLst/>
            <a:gdLst/>
            <a:ahLst/>
            <a:rect l="l" t="t" r="r" b="b"/>
            <a:pathLst>
              <a:path w="695" h="498">
                <a:moveTo>
                  <a:pt x="5556" y="15453"/>
                </a:moveTo>
                <a:cubicBezTo>
                  <a:pt x="5471" y="15280"/>
                  <a:pt x="5836" y="15635"/>
                  <a:pt x="5928" y="15701"/>
                </a:cubicBezTo>
                <a:cubicBezTo>
                  <a:pt x="6224" y="15850"/>
                  <a:pt x="5666" y="15480"/>
                  <a:pt x="5606" y="15404"/>
                </a:cubicBezTo>
                <a:cubicBezTo>
                  <a:pt x="5435" y="15188"/>
                  <a:pt x="5960" y="15600"/>
                  <a:pt x="6028" y="15652"/>
                </a:cubicBezTo>
                <a:cubicBezTo>
                  <a:pt x="6239" y="15813"/>
                  <a:pt x="5754" y="15511"/>
                  <a:pt x="5680" y="15453"/>
                </a:cubicBezTo>
                <a:cubicBezTo>
                  <a:pt x="5650" y="15424"/>
                  <a:pt x="5645" y="15422"/>
                  <a:pt x="5680" y="15478"/>
                </a:cubicBezTo>
                <a:cubicBezTo>
                  <a:pt x="5774" y="15541"/>
                  <a:pt x="6474" y="15955"/>
                  <a:pt x="6028" y="15701"/>
                </a:cubicBezTo>
                <a:cubicBezTo>
                  <a:pt x="6019" y="15696"/>
                  <a:pt x="5638" y="15482"/>
                  <a:pt x="5730" y="15528"/>
                </a:cubicBezTo>
                <a:cubicBezTo>
                  <a:pt x="5856" y="15590"/>
                  <a:pt x="5915" y="15622"/>
                  <a:pt x="6003" y="15677"/>
                </a:cubicBezTo>
                <a:cubicBezTo>
                  <a:pt x="6170" y="15842"/>
                  <a:pt x="5717" y="15546"/>
                  <a:pt x="5655" y="15503"/>
                </a:cubicBezTo>
                <a:cubicBezTo>
                  <a:pt x="5647" y="15495"/>
                  <a:pt x="5639" y="15486"/>
                  <a:pt x="5631" y="15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14680" y="5143680"/>
            <a:ext cx="179280" cy="438120"/>
          </a:xfrm>
          <a:custGeom>
            <a:avLst/>
            <a:gdLst/>
            <a:ahLst/>
            <a:rect l="l" t="t" r="r" b="b"/>
            <a:pathLst>
              <a:path w="498" h="1216">
                <a:moveTo>
                  <a:pt x="5259" y="14288"/>
                </a:moveTo>
                <a:cubicBezTo>
                  <a:pt x="5245" y="14383"/>
                  <a:pt x="5174" y="14465"/>
                  <a:pt x="5135" y="14560"/>
                </a:cubicBezTo>
                <a:cubicBezTo>
                  <a:pt x="5043" y="14785"/>
                  <a:pt x="4958" y="15020"/>
                  <a:pt x="4837" y="15230"/>
                </a:cubicBezTo>
                <a:cubicBezTo>
                  <a:pt x="4789" y="15313"/>
                  <a:pt x="4805" y="15335"/>
                  <a:pt x="4787" y="15429"/>
                </a:cubicBezTo>
                <a:cubicBezTo>
                  <a:pt x="4787" y="15464"/>
                  <a:pt x="4782" y="15481"/>
                  <a:pt x="4762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4964040"/>
            <a:ext cx="330120" cy="339840"/>
          </a:xfrm>
          <a:custGeom>
            <a:avLst/>
            <a:gdLst/>
            <a:ahLst/>
            <a:rect l="l" t="t" r="r" b="b"/>
            <a:pathLst>
              <a:path w="918" h="944">
                <a:moveTo>
                  <a:pt x="3770" y="14188"/>
                </a:moveTo>
                <a:cubicBezTo>
                  <a:pt x="3747" y="14140"/>
                  <a:pt x="3739" y="14126"/>
                  <a:pt x="3746" y="14089"/>
                </a:cubicBezTo>
                <a:cubicBezTo>
                  <a:pt x="3880" y="14100"/>
                  <a:pt x="3869" y="14097"/>
                  <a:pt x="3870" y="14238"/>
                </a:cubicBezTo>
                <a:cubicBezTo>
                  <a:pt x="4014" y="14279"/>
                  <a:pt x="4082" y="14386"/>
                  <a:pt x="3894" y="14486"/>
                </a:cubicBezTo>
                <a:cubicBezTo>
                  <a:pt x="3878" y="14486"/>
                  <a:pt x="3861" y="14486"/>
                  <a:pt x="3845" y="14486"/>
                </a:cubicBezTo>
              </a:path>
              <a:path w="918" h="944">
                <a:moveTo>
                  <a:pt x="3894" y="13791"/>
                </a:moveTo>
                <a:cubicBezTo>
                  <a:pt x="3828" y="13973"/>
                  <a:pt x="3797" y="14236"/>
                  <a:pt x="3746" y="14436"/>
                </a:cubicBezTo>
                <a:cubicBezTo>
                  <a:pt x="3718" y="14546"/>
                  <a:pt x="3708" y="14636"/>
                  <a:pt x="3671" y="14734"/>
                </a:cubicBezTo>
              </a:path>
              <a:path w="918" h="944">
                <a:moveTo>
                  <a:pt x="3175" y="13866"/>
                </a:moveTo>
                <a:lnTo>
                  <a:pt x="3175" y="13866"/>
                </a:lnTo>
              </a:path>
              <a:path w="918" h="944">
                <a:moveTo>
                  <a:pt x="3101" y="13915"/>
                </a:moveTo>
                <a:cubicBezTo>
                  <a:pt x="3120" y="14117"/>
                  <a:pt x="3143" y="14328"/>
                  <a:pt x="3225" y="145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85920" y="4867200"/>
            <a:ext cx="1492200" cy="1258920"/>
          </a:xfrm>
          <a:custGeom>
            <a:avLst/>
            <a:gdLst/>
            <a:ahLst/>
            <a:rect l="l" t="t" r="r" b="b"/>
            <a:pathLst>
              <a:path w="4143" h="3498">
                <a:moveTo>
                  <a:pt x="6102" y="15205"/>
                </a:moveTo>
                <a:cubicBezTo>
                  <a:pt x="5991" y="15287"/>
                  <a:pt x="5582" y="15536"/>
                  <a:pt x="5556" y="15677"/>
                </a:cubicBezTo>
                <a:cubicBezTo>
                  <a:pt x="5513" y="15911"/>
                  <a:pt x="5944" y="15408"/>
                  <a:pt x="6127" y="15255"/>
                </a:cubicBezTo>
                <a:cubicBezTo>
                  <a:pt x="5903" y="15436"/>
                  <a:pt x="5684" y="15625"/>
                  <a:pt x="5457" y="15801"/>
                </a:cubicBezTo>
                <a:cubicBezTo>
                  <a:pt x="5432" y="15817"/>
                  <a:pt x="5408" y="15834"/>
                  <a:pt x="5383" y="15850"/>
                </a:cubicBezTo>
                <a:cubicBezTo>
                  <a:pt x="5551" y="15697"/>
                  <a:pt x="5723" y="15540"/>
                  <a:pt x="5904" y="15404"/>
                </a:cubicBezTo>
                <a:cubicBezTo>
                  <a:pt x="6032" y="15308"/>
                  <a:pt x="5603" y="15635"/>
                  <a:pt x="5581" y="15652"/>
                </a:cubicBezTo>
                <a:cubicBezTo>
                  <a:pt x="5366" y="15817"/>
                  <a:pt x="5415" y="15812"/>
                  <a:pt x="5606" y="15627"/>
                </a:cubicBezTo>
                <a:cubicBezTo>
                  <a:pt x="5792" y="15441"/>
                  <a:pt x="5845" y="15386"/>
                  <a:pt x="5978" y="15280"/>
                </a:cubicBezTo>
                <a:cubicBezTo>
                  <a:pt x="6035" y="15308"/>
                  <a:pt x="5694" y="15568"/>
                  <a:pt x="5655" y="15602"/>
                </a:cubicBezTo>
                <a:cubicBezTo>
                  <a:pt x="5394" y="15827"/>
                  <a:pt x="5454" y="15766"/>
                  <a:pt x="5655" y="15577"/>
                </a:cubicBezTo>
                <a:cubicBezTo>
                  <a:pt x="5794" y="15459"/>
                  <a:pt x="5814" y="15435"/>
                  <a:pt x="5904" y="15379"/>
                </a:cubicBezTo>
              </a:path>
              <a:path w="4143" h="3498">
                <a:moveTo>
                  <a:pt x="7268" y="14288"/>
                </a:moveTo>
                <a:cubicBezTo>
                  <a:pt x="7083" y="14524"/>
                  <a:pt x="6893" y="14756"/>
                  <a:pt x="6697" y="14982"/>
                </a:cubicBezTo>
                <a:cubicBezTo>
                  <a:pt x="6654" y="15032"/>
                  <a:pt x="6628" y="15083"/>
                  <a:pt x="6598" y="15131"/>
                </a:cubicBezTo>
                <a:cubicBezTo>
                  <a:pt x="6564" y="15186"/>
                  <a:pt x="6530" y="15225"/>
                  <a:pt x="6499" y="15280"/>
                </a:cubicBezTo>
              </a:path>
              <a:path w="4143" h="3498">
                <a:moveTo>
                  <a:pt x="7714" y="13593"/>
                </a:moveTo>
                <a:cubicBezTo>
                  <a:pt x="7714" y="13552"/>
                  <a:pt x="7714" y="13544"/>
                  <a:pt x="7714" y="13519"/>
                </a:cubicBezTo>
                <a:cubicBezTo>
                  <a:pt x="7665" y="13739"/>
                  <a:pt x="7619" y="13966"/>
                  <a:pt x="7565" y="14188"/>
                </a:cubicBezTo>
                <a:cubicBezTo>
                  <a:pt x="7557" y="14213"/>
                  <a:pt x="7549" y="14238"/>
                  <a:pt x="7541" y="14263"/>
                </a:cubicBezTo>
              </a:path>
              <a:path w="4143" h="3498">
                <a:moveTo>
                  <a:pt x="5705" y="15726"/>
                </a:moveTo>
                <a:cubicBezTo>
                  <a:pt x="5432" y="15925"/>
                  <a:pt x="5197" y="16185"/>
                  <a:pt x="4911" y="16371"/>
                </a:cubicBezTo>
                <a:cubicBezTo>
                  <a:pt x="4746" y="16454"/>
                  <a:pt x="4713" y="16470"/>
                  <a:pt x="4614" y="16520"/>
                </a:cubicBezTo>
              </a:path>
              <a:path w="4143" h="3498">
                <a:moveTo>
                  <a:pt x="3894" y="16321"/>
                </a:moveTo>
                <a:cubicBezTo>
                  <a:pt x="3880" y="16469"/>
                  <a:pt x="3999" y="16560"/>
                  <a:pt x="3944" y="16768"/>
                </a:cubicBezTo>
                <a:cubicBezTo>
                  <a:pt x="3903" y="16921"/>
                  <a:pt x="3790" y="17059"/>
                  <a:pt x="3621" y="17016"/>
                </a:cubicBezTo>
                <a:cubicBezTo>
                  <a:pt x="3605" y="17008"/>
                  <a:pt x="3588" y="16999"/>
                  <a:pt x="3572" y="16991"/>
                </a:cubicBezTo>
                <a:cubicBezTo>
                  <a:pt x="3605" y="16823"/>
                  <a:pt x="3684" y="16727"/>
                  <a:pt x="3870" y="16718"/>
                </a:cubicBezTo>
                <a:cubicBezTo>
                  <a:pt x="3970" y="16713"/>
                  <a:pt x="4018" y="16776"/>
                  <a:pt x="4068" y="16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86240" y="4653000"/>
            <a:ext cx="992160" cy="1697040"/>
          </a:xfrm>
          <a:custGeom>
            <a:avLst/>
            <a:gdLst/>
            <a:ahLst/>
            <a:rect l="l" t="t" r="r" b="b"/>
            <a:pathLst>
              <a:path w="2755" h="4714">
                <a:moveTo>
                  <a:pt x="15478" y="12923"/>
                </a:moveTo>
                <a:lnTo>
                  <a:pt x="15478" y="12923"/>
                </a:lnTo>
              </a:path>
              <a:path w="2755" h="4714">
                <a:moveTo>
                  <a:pt x="15974" y="15404"/>
                </a:moveTo>
                <a:cubicBezTo>
                  <a:pt x="15840" y="15166"/>
                  <a:pt x="16137" y="15614"/>
                  <a:pt x="16148" y="15627"/>
                </a:cubicBezTo>
                <a:cubicBezTo>
                  <a:pt x="16300" y="15799"/>
                  <a:pt x="16323" y="15832"/>
                  <a:pt x="16098" y="15627"/>
                </a:cubicBezTo>
                <a:cubicBezTo>
                  <a:pt x="16054" y="15587"/>
                  <a:pt x="15737" y="15255"/>
                  <a:pt x="15850" y="15453"/>
                </a:cubicBezTo>
                <a:cubicBezTo>
                  <a:pt x="16020" y="15574"/>
                  <a:pt x="16242" y="15692"/>
                  <a:pt x="16371" y="15850"/>
                </a:cubicBezTo>
                <a:cubicBezTo>
                  <a:pt x="16504" y="16014"/>
                  <a:pt x="15700" y="15362"/>
                  <a:pt x="15900" y="15429"/>
                </a:cubicBezTo>
                <a:cubicBezTo>
                  <a:pt x="16112" y="15562"/>
                  <a:pt x="16191" y="15613"/>
                  <a:pt x="16321" y="15726"/>
                </a:cubicBezTo>
                <a:cubicBezTo>
                  <a:pt x="16632" y="16064"/>
                  <a:pt x="16055" y="15490"/>
                  <a:pt x="15974" y="15404"/>
                </a:cubicBezTo>
                <a:cubicBezTo>
                  <a:pt x="15871" y="15295"/>
                  <a:pt x="16249" y="15658"/>
                  <a:pt x="16321" y="15726"/>
                </a:cubicBezTo>
              </a:path>
              <a:path w="2755" h="4714">
                <a:moveTo>
                  <a:pt x="15553" y="14387"/>
                </a:moveTo>
                <a:cubicBezTo>
                  <a:pt x="15357" y="14791"/>
                  <a:pt x="15086" y="15141"/>
                  <a:pt x="14784" y="15478"/>
                </a:cubicBezTo>
                <a:cubicBezTo>
                  <a:pt x="14704" y="15557"/>
                  <a:pt x="14658" y="15615"/>
                  <a:pt x="14709" y="15528"/>
                </a:cubicBezTo>
              </a:path>
              <a:path w="2755" h="4714">
                <a:moveTo>
                  <a:pt x="15007" y="13593"/>
                </a:moveTo>
                <a:cubicBezTo>
                  <a:pt x="15060" y="13503"/>
                  <a:pt x="15076" y="13476"/>
                  <a:pt x="15180" y="13444"/>
                </a:cubicBezTo>
                <a:cubicBezTo>
                  <a:pt x="15166" y="13589"/>
                  <a:pt x="15141" y="13682"/>
                  <a:pt x="15081" y="13816"/>
                </a:cubicBezTo>
                <a:cubicBezTo>
                  <a:pt x="15259" y="13738"/>
                  <a:pt x="15439" y="13879"/>
                  <a:pt x="15230" y="14064"/>
                </a:cubicBezTo>
                <a:cubicBezTo>
                  <a:pt x="15108" y="14172"/>
                  <a:pt x="14967" y="14145"/>
                  <a:pt x="14833" y="14114"/>
                </a:cubicBezTo>
              </a:path>
              <a:path w="2755" h="4714">
                <a:moveTo>
                  <a:pt x="17438" y="15751"/>
                </a:moveTo>
                <a:cubicBezTo>
                  <a:pt x="17258" y="16087"/>
                  <a:pt x="17066" y="16409"/>
                  <a:pt x="16842" y="16718"/>
                </a:cubicBezTo>
                <a:cubicBezTo>
                  <a:pt x="16834" y="16726"/>
                  <a:pt x="16826" y="16735"/>
                  <a:pt x="16818" y="16743"/>
                </a:cubicBezTo>
              </a:path>
              <a:path w="2755" h="4714">
                <a:moveTo>
                  <a:pt x="17165" y="16917"/>
                </a:moveTo>
                <a:cubicBezTo>
                  <a:pt x="17124" y="16958"/>
                  <a:pt x="17110" y="16988"/>
                  <a:pt x="17115" y="17041"/>
                </a:cubicBezTo>
                <a:cubicBezTo>
                  <a:pt x="17199" y="16872"/>
                  <a:pt x="17331" y="16846"/>
                  <a:pt x="17314" y="17115"/>
                </a:cubicBezTo>
                <a:cubicBezTo>
                  <a:pt x="17300" y="17332"/>
                  <a:pt x="17186" y="17517"/>
                  <a:pt x="17016" y="17636"/>
                </a:cubicBezTo>
                <a:cubicBezTo>
                  <a:pt x="16990" y="17470"/>
                  <a:pt x="17020" y="17379"/>
                  <a:pt x="17214" y="17388"/>
                </a:cubicBezTo>
                <a:cubicBezTo>
                  <a:pt x="17315" y="17408"/>
                  <a:pt x="17345" y="17395"/>
                  <a:pt x="17363" y="174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4960" y="4749840"/>
            <a:ext cx="1089000" cy="1608120"/>
          </a:xfrm>
          <a:custGeom>
            <a:avLst/>
            <a:gdLst/>
            <a:ahLst/>
            <a:rect l="l" t="t" r="r" b="b"/>
            <a:pathLst>
              <a:path w="3027" h="4466">
                <a:moveTo>
                  <a:pt x="16421" y="15429"/>
                </a:moveTo>
                <a:cubicBezTo>
                  <a:pt x="16224" y="15601"/>
                  <a:pt x="16044" y="15795"/>
                  <a:pt x="15850" y="15974"/>
                </a:cubicBezTo>
                <a:cubicBezTo>
                  <a:pt x="15742" y="16073"/>
                  <a:pt x="16283" y="15536"/>
                  <a:pt x="16346" y="15478"/>
                </a:cubicBezTo>
                <a:cubicBezTo>
                  <a:pt x="16396" y="15428"/>
                  <a:pt x="16445" y="15379"/>
                  <a:pt x="16495" y="15329"/>
                </a:cubicBezTo>
                <a:cubicBezTo>
                  <a:pt x="16512" y="15313"/>
                  <a:pt x="16528" y="15296"/>
                  <a:pt x="16545" y="15280"/>
                </a:cubicBezTo>
                <a:cubicBezTo>
                  <a:pt x="16332" y="15468"/>
                  <a:pt x="16118" y="15668"/>
                  <a:pt x="15900" y="15850"/>
                </a:cubicBezTo>
                <a:cubicBezTo>
                  <a:pt x="15883" y="15858"/>
                  <a:pt x="15867" y="15867"/>
                  <a:pt x="15850" y="15875"/>
                </a:cubicBezTo>
                <a:cubicBezTo>
                  <a:pt x="16033" y="15677"/>
                  <a:pt x="16649" y="15161"/>
                  <a:pt x="16421" y="15304"/>
                </a:cubicBezTo>
                <a:cubicBezTo>
                  <a:pt x="16363" y="15354"/>
                  <a:pt x="16305" y="15403"/>
                  <a:pt x="16247" y="15453"/>
                </a:cubicBezTo>
              </a:path>
              <a:path w="3027" h="4466">
                <a:moveTo>
                  <a:pt x="17512" y="14188"/>
                </a:moveTo>
                <a:cubicBezTo>
                  <a:pt x="17442" y="14422"/>
                  <a:pt x="17208" y="14654"/>
                  <a:pt x="17066" y="14858"/>
                </a:cubicBezTo>
                <a:cubicBezTo>
                  <a:pt x="16950" y="15032"/>
                  <a:pt x="16933" y="15057"/>
                  <a:pt x="16867" y="15156"/>
                </a:cubicBezTo>
              </a:path>
              <a:path w="3027" h="4466">
                <a:moveTo>
                  <a:pt x="17041" y="13196"/>
                </a:moveTo>
                <a:cubicBezTo>
                  <a:pt x="16997" y="13384"/>
                  <a:pt x="17016" y="13593"/>
                  <a:pt x="17016" y="13791"/>
                </a:cubicBezTo>
                <a:cubicBezTo>
                  <a:pt x="17016" y="13808"/>
                  <a:pt x="17016" y="13824"/>
                  <a:pt x="17016" y="13841"/>
                </a:cubicBezTo>
              </a:path>
              <a:path w="3027" h="4466">
                <a:moveTo>
                  <a:pt x="15677" y="15825"/>
                </a:moveTo>
                <a:cubicBezTo>
                  <a:pt x="15369" y="16054"/>
                  <a:pt x="15100" y="16325"/>
                  <a:pt x="14784" y="16545"/>
                </a:cubicBezTo>
                <a:cubicBezTo>
                  <a:pt x="14664" y="16629"/>
                  <a:pt x="14622" y="16625"/>
                  <a:pt x="14536" y="16718"/>
                </a:cubicBezTo>
                <a:cubicBezTo>
                  <a:pt x="14511" y="16743"/>
                  <a:pt x="14503" y="16751"/>
                  <a:pt x="14486" y="16768"/>
                </a:cubicBezTo>
              </a:path>
              <a:path w="3027" h="4466">
                <a:moveTo>
                  <a:pt x="14982" y="16892"/>
                </a:moveTo>
                <a:cubicBezTo>
                  <a:pt x="14972" y="17042"/>
                  <a:pt x="14956" y="17146"/>
                  <a:pt x="14932" y="17289"/>
                </a:cubicBezTo>
                <a:cubicBezTo>
                  <a:pt x="15028" y="17272"/>
                  <a:pt x="15095" y="17238"/>
                  <a:pt x="15180" y="17190"/>
                </a:cubicBezTo>
              </a:path>
              <a:path w="3027" h="4466">
                <a:moveTo>
                  <a:pt x="15131" y="16917"/>
                </a:moveTo>
                <a:cubicBezTo>
                  <a:pt x="15131" y="17151"/>
                  <a:pt x="15124" y="17379"/>
                  <a:pt x="15106" y="17611"/>
                </a:cubicBezTo>
                <a:cubicBezTo>
                  <a:pt x="15106" y="17628"/>
                  <a:pt x="15106" y="17644"/>
                  <a:pt x="15106" y="176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07080" y="4848120"/>
            <a:ext cx="706680" cy="1251000"/>
          </a:xfrm>
          <a:custGeom>
            <a:avLst/>
            <a:gdLst/>
            <a:ahLst/>
            <a:rect l="l" t="t" r="r" b="b"/>
            <a:pathLst>
              <a:path w="1961" h="3474">
                <a:moveTo>
                  <a:pt x="19100" y="14412"/>
                </a:moveTo>
                <a:cubicBezTo>
                  <a:pt x="19213" y="14256"/>
                  <a:pt x="19443" y="14132"/>
                  <a:pt x="19298" y="14486"/>
                </a:cubicBezTo>
                <a:cubicBezTo>
                  <a:pt x="19265" y="14536"/>
                  <a:pt x="19232" y="14585"/>
                  <a:pt x="19199" y="14635"/>
                </a:cubicBezTo>
                <a:cubicBezTo>
                  <a:pt x="19182" y="14651"/>
                  <a:pt x="19166" y="14668"/>
                  <a:pt x="19149" y="14684"/>
                </a:cubicBezTo>
                <a:cubicBezTo>
                  <a:pt x="19318" y="14517"/>
                  <a:pt x="19427" y="14731"/>
                  <a:pt x="19348" y="14932"/>
                </a:cubicBezTo>
                <a:cubicBezTo>
                  <a:pt x="19243" y="15201"/>
                  <a:pt x="19036" y="15178"/>
                  <a:pt x="18901" y="15007"/>
                </a:cubicBezTo>
              </a:path>
              <a:path w="1961" h="3474">
                <a:moveTo>
                  <a:pt x="18752" y="15528"/>
                </a:moveTo>
                <a:cubicBezTo>
                  <a:pt x="18953" y="15498"/>
                  <a:pt x="19493" y="15295"/>
                  <a:pt x="19670" y="15379"/>
                </a:cubicBezTo>
                <a:cubicBezTo>
                  <a:pt x="19670" y="15404"/>
                  <a:pt x="19670" y="15428"/>
                  <a:pt x="19670" y="15453"/>
                </a:cubicBezTo>
              </a:path>
              <a:path w="1961" h="3474">
                <a:moveTo>
                  <a:pt x="19298" y="15925"/>
                </a:moveTo>
                <a:cubicBezTo>
                  <a:pt x="19357" y="15749"/>
                  <a:pt x="19041" y="15977"/>
                  <a:pt x="18976" y="16073"/>
                </a:cubicBezTo>
                <a:cubicBezTo>
                  <a:pt x="18917" y="16160"/>
                  <a:pt x="19231" y="16285"/>
                  <a:pt x="19224" y="16421"/>
                </a:cubicBezTo>
                <a:cubicBezTo>
                  <a:pt x="19207" y="16454"/>
                  <a:pt x="19191" y="16487"/>
                  <a:pt x="19174" y="16520"/>
                </a:cubicBezTo>
                <a:cubicBezTo>
                  <a:pt x="19125" y="16264"/>
                  <a:pt x="19202" y="16157"/>
                  <a:pt x="19348" y="15949"/>
                </a:cubicBezTo>
              </a:path>
              <a:path w="1961" h="3474">
                <a:moveTo>
                  <a:pt x="20241" y="15429"/>
                </a:moveTo>
                <a:cubicBezTo>
                  <a:pt x="20338" y="15287"/>
                  <a:pt x="20300" y="15257"/>
                  <a:pt x="20290" y="15056"/>
                </a:cubicBezTo>
                <a:cubicBezTo>
                  <a:pt x="20275" y="14742"/>
                  <a:pt x="20353" y="14387"/>
                  <a:pt x="20241" y="14089"/>
                </a:cubicBezTo>
                <a:cubicBezTo>
                  <a:pt x="20171" y="13904"/>
                  <a:pt x="20013" y="13676"/>
                  <a:pt x="19844" y="13568"/>
                </a:cubicBezTo>
                <a:cubicBezTo>
                  <a:pt x="19656" y="13448"/>
                  <a:pt x="19435" y="13453"/>
                  <a:pt x="19224" y="13494"/>
                </a:cubicBezTo>
                <a:cubicBezTo>
                  <a:pt x="18989" y="13540"/>
                  <a:pt x="18766" y="13722"/>
                  <a:pt x="18628" y="13915"/>
                </a:cubicBezTo>
                <a:cubicBezTo>
                  <a:pt x="18485" y="14115"/>
                  <a:pt x="18442" y="14375"/>
                  <a:pt x="18405" y="14610"/>
                </a:cubicBezTo>
                <a:cubicBezTo>
                  <a:pt x="18363" y="14876"/>
                  <a:pt x="18350" y="15111"/>
                  <a:pt x="18380" y="15379"/>
                </a:cubicBezTo>
                <a:cubicBezTo>
                  <a:pt x="18405" y="15601"/>
                  <a:pt x="18460" y="15807"/>
                  <a:pt x="18504" y="16024"/>
                </a:cubicBezTo>
                <a:cubicBezTo>
                  <a:pt x="18539" y="16197"/>
                  <a:pt x="18552" y="16373"/>
                  <a:pt x="18579" y="16545"/>
                </a:cubicBezTo>
                <a:cubicBezTo>
                  <a:pt x="18595" y="16648"/>
                  <a:pt x="18675" y="16794"/>
                  <a:pt x="18752" y="16867"/>
                </a:cubicBezTo>
                <a:cubicBezTo>
                  <a:pt x="18914" y="17022"/>
                  <a:pt x="19101" y="16904"/>
                  <a:pt x="19273" y="16842"/>
                </a:cubicBezTo>
                <a:cubicBezTo>
                  <a:pt x="19492" y="16764"/>
                  <a:pt x="19709" y="16667"/>
                  <a:pt x="19893" y="16520"/>
                </a:cubicBezTo>
                <a:cubicBezTo>
                  <a:pt x="20038" y="16405"/>
                  <a:pt x="20133" y="16272"/>
                  <a:pt x="20191" y="16098"/>
                </a:cubicBezTo>
                <a:cubicBezTo>
                  <a:pt x="20243" y="15942"/>
                  <a:pt x="20286" y="15819"/>
                  <a:pt x="20290" y="15652"/>
                </a:cubicBezTo>
                <a:cubicBezTo>
                  <a:pt x="20295" y="15462"/>
                  <a:pt x="20290" y="15271"/>
                  <a:pt x="20290" y="15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cript MT Bold"/>
              </a:rPr>
              <a:t>Objective:  Students will multiply fractions and mixed number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14400" y="1676520"/>
          <a:ext cx="1371600" cy="128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137160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733920" y="1614600"/>
          <a:ext cx="1371600" cy="12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614600"/>
                    <a:ext cx="137160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6553080" y="1600200"/>
          <a:ext cx="1600200" cy="123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1600200"/>
                    <a:ext cx="160020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66840" y="1393920"/>
            <a:ext cx="1776240" cy="1884240"/>
          </a:xfrm>
          <a:custGeom>
            <a:avLst/>
            <a:gdLst/>
            <a:ahLst/>
            <a:rect l="l" t="t" r="r" b="b"/>
            <a:pathLst>
              <a:path w="4937" h="5234">
                <a:moveTo>
                  <a:pt x="1315" y="4390"/>
                </a:moveTo>
                <a:cubicBezTo>
                  <a:pt x="1378" y="4538"/>
                  <a:pt x="1383" y="4576"/>
                  <a:pt x="1463" y="4638"/>
                </a:cubicBezTo>
              </a:path>
              <a:path w="4937" h="5234">
                <a:moveTo>
                  <a:pt x="1389" y="5060"/>
                </a:moveTo>
                <a:cubicBezTo>
                  <a:pt x="1646" y="4998"/>
                  <a:pt x="1899" y="4922"/>
                  <a:pt x="1885" y="4589"/>
                </a:cubicBezTo>
                <a:cubicBezTo>
                  <a:pt x="1869" y="4197"/>
                  <a:pt x="1709" y="4066"/>
                  <a:pt x="1439" y="3870"/>
                </a:cubicBezTo>
                <a:cubicBezTo>
                  <a:pt x="925" y="4203"/>
                  <a:pt x="991" y="4360"/>
                  <a:pt x="1215" y="4911"/>
                </a:cubicBezTo>
              </a:path>
              <a:path w="4937" h="5234">
                <a:moveTo>
                  <a:pt x="3746" y="6176"/>
                </a:moveTo>
                <a:cubicBezTo>
                  <a:pt x="3794" y="6320"/>
                  <a:pt x="4098" y="6396"/>
                  <a:pt x="4266" y="6499"/>
                </a:cubicBezTo>
                <a:cubicBezTo>
                  <a:pt x="4382" y="6570"/>
                  <a:pt x="4489" y="6657"/>
                  <a:pt x="4589" y="6747"/>
                </a:cubicBezTo>
                <a:cubicBezTo>
                  <a:pt x="4431" y="6629"/>
                  <a:pt x="4260" y="6507"/>
                  <a:pt x="4093" y="6400"/>
                </a:cubicBezTo>
                <a:cubicBezTo>
                  <a:pt x="3971" y="6322"/>
                  <a:pt x="3884" y="6308"/>
                  <a:pt x="3770" y="6251"/>
                </a:cubicBezTo>
                <a:cubicBezTo>
                  <a:pt x="3946" y="6410"/>
                  <a:pt x="4139" y="6546"/>
                  <a:pt x="4341" y="6672"/>
                </a:cubicBezTo>
                <a:cubicBezTo>
                  <a:pt x="4492" y="6759"/>
                  <a:pt x="4530" y="6778"/>
                  <a:pt x="4614" y="6846"/>
                </a:cubicBezTo>
                <a:cubicBezTo>
                  <a:pt x="4383" y="6763"/>
                  <a:pt x="4165" y="6554"/>
                  <a:pt x="3944" y="6424"/>
                </a:cubicBezTo>
                <a:cubicBezTo>
                  <a:pt x="3894" y="6399"/>
                  <a:pt x="3845" y="6375"/>
                  <a:pt x="3795" y="6350"/>
                </a:cubicBezTo>
              </a:path>
              <a:path w="4937" h="5234">
                <a:moveTo>
                  <a:pt x="3497" y="4837"/>
                </a:moveTo>
                <a:cubicBezTo>
                  <a:pt x="3410" y="5263"/>
                  <a:pt x="3254" y="5641"/>
                  <a:pt x="3051" y="6028"/>
                </a:cubicBezTo>
                <a:cubicBezTo>
                  <a:pt x="2989" y="6146"/>
                  <a:pt x="2912" y="6255"/>
                  <a:pt x="2853" y="6375"/>
                </a:cubicBezTo>
              </a:path>
              <a:path w="4937" h="5234">
                <a:moveTo>
                  <a:pt x="2977" y="3894"/>
                </a:moveTo>
                <a:cubicBezTo>
                  <a:pt x="2932" y="4134"/>
                  <a:pt x="2978" y="4397"/>
                  <a:pt x="3026" y="4638"/>
                </a:cubicBezTo>
                <a:cubicBezTo>
                  <a:pt x="3063" y="4765"/>
                  <a:pt x="3045" y="4789"/>
                  <a:pt x="3101" y="4837"/>
                </a:cubicBezTo>
              </a:path>
              <a:path w="4937" h="5234">
                <a:moveTo>
                  <a:pt x="5953" y="6722"/>
                </a:moveTo>
                <a:cubicBezTo>
                  <a:pt x="5689" y="6988"/>
                  <a:pt x="5458" y="7264"/>
                  <a:pt x="5234" y="7565"/>
                </a:cubicBezTo>
                <a:cubicBezTo>
                  <a:pt x="5132" y="7702"/>
                  <a:pt x="5062" y="7852"/>
                  <a:pt x="4961" y="7987"/>
                </a:cubicBezTo>
              </a:path>
              <a:path w="4937" h="5234">
                <a:moveTo>
                  <a:pt x="3746" y="6871"/>
                </a:moveTo>
                <a:cubicBezTo>
                  <a:pt x="3792" y="6682"/>
                  <a:pt x="4010" y="6516"/>
                  <a:pt x="4142" y="6375"/>
                </a:cubicBezTo>
                <a:cubicBezTo>
                  <a:pt x="4615" y="5902"/>
                  <a:pt x="4016" y="6557"/>
                  <a:pt x="3944" y="6648"/>
                </a:cubicBezTo>
                <a:cubicBezTo>
                  <a:pt x="3824" y="6800"/>
                  <a:pt x="3326" y="7372"/>
                  <a:pt x="3795" y="6772"/>
                </a:cubicBezTo>
                <a:cubicBezTo>
                  <a:pt x="3990" y="6522"/>
                  <a:pt x="4208" y="6292"/>
                  <a:pt x="4415" y="6052"/>
                </a:cubicBezTo>
                <a:cubicBezTo>
                  <a:pt x="4305" y="6189"/>
                  <a:pt x="3470" y="7166"/>
                  <a:pt x="3894" y="6623"/>
                </a:cubicBezTo>
                <a:cubicBezTo>
                  <a:pt x="3918" y="6593"/>
                  <a:pt x="4702" y="5770"/>
                  <a:pt x="4316" y="6226"/>
                </a:cubicBezTo>
                <a:cubicBezTo>
                  <a:pt x="4057" y="6506"/>
                  <a:pt x="3988" y="6566"/>
                  <a:pt x="3870" y="6772"/>
                </a:cubicBezTo>
              </a:path>
              <a:path w="4937" h="5234">
                <a:moveTo>
                  <a:pt x="3597" y="7094"/>
                </a:moveTo>
                <a:cubicBezTo>
                  <a:pt x="3305" y="7373"/>
                  <a:pt x="3054" y="7693"/>
                  <a:pt x="2803" y="8012"/>
                </a:cubicBezTo>
              </a:path>
              <a:path w="4937" h="5234">
                <a:moveTo>
                  <a:pt x="3225" y="8434"/>
                </a:moveTo>
                <a:cubicBezTo>
                  <a:pt x="3225" y="8657"/>
                  <a:pt x="3225" y="8880"/>
                  <a:pt x="3225" y="91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55880" y="3017880"/>
            <a:ext cx="152280" cy="277920"/>
          </a:xfrm>
          <a:custGeom>
            <a:avLst/>
            <a:gdLst/>
            <a:ahLst/>
            <a:rect l="l" t="t" r="r" b="b"/>
            <a:pathLst>
              <a:path w="423" h="770">
                <a:moveTo>
                  <a:pt x="5829" y="8384"/>
                </a:moveTo>
                <a:cubicBezTo>
                  <a:pt x="5752" y="8407"/>
                  <a:pt x="5500" y="8452"/>
                  <a:pt x="5457" y="8508"/>
                </a:cubicBezTo>
                <a:cubicBezTo>
                  <a:pt x="5397" y="8586"/>
                  <a:pt x="5467" y="8676"/>
                  <a:pt x="5482" y="8756"/>
                </a:cubicBezTo>
                <a:cubicBezTo>
                  <a:pt x="5570" y="8721"/>
                  <a:pt x="5660" y="8657"/>
                  <a:pt x="5755" y="8607"/>
                </a:cubicBezTo>
                <a:cubicBezTo>
                  <a:pt x="5914" y="8799"/>
                  <a:pt x="5832" y="8949"/>
                  <a:pt x="5631" y="9103"/>
                </a:cubicBezTo>
                <a:cubicBezTo>
                  <a:pt x="5541" y="9148"/>
                  <a:pt x="5518" y="9168"/>
                  <a:pt x="5457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81800" y="1285920"/>
            <a:ext cx="865080" cy="1278000"/>
          </a:xfrm>
          <a:custGeom>
            <a:avLst/>
            <a:gdLst/>
            <a:ahLst/>
            <a:rect l="l" t="t" r="r" b="b"/>
            <a:pathLst>
              <a:path w="2407" h="3548">
                <a:moveTo>
                  <a:pt x="17289" y="4043"/>
                </a:moveTo>
                <a:cubicBezTo>
                  <a:pt x="17439" y="4005"/>
                  <a:pt x="17371" y="4109"/>
                  <a:pt x="17338" y="4217"/>
                </a:cubicBezTo>
                <a:cubicBezTo>
                  <a:pt x="17462" y="4234"/>
                  <a:pt x="17587" y="4312"/>
                  <a:pt x="17413" y="4440"/>
                </a:cubicBezTo>
                <a:cubicBezTo>
                  <a:pt x="17307" y="4483"/>
                  <a:pt x="17285" y="4499"/>
                  <a:pt x="17214" y="4490"/>
                </a:cubicBezTo>
              </a:path>
              <a:path w="2407" h="3548">
                <a:moveTo>
                  <a:pt x="17239" y="4812"/>
                </a:moveTo>
                <a:cubicBezTo>
                  <a:pt x="17502" y="4772"/>
                  <a:pt x="17783" y="4680"/>
                  <a:pt x="17884" y="4390"/>
                </a:cubicBezTo>
                <a:cubicBezTo>
                  <a:pt x="18010" y="4028"/>
                  <a:pt x="17661" y="3633"/>
                  <a:pt x="17314" y="3572"/>
                </a:cubicBezTo>
                <a:cubicBezTo>
                  <a:pt x="16728" y="3468"/>
                  <a:pt x="16403" y="3981"/>
                  <a:pt x="16520" y="4514"/>
                </a:cubicBezTo>
                <a:cubicBezTo>
                  <a:pt x="16693" y="4810"/>
                  <a:pt x="16748" y="4908"/>
                  <a:pt x="17016" y="4911"/>
                </a:cubicBezTo>
              </a:path>
              <a:path w="2407" h="3548">
                <a:moveTo>
                  <a:pt x="15577" y="5953"/>
                </a:moveTo>
                <a:cubicBezTo>
                  <a:pt x="15644" y="5968"/>
                  <a:pt x="15679" y="5961"/>
                  <a:pt x="15751" y="5953"/>
                </a:cubicBezTo>
              </a:path>
              <a:path w="2407" h="3548">
                <a:moveTo>
                  <a:pt x="15503" y="6424"/>
                </a:moveTo>
                <a:cubicBezTo>
                  <a:pt x="15576" y="6396"/>
                  <a:pt x="15638" y="6371"/>
                  <a:pt x="15701" y="6325"/>
                </a:cubicBezTo>
              </a:path>
              <a:path w="2407" h="3548">
                <a:moveTo>
                  <a:pt x="16024" y="5556"/>
                </a:moveTo>
                <a:cubicBezTo>
                  <a:pt x="16079" y="5593"/>
                  <a:pt x="16049" y="6278"/>
                  <a:pt x="16049" y="6499"/>
                </a:cubicBezTo>
                <a:cubicBezTo>
                  <a:pt x="16049" y="6706"/>
                  <a:pt x="16049" y="6912"/>
                  <a:pt x="16049" y="7119"/>
                </a:cubicBezTo>
              </a:path>
              <a:path w="2407" h="3548">
                <a:moveTo>
                  <a:pt x="16396" y="5457"/>
                </a:moveTo>
                <a:cubicBezTo>
                  <a:pt x="16423" y="5674"/>
                  <a:pt x="16446" y="5884"/>
                  <a:pt x="16446" y="6102"/>
                </a:cubicBezTo>
              </a:path>
              <a:path w="2407" h="3548">
                <a:moveTo>
                  <a:pt x="16297" y="6350"/>
                </a:moveTo>
                <a:cubicBezTo>
                  <a:pt x="16438" y="6274"/>
                  <a:pt x="16543" y="6220"/>
                  <a:pt x="16694" y="6176"/>
                </a:cubicBezTo>
              </a:path>
              <a:path w="2407" h="3548">
                <a:moveTo>
                  <a:pt x="16470" y="6573"/>
                </a:moveTo>
                <a:cubicBezTo>
                  <a:pt x="16462" y="6598"/>
                  <a:pt x="16454" y="6623"/>
                  <a:pt x="16446" y="6648"/>
                </a:cubicBezTo>
                <a:cubicBezTo>
                  <a:pt x="16579" y="6648"/>
                  <a:pt x="16659" y="6631"/>
                  <a:pt x="16644" y="6796"/>
                </a:cubicBezTo>
                <a:cubicBezTo>
                  <a:pt x="16629" y="6961"/>
                  <a:pt x="16539" y="6911"/>
                  <a:pt x="16421" y="6896"/>
                </a:cubicBezTo>
              </a:path>
              <a:path w="2407" h="3548">
                <a:moveTo>
                  <a:pt x="16470" y="6548"/>
                </a:moveTo>
                <a:cubicBezTo>
                  <a:pt x="16577" y="6495"/>
                  <a:pt x="16669" y="6437"/>
                  <a:pt x="16768" y="63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24200" y="1347840"/>
            <a:ext cx="1473120" cy="1957320"/>
          </a:xfrm>
          <a:custGeom>
            <a:avLst/>
            <a:gdLst/>
            <a:ahLst/>
            <a:rect l="l" t="t" r="r" b="b"/>
            <a:pathLst>
              <a:path w="4093" h="5433">
                <a:moveTo>
                  <a:pt x="11733" y="6325"/>
                </a:moveTo>
                <a:cubicBezTo>
                  <a:pt x="11637" y="6206"/>
                  <a:pt x="11874" y="6345"/>
                  <a:pt x="12005" y="6424"/>
                </a:cubicBezTo>
                <a:cubicBezTo>
                  <a:pt x="12067" y="6462"/>
                  <a:pt x="12446" y="6744"/>
                  <a:pt x="12427" y="6722"/>
                </a:cubicBezTo>
                <a:cubicBezTo>
                  <a:pt x="12247" y="6513"/>
                  <a:pt x="12064" y="6308"/>
                  <a:pt x="11881" y="6102"/>
                </a:cubicBezTo>
                <a:cubicBezTo>
                  <a:pt x="11536" y="5872"/>
                  <a:pt x="12300" y="6461"/>
                  <a:pt x="12402" y="6548"/>
                </a:cubicBezTo>
                <a:cubicBezTo>
                  <a:pt x="12595" y="6713"/>
                  <a:pt x="12060" y="6278"/>
                  <a:pt x="11857" y="6127"/>
                </a:cubicBezTo>
                <a:cubicBezTo>
                  <a:pt x="11667" y="5994"/>
                  <a:pt x="11644" y="5975"/>
                  <a:pt x="11534" y="5904"/>
                </a:cubicBezTo>
                <a:cubicBezTo>
                  <a:pt x="11820" y="6131"/>
                  <a:pt x="12108" y="6357"/>
                  <a:pt x="12402" y="6573"/>
                </a:cubicBezTo>
              </a:path>
              <a:path w="4093" h="5433">
                <a:moveTo>
                  <a:pt x="11410" y="4713"/>
                </a:moveTo>
                <a:cubicBezTo>
                  <a:pt x="11172" y="4929"/>
                  <a:pt x="10900" y="5318"/>
                  <a:pt x="10716" y="5581"/>
                </a:cubicBezTo>
                <a:cubicBezTo>
                  <a:pt x="10592" y="5758"/>
                  <a:pt x="10469" y="5970"/>
                  <a:pt x="10344" y="6152"/>
                </a:cubicBezTo>
              </a:path>
              <a:path w="4093" h="5433">
                <a:moveTo>
                  <a:pt x="10939" y="3845"/>
                </a:moveTo>
                <a:cubicBezTo>
                  <a:pt x="10939" y="3769"/>
                  <a:pt x="10940" y="3744"/>
                  <a:pt x="11013" y="3746"/>
                </a:cubicBezTo>
                <a:cubicBezTo>
                  <a:pt x="11127" y="3907"/>
                  <a:pt x="11061" y="3982"/>
                  <a:pt x="10964" y="4142"/>
                </a:cubicBezTo>
                <a:cubicBezTo>
                  <a:pt x="11132" y="4004"/>
                  <a:pt x="11270" y="4120"/>
                  <a:pt x="11112" y="4341"/>
                </a:cubicBezTo>
                <a:cubicBezTo>
                  <a:pt x="11021" y="4468"/>
                  <a:pt x="10876" y="4473"/>
                  <a:pt x="10740" y="4490"/>
                </a:cubicBezTo>
              </a:path>
              <a:path w="4093" h="5433">
                <a:moveTo>
                  <a:pt x="13791" y="6424"/>
                </a:moveTo>
                <a:cubicBezTo>
                  <a:pt x="13605" y="6743"/>
                  <a:pt x="13332" y="6996"/>
                  <a:pt x="13072" y="7268"/>
                </a:cubicBezTo>
                <a:cubicBezTo>
                  <a:pt x="12968" y="7377"/>
                  <a:pt x="12911" y="7451"/>
                  <a:pt x="12824" y="7565"/>
                </a:cubicBezTo>
              </a:path>
              <a:path w="4093" h="5433">
                <a:moveTo>
                  <a:pt x="13494" y="7962"/>
                </a:moveTo>
                <a:cubicBezTo>
                  <a:pt x="13430" y="7989"/>
                  <a:pt x="13220" y="8043"/>
                  <a:pt x="13196" y="8136"/>
                </a:cubicBezTo>
                <a:cubicBezTo>
                  <a:pt x="13196" y="8227"/>
                  <a:pt x="13196" y="8252"/>
                  <a:pt x="13196" y="8310"/>
                </a:cubicBezTo>
                <a:cubicBezTo>
                  <a:pt x="13305" y="8266"/>
                  <a:pt x="13367" y="8226"/>
                  <a:pt x="13494" y="8186"/>
                </a:cubicBezTo>
                <a:cubicBezTo>
                  <a:pt x="13541" y="8354"/>
                  <a:pt x="13472" y="8556"/>
                  <a:pt x="13246" y="8582"/>
                </a:cubicBezTo>
                <a:cubicBezTo>
                  <a:pt x="13180" y="8574"/>
                  <a:pt x="13113" y="8566"/>
                  <a:pt x="13047" y="8558"/>
                </a:cubicBezTo>
              </a:path>
              <a:path w="4093" h="5433">
                <a:moveTo>
                  <a:pt x="11658" y="6672"/>
                </a:moveTo>
                <a:cubicBezTo>
                  <a:pt x="11865" y="6436"/>
                  <a:pt x="12126" y="6266"/>
                  <a:pt x="12378" y="6077"/>
                </a:cubicBezTo>
                <a:cubicBezTo>
                  <a:pt x="12411" y="6052"/>
                  <a:pt x="12444" y="6028"/>
                  <a:pt x="12477" y="6003"/>
                </a:cubicBezTo>
                <a:cubicBezTo>
                  <a:pt x="12226" y="6235"/>
                  <a:pt x="11778" y="6976"/>
                  <a:pt x="11683" y="6648"/>
                </a:cubicBezTo>
                <a:cubicBezTo>
                  <a:pt x="11592" y="6332"/>
                  <a:pt x="12577" y="5691"/>
                  <a:pt x="12378" y="5953"/>
                </a:cubicBezTo>
                <a:cubicBezTo>
                  <a:pt x="12213" y="6170"/>
                  <a:pt x="12010" y="6365"/>
                  <a:pt x="11832" y="6573"/>
                </a:cubicBezTo>
                <a:cubicBezTo>
                  <a:pt x="11963" y="6442"/>
                  <a:pt x="12080" y="6314"/>
                  <a:pt x="12204" y="6176"/>
                </a:cubicBezTo>
              </a:path>
              <a:path w="4093" h="5433">
                <a:moveTo>
                  <a:pt x="10641" y="7541"/>
                </a:moveTo>
                <a:cubicBezTo>
                  <a:pt x="10814" y="7281"/>
                  <a:pt x="11071" y="7097"/>
                  <a:pt x="11286" y="6871"/>
                </a:cubicBezTo>
                <a:cubicBezTo>
                  <a:pt x="11397" y="6754"/>
                  <a:pt x="11495" y="6636"/>
                  <a:pt x="11609" y="6524"/>
                </a:cubicBezTo>
              </a:path>
              <a:path w="4093" h="5433">
                <a:moveTo>
                  <a:pt x="10666" y="7913"/>
                </a:moveTo>
                <a:cubicBezTo>
                  <a:pt x="10692" y="8126"/>
                  <a:pt x="10702" y="8342"/>
                  <a:pt x="10716" y="8558"/>
                </a:cubicBezTo>
              </a:path>
              <a:path w="4093" h="5433">
                <a:moveTo>
                  <a:pt x="12502" y="6102"/>
                </a:moveTo>
                <a:cubicBezTo>
                  <a:pt x="12713" y="5784"/>
                  <a:pt x="12906" y="5459"/>
                  <a:pt x="13146" y="5159"/>
                </a:cubicBezTo>
                <a:cubicBezTo>
                  <a:pt x="13247" y="5033"/>
                  <a:pt x="13356" y="4925"/>
                  <a:pt x="13469" y="4812"/>
                </a:cubicBezTo>
              </a:path>
              <a:path w="4093" h="5433">
                <a:moveTo>
                  <a:pt x="12824" y="3944"/>
                </a:moveTo>
                <a:cubicBezTo>
                  <a:pt x="12779" y="3989"/>
                  <a:pt x="12762" y="4013"/>
                  <a:pt x="12774" y="3944"/>
                </a:cubicBezTo>
                <a:cubicBezTo>
                  <a:pt x="12970" y="4009"/>
                  <a:pt x="12922" y="4228"/>
                  <a:pt x="12824" y="4390"/>
                </a:cubicBezTo>
                <a:cubicBezTo>
                  <a:pt x="12760" y="4496"/>
                  <a:pt x="12667" y="4552"/>
                  <a:pt x="12576" y="4539"/>
                </a:cubicBezTo>
                <a:cubicBezTo>
                  <a:pt x="12616" y="4377"/>
                  <a:pt x="12741" y="4302"/>
                  <a:pt x="12923" y="4366"/>
                </a:cubicBezTo>
                <a:cubicBezTo>
                  <a:pt x="12969" y="4412"/>
                  <a:pt x="12982" y="4426"/>
                  <a:pt x="13022" y="4440"/>
                </a:cubicBezTo>
              </a:path>
              <a:path w="4093" h="5433">
                <a:moveTo>
                  <a:pt x="14436" y="8706"/>
                </a:moveTo>
                <a:cubicBezTo>
                  <a:pt x="14345" y="8818"/>
                  <a:pt x="14249" y="8938"/>
                  <a:pt x="14163" y="9054"/>
                </a:cubicBezTo>
                <a:cubicBezTo>
                  <a:pt x="14155" y="9070"/>
                  <a:pt x="14147" y="9087"/>
                  <a:pt x="14139" y="9103"/>
                </a:cubicBezTo>
              </a:path>
              <a:path w="4093" h="5433">
                <a:moveTo>
                  <a:pt x="14089" y="8930"/>
                </a:moveTo>
                <a:cubicBezTo>
                  <a:pt x="14089" y="9013"/>
                  <a:pt x="14089" y="9095"/>
                  <a:pt x="14089" y="9178"/>
                </a:cubicBezTo>
                <a:cubicBezTo>
                  <a:pt x="14193" y="9166"/>
                  <a:pt x="14244" y="9161"/>
                  <a:pt x="14337" y="91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98880" y="1241280"/>
            <a:ext cx="419040" cy="465120"/>
          </a:xfrm>
          <a:custGeom>
            <a:avLst/>
            <a:gdLst/>
            <a:ahLst/>
            <a:rect l="l" t="t" r="r" b="b"/>
            <a:pathLst>
              <a:path w="1167" h="1291">
                <a:moveTo>
                  <a:pt x="9128" y="3969"/>
                </a:moveTo>
                <a:cubicBezTo>
                  <a:pt x="9146" y="3881"/>
                  <a:pt x="9179" y="3824"/>
                  <a:pt x="9227" y="3746"/>
                </a:cubicBezTo>
                <a:cubicBezTo>
                  <a:pt x="9453" y="3845"/>
                  <a:pt x="9497" y="4021"/>
                  <a:pt x="9302" y="4242"/>
                </a:cubicBezTo>
                <a:cubicBezTo>
                  <a:pt x="9261" y="4267"/>
                  <a:pt x="9219" y="4291"/>
                  <a:pt x="9178" y="4316"/>
                </a:cubicBezTo>
                <a:cubicBezTo>
                  <a:pt x="9226" y="4122"/>
                  <a:pt x="9263" y="4080"/>
                  <a:pt x="9451" y="4093"/>
                </a:cubicBezTo>
              </a:path>
              <a:path w="1167" h="1291">
                <a:moveTo>
                  <a:pt x="9376" y="4390"/>
                </a:moveTo>
                <a:cubicBezTo>
                  <a:pt x="9649" y="4254"/>
                  <a:pt x="9876" y="4127"/>
                  <a:pt x="9723" y="3770"/>
                </a:cubicBezTo>
                <a:cubicBezTo>
                  <a:pt x="9543" y="3350"/>
                  <a:pt x="8938" y="3347"/>
                  <a:pt x="8706" y="3746"/>
                </a:cubicBezTo>
                <a:cubicBezTo>
                  <a:pt x="8435" y="4210"/>
                  <a:pt x="8710" y="4438"/>
                  <a:pt x="8979" y="47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77960" y="1320840"/>
            <a:ext cx="1127160" cy="1501560"/>
          </a:xfrm>
          <a:custGeom>
            <a:avLst/>
            <a:gdLst/>
            <a:ahLst/>
            <a:rect l="l" t="t" r="r" b="b"/>
            <a:pathLst>
              <a:path w="3127" h="4168">
                <a:moveTo>
                  <a:pt x="5928" y="4738"/>
                </a:moveTo>
                <a:cubicBezTo>
                  <a:pt x="5663" y="5097"/>
                  <a:pt x="5346" y="5411"/>
                  <a:pt x="5060" y="5755"/>
                </a:cubicBezTo>
                <a:cubicBezTo>
                  <a:pt x="4925" y="5917"/>
                  <a:pt x="4793" y="6084"/>
                  <a:pt x="4663" y="6251"/>
                </a:cubicBezTo>
              </a:path>
              <a:path w="3127" h="4168">
                <a:moveTo>
                  <a:pt x="5283" y="3795"/>
                </a:moveTo>
                <a:cubicBezTo>
                  <a:pt x="5283" y="3679"/>
                  <a:pt x="5275" y="3638"/>
                  <a:pt x="5383" y="3671"/>
                </a:cubicBezTo>
                <a:cubicBezTo>
                  <a:pt x="5447" y="3970"/>
                  <a:pt x="5383" y="4143"/>
                  <a:pt x="5159" y="4366"/>
                </a:cubicBezTo>
                <a:cubicBezTo>
                  <a:pt x="5105" y="4392"/>
                  <a:pt x="5085" y="4397"/>
                  <a:pt x="5060" y="4341"/>
                </a:cubicBezTo>
                <a:cubicBezTo>
                  <a:pt x="5128" y="4215"/>
                  <a:pt x="5254" y="4069"/>
                  <a:pt x="5432" y="4167"/>
                </a:cubicBezTo>
                <a:cubicBezTo>
                  <a:pt x="5440" y="4184"/>
                  <a:pt x="5449" y="4200"/>
                  <a:pt x="5457" y="4217"/>
                </a:cubicBezTo>
              </a:path>
              <a:path w="3127" h="4168">
                <a:moveTo>
                  <a:pt x="6226" y="6077"/>
                </a:moveTo>
                <a:cubicBezTo>
                  <a:pt x="6316" y="6077"/>
                  <a:pt x="6386" y="6069"/>
                  <a:pt x="6474" y="6052"/>
                </a:cubicBezTo>
              </a:path>
              <a:path w="3127" h="4168">
                <a:moveTo>
                  <a:pt x="6276" y="6325"/>
                </a:moveTo>
                <a:cubicBezTo>
                  <a:pt x="6346" y="6325"/>
                  <a:pt x="6371" y="6332"/>
                  <a:pt x="6424" y="6300"/>
                </a:cubicBezTo>
              </a:path>
              <a:path w="3127" h="4168">
                <a:moveTo>
                  <a:pt x="6921" y="5482"/>
                </a:moveTo>
                <a:cubicBezTo>
                  <a:pt x="6975" y="5427"/>
                  <a:pt x="6996" y="5407"/>
                  <a:pt x="7045" y="5383"/>
                </a:cubicBezTo>
                <a:cubicBezTo>
                  <a:pt x="7183" y="5600"/>
                  <a:pt x="7049" y="5730"/>
                  <a:pt x="6970" y="5953"/>
                </a:cubicBezTo>
                <a:cubicBezTo>
                  <a:pt x="6871" y="6231"/>
                  <a:pt x="6861" y="6155"/>
                  <a:pt x="6970" y="6052"/>
                </a:cubicBezTo>
                <a:cubicBezTo>
                  <a:pt x="7066" y="5961"/>
                  <a:pt x="7171" y="6045"/>
                  <a:pt x="7268" y="5978"/>
                </a:cubicBezTo>
                <a:cubicBezTo>
                  <a:pt x="7284" y="5961"/>
                  <a:pt x="7301" y="5945"/>
                  <a:pt x="7317" y="5928"/>
                </a:cubicBezTo>
              </a:path>
              <a:path w="3127" h="4168">
                <a:moveTo>
                  <a:pt x="6821" y="6350"/>
                </a:moveTo>
                <a:cubicBezTo>
                  <a:pt x="7023" y="6291"/>
                  <a:pt x="7217" y="6216"/>
                  <a:pt x="7417" y="6152"/>
                </a:cubicBezTo>
                <a:cubicBezTo>
                  <a:pt x="7425" y="6152"/>
                  <a:pt x="7433" y="6152"/>
                  <a:pt x="7441" y="6152"/>
                </a:cubicBezTo>
              </a:path>
              <a:path w="3127" h="4168">
                <a:moveTo>
                  <a:pt x="7268" y="6648"/>
                </a:moveTo>
                <a:cubicBezTo>
                  <a:pt x="7084" y="6719"/>
                  <a:pt x="6959" y="6674"/>
                  <a:pt x="6945" y="6846"/>
                </a:cubicBezTo>
                <a:cubicBezTo>
                  <a:pt x="7008" y="7056"/>
                  <a:pt x="7043" y="6806"/>
                  <a:pt x="7218" y="6846"/>
                </a:cubicBezTo>
                <a:cubicBezTo>
                  <a:pt x="7436" y="6896"/>
                  <a:pt x="7342" y="7203"/>
                  <a:pt x="7193" y="7268"/>
                </a:cubicBezTo>
                <a:cubicBezTo>
                  <a:pt x="7060" y="7290"/>
                  <a:pt x="7026" y="7303"/>
                  <a:pt x="6945" y="7268"/>
                </a:cubicBezTo>
              </a:path>
              <a:path w="3127" h="4168">
                <a:moveTo>
                  <a:pt x="6449" y="5953"/>
                </a:moveTo>
                <a:cubicBezTo>
                  <a:pt x="6440" y="6095"/>
                  <a:pt x="6424" y="6230"/>
                  <a:pt x="6424" y="6375"/>
                </a:cubicBezTo>
                <a:cubicBezTo>
                  <a:pt x="6424" y="6556"/>
                  <a:pt x="6438" y="6744"/>
                  <a:pt x="6474" y="6921"/>
                </a:cubicBezTo>
                <a:cubicBezTo>
                  <a:pt x="6504" y="7069"/>
                  <a:pt x="6541" y="7223"/>
                  <a:pt x="6573" y="7367"/>
                </a:cubicBezTo>
                <a:cubicBezTo>
                  <a:pt x="6596" y="7469"/>
                  <a:pt x="6643" y="7553"/>
                  <a:pt x="6697" y="7640"/>
                </a:cubicBezTo>
                <a:cubicBezTo>
                  <a:pt x="6753" y="7729"/>
                  <a:pt x="6861" y="7821"/>
                  <a:pt x="6970" y="7838"/>
                </a:cubicBezTo>
                <a:cubicBezTo>
                  <a:pt x="7129" y="7863"/>
                  <a:pt x="7247" y="7818"/>
                  <a:pt x="7367" y="7714"/>
                </a:cubicBezTo>
                <a:cubicBezTo>
                  <a:pt x="7549" y="7557"/>
                  <a:pt x="7644" y="7315"/>
                  <a:pt x="7714" y="7094"/>
                </a:cubicBezTo>
                <a:cubicBezTo>
                  <a:pt x="7800" y="6823"/>
                  <a:pt x="7777" y="6602"/>
                  <a:pt x="7739" y="6325"/>
                </a:cubicBezTo>
                <a:cubicBezTo>
                  <a:pt x="7708" y="6096"/>
                  <a:pt x="7650" y="5837"/>
                  <a:pt x="7541" y="5631"/>
                </a:cubicBezTo>
                <a:cubicBezTo>
                  <a:pt x="7454" y="5466"/>
                  <a:pt x="7307" y="5345"/>
                  <a:pt x="7144" y="5259"/>
                </a:cubicBezTo>
                <a:cubicBezTo>
                  <a:pt x="7070" y="5220"/>
                  <a:pt x="6875" y="5189"/>
                  <a:pt x="6796" y="5209"/>
                </a:cubicBezTo>
                <a:cubicBezTo>
                  <a:pt x="6698" y="5234"/>
                  <a:pt x="6493" y="5367"/>
                  <a:pt x="6449" y="5457"/>
                </a:cubicBezTo>
                <a:cubicBezTo>
                  <a:pt x="6355" y="5649"/>
                  <a:pt x="6297" y="5964"/>
                  <a:pt x="6300" y="6176"/>
                </a:cubicBezTo>
                <a:cubicBezTo>
                  <a:pt x="6303" y="6407"/>
                  <a:pt x="6395" y="6611"/>
                  <a:pt x="6474" y="68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80160" y="1339920"/>
            <a:ext cx="1204920" cy="1741320"/>
          </a:xfrm>
          <a:custGeom>
            <a:avLst/>
            <a:gdLst/>
            <a:ahLst/>
            <a:rect l="l" t="t" r="r" b="b"/>
            <a:pathLst>
              <a:path w="3350" h="4838">
                <a:moveTo>
                  <a:pt x="19993" y="5879"/>
                </a:moveTo>
                <a:cubicBezTo>
                  <a:pt x="20224" y="6018"/>
                  <a:pt x="20445" y="6185"/>
                  <a:pt x="20613" y="6400"/>
                </a:cubicBezTo>
                <a:cubicBezTo>
                  <a:pt x="20737" y="6559"/>
                  <a:pt x="20454" y="6298"/>
                  <a:pt x="20315" y="6152"/>
                </a:cubicBezTo>
                <a:cubicBezTo>
                  <a:pt x="20220" y="6053"/>
                  <a:pt x="20127" y="5956"/>
                  <a:pt x="20017" y="5879"/>
                </a:cubicBezTo>
                <a:cubicBezTo>
                  <a:pt x="20211" y="6091"/>
                  <a:pt x="20410" y="6296"/>
                  <a:pt x="20613" y="6499"/>
                </a:cubicBezTo>
                <a:cubicBezTo>
                  <a:pt x="20910" y="6796"/>
                  <a:pt x="20299" y="6162"/>
                  <a:pt x="20265" y="6127"/>
                </a:cubicBezTo>
                <a:cubicBezTo>
                  <a:pt x="20216" y="6069"/>
                  <a:pt x="20166" y="6011"/>
                  <a:pt x="20117" y="5953"/>
                </a:cubicBezTo>
                <a:cubicBezTo>
                  <a:pt x="19969" y="5845"/>
                  <a:pt x="20473" y="6334"/>
                  <a:pt x="20513" y="6375"/>
                </a:cubicBezTo>
                <a:cubicBezTo>
                  <a:pt x="20654" y="6515"/>
                  <a:pt x="20679" y="6540"/>
                  <a:pt x="20762" y="6623"/>
                </a:cubicBezTo>
              </a:path>
              <a:path w="3350" h="4838">
                <a:moveTo>
                  <a:pt x="18728" y="4887"/>
                </a:moveTo>
                <a:cubicBezTo>
                  <a:pt x="19044" y="5112"/>
                  <a:pt x="19397" y="5285"/>
                  <a:pt x="19695" y="5531"/>
                </a:cubicBezTo>
                <a:cubicBezTo>
                  <a:pt x="19777" y="5599"/>
                  <a:pt x="19840" y="5668"/>
                  <a:pt x="19893" y="5755"/>
                </a:cubicBezTo>
              </a:path>
              <a:path w="3350" h="4838">
                <a:moveTo>
                  <a:pt x="19000" y="3721"/>
                </a:moveTo>
                <a:cubicBezTo>
                  <a:pt x="18943" y="3771"/>
                  <a:pt x="18716" y="3872"/>
                  <a:pt x="18703" y="3944"/>
                </a:cubicBezTo>
                <a:cubicBezTo>
                  <a:pt x="18703" y="4093"/>
                  <a:pt x="18703" y="4126"/>
                  <a:pt x="18703" y="4217"/>
                </a:cubicBezTo>
                <a:cubicBezTo>
                  <a:pt x="18852" y="4160"/>
                  <a:pt x="19195" y="4140"/>
                  <a:pt x="19025" y="4440"/>
                </a:cubicBezTo>
                <a:cubicBezTo>
                  <a:pt x="18898" y="4664"/>
                  <a:pt x="18751" y="4637"/>
                  <a:pt x="18554" y="4614"/>
                </a:cubicBezTo>
              </a:path>
              <a:path w="3350" h="4838">
                <a:moveTo>
                  <a:pt x="20687" y="6648"/>
                </a:moveTo>
                <a:cubicBezTo>
                  <a:pt x="20707" y="6607"/>
                  <a:pt x="20705" y="6591"/>
                  <a:pt x="20737" y="6598"/>
                </a:cubicBezTo>
                <a:cubicBezTo>
                  <a:pt x="20945" y="6743"/>
                  <a:pt x="21143" y="6904"/>
                  <a:pt x="21357" y="7045"/>
                </a:cubicBezTo>
                <a:cubicBezTo>
                  <a:pt x="21495" y="7136"/>
                  <a:pt x="21623" y="7221"/>
                  <a:pt x="21754" y="7317"/>
                </a:cubicBezTo>
                <a:cubicBezTo>
                  <a:pt x="21770" y="7325"/>
                  <a:pt x="21787" y="7334"/>
                  <a:pt x="21803" y="7342"/>
                </a:cubicBezTo>
              </a:path>
              <a:path w="3350" h="4838">
                <a:moveTo>
                  <a:pt x="21332" y="7987"/>
                </a:moveTo>
                <a:cubicBezTo>
                  <a:pt x="21475" y="7930"/>
                  <a:pt x="21690" y="7893"/>
                  <a:pt x="21853" y="7913"/>
                </a:cubicBezTo>
                <a:cubicBezTo>
                  <a:pt x="21870" y="7921"/>
                  <a:pt x="21886" y="7930"/>
                  <a:pt x="21903" y="7938"/>
                </a:cubicBezTo>
                <a:cubicBezTo>
                  <a:pt x="21798" y="8141"/>
                  <a:pt x="21670" y="8341"/>
                  <a:pt x="21605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99040" y="1866960"/>
            <a:ext cx="411120" cy="776160"/>
          </a:xfrm>
          <a:custGeom>
            <a:avLst/>
            <a:gdLst/>
            <a:ahLst/>
            <a:rect l="l" t="t" r="r" b="b"/>
            <a:pathLst>
              <a:path w="1142" h="2159">
                <a:moveTo>
                  <a:pt x="14163" y="5978"/>
                </a:moveTo>
                <a:cubicBezTo>
                  <a:pt x="14297" y="5889"/>
                  <a:pt x="14332" y="5867"/>
                  <a:pt x="14412" y="5804"/>
                </a:cubicBezTo>
              </a:path>
              <a:path w="1142" h="2159">
                <a:moveTo>
                  <a:pt x="14337" y="6127"/>
                </a:moveTo>
                <a:cubicBezTo>
                  <a:pt x="14416" y="6048"/>
                  <a:pt x="14446" y="6019"/>
                  <a:pt x="14511" y="5978"/>
                </a:cubicBezTo>
              </a:path>
              <a:path w="1142" h="2159">
                <a:moveTo>
                  <a:pt x="14883" y="5184"/>
                </a:moveTo>
                <a:cubicBezTo>
                  <a:pt x="14851" y="5396"/>
                  <a:pt x="14833" y="5638"/>
                  <a:pt x="14858" y="5854"/>
                </a:cubicBezTo>
                <a:cubicBezTo>
                  <a:pt x="14881" y="6051"/>
                  <a:pt x="15019" y="5890"/>
                  <a:pt x="15056" y="5804"/>
                </a:cubicBezTo>
                <a:cubicBezTo>
                  <a:pt x="15186" y="5504"/>
                  <a:pt x="15065" y="5608"/>
                  <a:pt x="14982" y="5829"/>
                </a:cubicBezTo>
              </a:path>
              <a:path w="1142" h="2159">
                <a:moveTo>
                  <a:pt x="14858" y="6251"/>
                </a:moveTo>
                <a:cubicBezTo>
                  <a:pt x="15007" y="6179"/>
                  <a:pt x="15150" y="6110"/>
                  <a:pt x="15304" y="6052"/>
                </a:cubicBezTo>
              </a:path>
              <a:path w="1142" h="2159">
                <a:moveTo>
                  <a:pt x="15056" y="6648"/>
                </a:moveTo>
                <a:cubicBezTo>
                  <a:pt x="14911" y="6711"/>
                  <a:pt x="14791" y="6673"/>
                  <a:pt x="14808" y="6846"/>
                </a:cubicBezTo>
                <a:cubicBezTo>
                  <a:pt x="14830" y="6911"/>
                  <a:pt x="14838" y="6926"/>
                  <a:pt x="14833" y="6970"/>
                </a:cubicBezTo>
                <a:cubicBezTo>
                  <a:pt x="14896" y="6939"/>
                  <a:pt x="15162" y="6811"/>
                  <a:pt x="15106" y="7020"/>
                </a:cubicBezTo>
                <a:cubicBezTo>
                  <a:pt x="15029" y="7305"/>
                  <a:pt x="14771" y="7327"/>
                  <a:pt x="14536" y="73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25960" y="3295800"/>
            <a:ext cx="1428840" cy="1231920"/>
          </a:xfrm>
          <a:custGeom>
            <a:avLst/>
            <a:gdLst/>
            <a:ahLst/>
            <a:rect l="l" t="t" r="r" b="b"/>
            <a:pathLst>
              <a:path w="3970" h="3424">
                <a:moveTo>
                  <a:pt x="13841" y="10319"/>
                </a:moveTo>
                <a:cubicBezTo>
                  <a:pt x="13810" y="10497"/>
                  <a:pt x="13693" y="10843"/>
                  <a:pt x="13767" y="11013"/>
                </a:cubicBezTo>
                <a:cubicBezTo>
                  <a:pt x="13792" y="11021"/>
                  <a:pt x="13816" y="11030"/>
                  <a:pt x="13841" y="11038"/>
                </a:cubicBezTo>
                <a:cubicBezTo>
                  <a:pt x="14016" y="10909"/>
                  <a:pt x="14115" y="10854"/>
                  <a:pt x="14039" y="10641"/>
                </a:cubicBezTo>
                <a:cubicBezTo>
                  <a:pt x="13889" y="10751"/>
                  <a:pt x="13882" y="10921"/>
                  <a:pt x="13841" y="11112"/>
                </a:cubicBezTo>
              </a:path>
              <a:path w="3970" h="3424">
                <a:moveTo>
                  <a:pt x="13444" y="11038"/>
                </a:moveTo>
                <a:cubicBezTo>
                  <a:pt x="13444" y="10816"/>
                  <a:pt x="13407" y="10534"/>
                  <a:pt x="13543" y="10344"/>
                </a:cubicBezTo>
                <a:cubicBezTo>
                  <a:pt x="13586" y="10283"/>
                  <a:pt x="13724" y="10240"/>
                  <a:pt x="13791" y="10220"/>
                </a:cubicBezTo>
                <a:cubicBezTo>
                  <a:pt x="14039" y="10144"/>
                  <a:pt x="14302" y="10077"/>
                  <a:pt x="14560" y="10046"/>
                </a:cubicBezTo>
                <a:cubicBezTo>
                  <a:pt x="14585" y="10046"/>
                  <a:pt x="14610" y="10046"/>
                  <a:pt x="14635" y="10046"/>
                </a:cubicBezTo>
              </a:path>
              <a:path w="3970" h="3424">
                <a:moveTo>
                  <a:pt x="13047" y="10393"/>
                </a:moveTo>
                <a:cubicBezTo>
                  <a:pt x="12967" y="10433"/>
                  <a:pt x="12748" y="10447"/>
                  <a:pt x="12725" y="10517"/>
                </a:cubicBezTo>
                <a:cubicBezTo>
                  <a:pt x="12713" y="10553"/>
                  <a:pt x="12725" y="10625"/>
                  <a:pt x="12725" y="10666"/>
                </a:cubicBezTo>
                <a:cubicBezTo>
                  <a:pt x="12863" y="10625"/>
                  <a:pt x="13108" y="10505"/>
                  <a:pt x="13097" y="10765"/>
                </a:cubicBezTo>
                <a:cubicBezTo>
                  <a:pt x="13085" y="11037"/>
                  <a:pt x="12819" y="11045"/>
                  <a:pt x="12626" y="11038"/>
                </a:cubicBezTo>
                <a:cubicBezTo>
                  <a:pt x="12618" y="11038"/>
                  <a:pt x="12609" y="11038"/>
                  <a:pt x="12601" y="11038"/>
                </a:cubicBezTo>
              </a:path>
              <a:path w="3970" h="3424">
                <a:moveTo>
                  <a:pt x="13791" y="9525"/>
                </a:moveTo>
                <a:cubicBezTo>
                  <a:pt x="13791" y="9500"/>
                  <a:pt x="13791" y="9476"/>
                  <a:pt x="13791" y="9451"/>
                </a:cubicBezTo>
                <a:cubicBezTo>
                  <a:pt x="13817" y="9630"/>
                  <a:pt x="13805" y="9791"/>
                  <a:pt x="13791" y="9971"/>
                </a:cubicBezTo>
                <a:cubicBezTo>
                  <a:pt x="13791" y="9988"/>
                  <a:pt x="13791" y="10004"/>
                  <a:pt x="13791" y="10021"/>
                </a:cubicBezTo>
              </a:path>
              <a:path w="3970" h="3424">
                <a:moveTo>
                  <a:pt x="14039" y="11286"/>
                </a:moveTo>
                <a:cubicBezTo>
                  <a:pt x="13995" y="11293"/>
                  <a:pt x="13892" y="11296"/>
                  <a:pt x="13866" y="11336"/>
                </a:cubicBezTo>
                <a:cubicBezTo>
                  <a:pt x="13796" y="11443"/>
                  <a:pt x="13815" y="11496"/>
                  <a:pt x="13841" y="11609"/>
                </a:cubicBezTo>
                <a:cubicBezTo>
                  <a:pt x="13890" y="11559"/>
                  <a:pt x="14089" y="11420"/>
                  <a:pt x="14039" y="11633"/>
                </a:cubicBezTo>
                <a:cubicBezTo>
                  <a:pt x="13994" y="11823"/>
                  <a:pt x="13881" y="11807"/>
                  <a:pt x="13742" y="11807"/>
                </a:cubicBezTo>
              </a:path>
              <a:path w="3970" h="3424">
                <a:moveTo>
                  <a:pt x="13444" y="11435"/>
                </a:moveTo>
                <a:cubicBezTo>
                  <a:pt x="13532" y="11390"/>
                  <a:pt x="13553" y="11374"/>
                  <a:pt x="13618" y="11385"/>
                </a:cubicBezTo>
              </a:path>
              <a:path w="3970" h="3424">
                <a:moveTo>
                  <a:pt x="13494" y="11857"/>
                </a:moveTo>
                <a:cubicBezTo>
                  <a:pt x="13794" y="11864"/>
                  <a:pt x="14066" y="11810"/>
                  <a:pt x="14362" y="11782"/>
                </a:cubicBezTo>
              </a:path>
              <a:path w="3970" h="3424">
                <a:moveTo>
                  <a:pt x="13990" y="12204"/>
                </a:moveTo>
                <a:cubicBezTo>
                  <a:pt x="13985" y="12330"/>
                  <a:pt x="13973" y="12451"/>
                  <a:pt x="13965" y="12576"/>
                </a:cubicBezTo>
              </a:path>
              <a:path w="3970" h="3424">
                <a:moveTo>
                  <a:pt x="13444" y="9203"/>
                </a:moveTo>
                <a:cubicBezTo>
                  <a:pt x="13370" y="9258"/>
                  <a:pt x="13269" y="9352"/>
                  <a:pt x="13246" y="9451"/>
                </a:cubicBezTo>
                <a:cubicBezTo>
                  <a:pt x="13219" y="9565"/>
                  <a:pt x="13225" y="9754"/>
                  <a:pt x="13295" y="9847"/>
                </a:cubicBezTo>
                <a:cubicBezTo>
                  <a:pt x="13381" y="9961"/>
                  <a:pt x="13491" y="9980"/>
                  <a:pt x="13618" y="10021"/>
                </a:cubicBezTo>
                <a:cubicBezTo>
                  <a:pt x="13724" y="10055"/>
                  <a:pt x="13813" y="10048"/>
                  <a:pt x="13915" y="9996"/>
                </a:cubicBezTo>
                <a:cubicBezTo>
                  <a:pt x="14039" y="9932"/>
                  <a:pt x="14202" y="9894"/>
                  <a:pt x="14288" y="9773"/>
                </a:cubicBezTo>
                <a:cubicBezTo>
                  <a:pt x="14364" y="9666"/>
                  <a:pt x="14371" y="9457"/>
                  <a:pt x="14288" y="9351"/>
                </a:cubicBezTo>
                <a:cubicBezTo>
                  <a:pt x="14149" y="9173"/>
                  <a:pt x="13921" y="9161"/>
                  <a:pt x="13717" y="9153"/>
                </a:cubicBezTo>
                <a:cubicBezTo>
                  <a:pt x="13630" y="9150"/>
                  <a:pt x="13501" y="9162"/>
                  <a:pt x="13419" y="9203"/>
                </a:cubicBezTo>
                <a:cubicBezTo>
                  <a:pt x="13287" y="9269"/>
                  <a:pt x="13069" y="9424"/>
                  <a:pt x="13122" y="9599"/>
                </a:cubicBezTo>
                <a:cubicBezTo>
                  <a:pt x="13147" y="9640"/>
                  <a:pt x="13171" y="9682"/>
                  <a:pt x="13196" y="9723"/>
                </a:cubicBezTo>
              </a:path>
              <a:path w="3970" h="3424">
                <a:moveTo>
                  <a:pt x="14436" y="12179"/>
                </a:moveTo>
                <a:cubicBezTo>
                  <a:pt x="14544" y="12179"/>
                  <a:pt x="14666" y="12164"/>
                  <a:pt x="14759" y="12204"/>
                </a:cubicBezTo>
              </a:path>
              <a:path w="3970" h="3424">
                <a:moveTo>
                  <a:pt x="14461" y="11931"/>
                </a:moveTo>
                <a:cubicBezTo>
                  <a:pt x="14413" y="12004"/>
                  <a:pt x="14302" y="12091"/>
                  <a:pt x="14362" y="12179"/>
                </a:cubicBezTo>
                <a:cubicBezTo>
                  <a:pt x="14414" y="12256"/>
                  <a:pt x="14484" y="12303"/>
                  <a:pt x="14560" y="12328"/>
                </a:cubicBezTo>
              </a:path>
              <a:path w="3970" h="3424">
                <a:moveTo>
                  <a:pt x="15230" y="12229"/>
                </a:moveTo>
                <a:cubicBezTo>
                  <a:pt x="15219" y="12113"/>
                  <a:pt x="15234" y="12132"/>
                  <a:pt x="15131" y="12080"/>
                </a:cubicBezTo>
                <a:cubicBezTo>
                  <a:pt x="15025" y="12143"/>
                  <a:pt x="14943" y="12315"/>
                  <a:pt x="15032" y="12452"/>
                </a:cubicBezTo>
                <a:cubicBezTo>
                  <a:pt x="15137" y="12487"/>
                  <a:pt x="15184" y="12473"/>
                  <a:pt x="15230" y="12353"/>
                </a:cubicBezTo>
              </a:path>
              <a:path w="3970" h="3424">
                <a:moveTo>
                  <a:pt x="15106" y="11832"/>
                </a:moveTo>
                <a:cubicBezTo>
                  <a:pt x="15161" y="11989"/>
                  <a:pt x="15213" y="12143"/>
                  <a:pt x="15255" y="12303"/>
                </a:cubicBezTo>
              </a:path>
              <a:path w="3970" h="3424">
                <a:moveTo>
                  <a:pt x="12229" y="10071"/>
                </a:moveTo>
                <a:lnTo>
                  <a:pt x="12229" y="10071"/>
                </a:lnTo>
              </a:path>
              <a:path w="3970" h="3424">
                <a:moveTo>
                  <a:pt x="14883" y="12105"/>
                </a:moveTo>
                <a:cubicBezTo>
                  <a:pt x="14865" y="12014"/>
                  <a:pt x="14856" y="12007"/>
                  <a:pt x="14858" y="11956"/>
                </a:cubicBezTo>
                <a:cubicBezTo>
                  <a:pt x="14949" y="12092"/>
                  <a:pt x="14998" y="12199"/>
                  <a:pt x="15056" y="12353"/>
                </a:cubicBezTo>
                <a:cubicBezTo>
                  <a:pt x="15071" y="12176"/>
                  <a:pt x="15084" y="12129"/>
                  <a:pt x="15180" y="11981"/>
                </a:cubicBezTo>
                <a:cubicBezTo>
                  <a:pt x="15348" y="12045"/>
                  <a:pt x="15376" y="12151"/>
                  <a:pt x="15429" y="12328"/>
                </a:cubicBezTo>
              </a:path>
              <a:path w="3970" h="3424">
                <a:moveTo>
                  <a:pt x="15007" y="12229"/>
                </a:moveTo>
                <a:cubicBezTo>
                  <a:pt x="15012" y="12321"/>
                  <a:pt x="15024" y="12410"/>
                  <a:pt x="15032" y="12502"/>
                </a:cubicBezTo>
                <a:cubicBezTo>
                  <a:pt x="15032" y="12372"/>
                  <a:pt x="14990" y="12170"/>
                  <a:pt x="15106" y="12080"/>
                </a:cubicBezTo>
                <a:cubicBezTo>
                  <a:pt x="15241" y="11976"/>
                  <a:pt x="15384" y="12209"/>
                  <a:pt x="15429" y="12303"/>
                </a:cubicBezTo>
                <a:cubicBezTo>
                  <a:pt x="15429" y="12311"/>
                  <a:pt x="15429" y="12320"/>
                  <a:pt x="15429" y="12328"/>
                </a:cubicBezTo>
              </a:path>
              <a:path w="3970" h="3424">
                <a:moveTo>
                  <a:pt x="14883" y="12105"/>
                </a:moveTo>
                <a:cubicBezTo>
                  <a:pt x="14913" y="12187"/>
                  <a:pt x="14940" y="12281"/>
                  <a:pt x="14982" y="12353"/>
                </a:cubicBezTo>
                <a:cubicBezTo>
                  <a:pt x="14997" y="12243"/>
                  <a:pt x="15009" y="12010"/>
                  <a:pt x="15180" y="12030"/>
                </a:cubicBezTo>
                <a:cubicBezTo>
                  <a:pt x="15332" y="12048"/>
                  <a:pt x="15364" y="12210"/>
                  <a:pt x="15379" y="12328"/>
                </a:cubicBezTo>
              </a:path>
              <a:path w="3970" h="3424">
                <a:moveTo>
                  <a:pt x="12105" y="10120"/>
                </a:moveTo>
                <a:cubicBezTo>
                  <a:pt x="12266" y="10181"/>
                  <a:pt x="12373" y="10275"/>
                  <a:pt x="12502" y="10393"/>
                </a:cubicBezTo>
              </a:path>
              <a:path w="3970" h="3424">
                <a:moveTo>
                  <a:pt x="12477" y="10170"/>
                </a:moveTo>
                <a:cubicBezTo>
                  <a:pt x="12521" y="10280"/>
                  <a:pt x="12529" y="10310"/>
                  <a:pt x="12576" y="10368"/>
                </a:cubicBezTo>
                <a:cubicBezTo>
                  <a:pt x="12439" y="10460"/>
                  <a:pt x="12342" y="10468"/>
                  <a:pt x="12179" y="10468"/>
                </a:cubicBezTo>
              </a:path>
              <a:path w="3970" h="3424">
                <a:moveTo>
                  <a:pt x="11807" y="9500"/>
                </a:moveTo>
                <a:cubicBezTo>
                  <a:pt x="11735" y="9459"/>
                  <a:pt x="11544" y="9387"/>
                  <a:pt x="11485" y="9500"/>
                </a:cubicBezTo>
                <a:cubicBezTo>
                  <a:pt x="11423" y="9617"/>
                  <a:pt x="11518" y="10082"/>
                  <a:pt x="11708" y="9872"/>
                </a:cubicBezTo>
                <a:cubicBezTo>
                  <a:pt x="11741" y="9806"/>
                  <a:pt x="11774" y="9740"/>
                  <a:pt x="11807" y="9674"/>
                </a:cubicBezTo>
              </a:path>
              <a:path w="3970" h="3424">
                <a:moveTo>
                  <a:pt x="11534" y="9252"/>
                </a:moveTo>
                <a:cubicBezTo>
                  <a:pt x="11659" y="9414"/>
                  <a:pt x="11760" y="9568"/>
                  <a:pt x="11857" y="97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16800" y="1108080"/>
            <a:ext cx="1349280" cy="1946160"/>
          </a:xfrm>
          <a:custGeom>
            <a:avLst/>
            <a:gdLst/>
            <a:ahLst/>
            <a:rect l="l" t="t" r="r" b="b"/>
            <a:pathLst>
              <a:path w="3747" h="5408">
                <a:moveTo>
                  <a:pt x="20811" y="5854"/>
                </a:moveTo>
                <a:cubicBezTo>
                  <a:pt x="20546" y="5974"/>
                  <a:pt x="20321" y="6192"/>
                  <a:pt x="20092" y="6375"/>
                </a:cubicBezTo>
                <a:cubicBezTo>
                  <a:pt x="19749" y="6650"/>
                  <a:pt x="20625" y="6094"/>
                  <a:pt x="20687" y="6052"/>
                </a:cubicBezTo>
                <a:cubicBezTo>
                  <a:pt x="20745" y="6011"/>
                  <a:pt x="20803" y="5969"/>
                  <a:pt x="20861" y="5928"/>
                </a:cubicBezTo>
                <a:cubicBezTo>
                  <a:pt x="20595" y="6080"/>
                  <a:pt x="20328" y="6239"/>
                  <a:pt x="20067" y="6400"/>
                </a:cubicBezTo>
                <a:cubicBezTo>
                  <a:pt x="19651" y="6657"/>
                  <a:pt x="20400" y="6099"/>
                  <a:pt x="20464" y="6052"/>
                </a:cubicBezTo>
                <a:cubicBezTo>
                  <a:pt x="20589" y="5963"/>
                  <a:pt x="20605" y="5964"/>
                  <a:pt x="20662" y="5904"/>
                </a:cubicBezTo>
              </a:path>
              <a:path w="3747" h="5408">
                <a:moveTo>
                  <a:pt x="20811" y="6028"/>
                </a:moveTo>
                <a:cubicBezTo>
                  <a:pt x="20971" y="5830"/>
                  <a:pt x="21117" y="5630"/>
                  <a:pt x="21307" y="5457"/>
                </a:cubicBezTo>
                <a:cubicBezTo>
                  <a:pt x="21475" y="5305"/>
                  <a:pt x="21673" y="5140"/>
                  <a:pt x="21878" y="5035"/>
                </a:cubicBezTo>
                <a:cubicBezTo>
                  <a:pt x="21965" y="4990"/>
                  <a:pt x="22028" y="4935"/>
                  <a:pt x="22101" y="4862"/>
                </a:cubicBezTo>
              </a:path>
              <a:path w="3747" h="5408">
                <a:moveTo>
                  <a:pt x="21630" y="4118"/>
                </a:moveTo>
                <a:cubicBezTo>
                  <a:pt x="21597" y="4167"/>
                  <a:pt x="21504" y="4459"/>
                  <a:pt x="21456" y="4589"/>
                </a:cubicBezTo>
                <a:cubicBezTo>
                  <a:pt x="21448" y="4605"/>
                  <a:pt x="21439" y="4622"/>
                  <a:pt x="21431" y="4638"/>
                </a:cubicBezTo>
              </a:path>
              <a:path w="3747" h="5408">
                <a:moveTo>
                  <a:pt x="21853" y="4068"/>
                </a:moveTo>
                <a:cubicBezTo>
                  <a:pt x="21853" y="4197"/>
                  <a:pt x="21833" y="4092"/>
                  <a:pt x="21952" y="4093"/>
                </a:cubicBezTo>
                <a:cubicBezTo>
                  <a:pt x="21970" y="4175"/>
                  <a:pt x="21936" y="4649"/>
                  <a:pt x="21729" y="4589"/>
                </a:cubicBezTo>
                <a:cubicBezTo>
                  <a:pt x="21721" y="4548"/>
                  <a:pt x="21712" y="4506"/>
                  <a:pt x="21704" y="4465"/>
                </a:cubicBezTo>
                <a:cubicBezTo>
                  <a:pt x="21909" y="4388"/>
                  <a:pt x="21934" y="4409"/>
                  <a:pt x="22002" y="4614"/>
                </a:cubicBezTo>
              </a:path>
              <a:path w="3747" h="5408">
                <a:moveTo>
                  <a:pt x="18653" y="7541"/>
                </a:moveTo>
                <a:cubicBezTo>
                  <a:pt x="19012" y="7166"/>
                  <a:pt x="19439" y="6852"/>
                  <a:pt x="19844" y="6524"/>
                </a:cubicBezTo>
                <a:cubicBezTo>
                  <a:pt x="19938" y="6448"/>
                  <a:pt x="20141" y="6318"/>
                  <a:pt x="20216" y="6276"/>
                </a:cubicBezTo>
              </a:path>
              <a:path w="3747" h="5408">
                <a:moveTo>
                  <a:pt x="18628" y="7813"/>
                </a:moveTo>
                <a:cubicBezTo>
                  <a:pt x="18550" y="8015"/>
                  <a:pt x="18473" y="8214"/>
                  <a:pt x="18380" y="8409"/>
                </a:cubicBezTo>
              </a:path>
              <a:path w="3747" h="5408">
                <a:moveTo>
                  <a:pt x="18976" y="7938"/>
                </a:moveTo>
                <a:cubicBezTo>
                  <a:pt x="18876" y="8001"/>
                  <a:pt x="18790" y="8057"/>
                  <a:pt x="18703" y="8136"/>
                </a:cubicBezTo>
                <a:cubicBezTo>
                  <a:pt x="18803" y="8208"/>
                  <a:pt x="19017" y="8238"/>
                  <a:pt x="18926" y="8409"/>
                </a:cubicBezTo>
                <a:cubicBezTo>
                  <a:pt x="18901" y="8434"/>
                  <a:pt x="18877" y="8458"/>
                  <a:pt x="18852" y="8483"/>
                </a:cubicBezTo>
                <a:cubicBezTo>
                  <a:pt x="18765" y="8327"/>
                  <a:pt x="18894" y="8193"/>
                  <a:pt x="19000" y="8037"/>
                </a:cubicBezTo>
              </a:path>
              <a:path w="3747" h="5408">
                <a:moveTo>
                  <a:pt x="22126" y="3919"/>
                </a:moveTo>
                <a:cubicBezTo>
                  <a:pt x="21791" y="4254"/>
                  <a:pt x="21459" y="4591"/>
                  <a:pt x="21134" y="4936"/>
                </a:cubicBezTo>
                <a:cubicBezTo>
                  <a:pt x="21069" y="5005"/>
                  <a:pt x="21016" y="5040"/>
                  <a:pt x="20960" y="5110"/>
                </a:cubicBezTo>
              </a:path>
              <a:path w="3747" h="5408">
                <a:moveTo>
                  <a:pt x="21704" y="3101"/>
                </a:moveTo>
                <a:cubicBezTo>
                  <a:pt x="21704" y="3104"/>
                  <a:pt x="21753" y="3094"/>
                  <a:pt x="21853" y="3101"/>
                </a:cubicBezTo>
                <a:cubicBezTo>
                  <a:pt x="21853" y="3342"/>
                  <a:pt x="21752" y="3502"/>
                  <a:pt x="21506" y="3597"/>
                </a:cubicBezTo>
                <a:cubicBezTo>
                  <a:pt x="21481" y="3597"/>
                  <a:pt x="21456" y="3597"/>
                  <a:pt x="21431" y="3597"/>
                </a:cubicBezTo>
                <a:cubicBezTo>
                  <a:pt x="21471" y="3422"/>
                  <a:pt x="21565" y="3367"/>
                  <a:pt x="21754" y="3448"/>
                </a:cubicBezTo>
                <a:cubicBezTo>
                  <a:pt x="21770" y="3464"/>
                  <a:pt x="21787" y="3481"/>
                  <a:pt x="21803" y="34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00880" y="2820960"/>
            <a:ext cx="660240" cy="223920"/>
          </a:xfrm>
          <a:custGeom>
            <a:avLst/>
            <a:gdLst/>
            <a:ahLst/>
            <a:rect l="l" t="t" r="r" b="b"/>
            <a:pathLst>
              <a:path w="1836" h="621">
                <a:moveTo>
                  <a:pt x="19025" y="8062"/>
                </a:moveTo>
                <a:cubicBezTo>
                  <a:pt x="19071" y="8016"/>
                  <a:pt x="19083" y="8001"/>
                  <a:pt x="19124" y="7987"/>
                </a:cubicBezTo>
                <a:cubicBezTo>
                  <a:pt x="18853" y="7987"/>
                  <a:pt x="18638" y="8137"/>
                  <a:pt x="18405" y="8260"/>
                </a:cubicBezTo>
                <a:cubicBezTo>
                  <a:pt x="18314" y="8308"/>
                  <a:pt x="18159" y="8415"/>
                  <a:pt x="18058" y="8458"/>
                </a:cubicBezTo>
              </a:path>
              <a:path w="1836" h="621">
                <a:moveTo>
                  <a:pt x="19546" y="8012"/>
                </a:moveTo>
                <a:cubicBezTo>
                  <a:pt x="19662" y="7882"/>
                  <a:pt x="19740" y="7844"/>
                  <a:pt x="19893" y="7888"/>
                </a:cubicBezTo>
                <a:cubicBezTo>
                  <a:pt x="19866" y="8033"/>
                  <a:pt x="19843" y="8097"/>
                  <a:pt x="19695" y="8161"/>
                </a:cubicBezTo>
                <a:cubicBezTo>
                  <a:pt x="19750" y="8120"/>
                  <a:pt x="19889" y="8069"/>
                  <a:pt x="19819" y="8235"/>
                </a:cubicBezTo>
                <a:cubicBezTo>
                  <a:pt x="19758" y="8378"/>
                  <a:pt x="19632" y="8409"/>
                  <a:pt x="19496" y="84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31000" y="3510000"/>
            <a:ext cx="1019160" cy="1035000"/>
          </a:xfrm>
          <a:custGeom>
            <a:avLst/>
            <a:gdLst/>
            <a:ahLst/>
            <a:rect l="l" t="t" r="r" b="b"/>
            <a:pathLst>
              <a:path w="2828" h="2879">
                <a:moveTo>
                  <a:pt x="20166" y="9798"/>
                </a:moveTo>
                <a:cubicBezTo>
                  <a:pt x="20115" y="10055"/>
                  <a:pt x="20096" y="10383"/>
                  <a:pt x="19968" y="10616"/>
                </a:cubicBezTo>
                <a:cubicBezTo>
                  <a:pt x="19968" y="10608"/>
                  <a:pt x="19968" y="10600"/>
                  <a:pt x="19968" y="10592"/>
                </a:cubicBezTo>
              </a:path>
              <a:path w="2828" h="2879">
                <a:moveTo>
                  <a:pt x="20737" y="9773"/>
                </a:moveTo>
                <a:cubicBezTo>
                  <a:pt x="20588" y="10006"/>
                  <a:pt x="20510" y="10166"/>
                  <a:pt x="20538" y="10443"/>
                </a:cubicBezTo>
                <a:cubicBezTo>
                  <a:pt x="20743" y="10386"/>
                  <a:pt x="20945" y="10233"/>
                  <a:pt x="20836" y="9971"/>
                </a:cubicBezTo>
                <a:cubicBezTo>
                  <a:pt x="20747" y="9882"/>
                  <a:pt x="20727" y="9849"/>
                  <a:pt x="20638" y="9872"/>
                </a:cubicBezTo>
              </a:path>
              <a:path w="2828" h="2879">
                <a:moveTo>
                  <a:pt x="19670" y="10740"/>
                </a:moveTo>
                <a:cubicBezTo>
                  <a:pt x="20029" y="10687"/>
                  <a:pt x="20374" y="10646"/>
                  <a:pt x="20737" y="10641"/>
                </a:cubicBezTo>
                <a:cubicBezTo>
                  <a:pt x="20836" y="10641"/>
                  <a:pt x="20878" y="10616"/>
                  <a:pt x="20861" y="10691"/>
                </a:cubicBezTo>
              </a:path>
              <a:path w="2828" h="2879">
                <a:moveTo>
                  <a:pt x="19968" y="11137"/>
                </a:moveTo>
                <a:cubicBezTo>
                  <a:pt x="19935" y="11170"/>
                  <a:pt x="19918" y="11187"/>
                  <a:pt x="19893" y="11212"/>
                </a:cubicBezTo>
                <a:cubicBezTo>
                  <a:pt x="20124" y="10930"/>
                  <a:pt x="20187" y="11198"/>
                  <a:pt x="20067" y="11485"/>
                </a:cubicBezTo>
                <a:cubicBezTo>
                  <a:pt x="19972" y="11712"/>
                  <a:pt x="19846" y="11780"/>
                  <a:pt x="19645" y="11857"/>
                </a:cubicBezTo>
                <a:cubicBezTo>
                  <a:pt x="19670" y="11692"/>
                  <a:pt x="19759" y="11517"/>
                  <a:pt x="19968" y="11609"/>
                </a:cubicBezTo>
                <a:cubicBezTo>
                  <a:pt x="20118" y="11675"/>
                  <a:pt x="20099" y="11811"/>
                  <a:pt x="20092" y="11931"/>
                </a:cubicBezTo>
              </a:path>
              <a:path w="2828" h="2879">
                <a:moveTo>
                  <a:pt x="20538" y="11112"/>
                </a:moveTo>
                <a:cubicBezTo>
                  <a:pt x="20587" y="11354"/>
                  <a:pt x="20556" y="11614"/>
                  <a:pt x="20489" y="11857"/>
                </a:cubicBezTo>
                <a:cubicBezTo>
                  <a:pt x="20472" y="11898"/>
                  <a:pt x="20456" y="11940"/>
                  <a:pt x="20439" y="11981"/>
                </a:cubicBezTo>
              </a:path>
              <a:path w="2828" h="2879">
                <a:moveTo>
                  <a:pt x="19199" y="10964"/>
                </a:moveTo>
                <a:cubicBezTo>
                  <a:pt x="19352" y="11443"/>
                  <a:pt x="19427" y="11969"/>
                  <a:pt x="19745" y="12378"/>
                </a:cubicBezTo>
                <a:cubicBezTo>
                  <a:pt x="20020" y="12732"/>
                  <a:pt x="20467" y="12647"/>
                  <a:pt x="20811" y="12452"/>
                </a:cubicBezTo>
                <a:cubicBezTo>
                  <a:pt x="21118" y="12278"/>
                  <a:pt x="21412" y="11922"/>
                  <a:pt x="21605" y="11633"/>
                </a:cubicBezTo>
                <a:cubicBezTo>
                  <a:pt x="21821" y="11308"/>
                  <a:pt x="21885" y="10842"/>
                  <a:pt x="21754" y="10468"/>
                </a:cubicBezTo>
                <a:cubicBezTo>
                  <a:pt x="21570" y="9944"/>
                  <a:pt x="21060" y="9790"/>
                  <a:pt x="20563" y="9748"/>
                </a:cubicBezTo>
                <a:cubicBezTo>
                  <a:pt x="19848" y="9688"/>
                  <a:pt x="19053" y="9986"/>
                  <a:pt x="18976" y="10790"/>
                </a:cubicBezTo>
                <a:cubicBezTo>
                  <a:pt x="18917" y="11401"/>
                  <a:pt x="19046" y="11726"/>
                  <a:pt x="19372" y="121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cript MT Bold"/>
              </a:rPr>
              <a:t>Objective:  Students will multiply fractions and mixed number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Footlight MT Light"/>
              </a:rPr>
              <a:t>Mixed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ange all mixed numbers to improper f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ross simpl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ulti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duce if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4419720"/>
          <a:ext cx="1828800" cy="113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419720"/>
                    <a:ext cx="182880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657600" y="4343400"/>
          <a:ext cx="1828800" cy="11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4343400"/>
                    <a:ext cx="18288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6553080" y="4419720"/>
          <a:ext cx="1905120" cy="107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4419720"/>
                    <a:ext cx="190512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4920" y="0"/>
            <a:ext cx="2019240" cy="438120"/>
          </a:xfrm>
          <a:custGeom>
            <a:avLst/>
            <a:gdLst/>
            <a:ahLst/>
            <a:rect l="l" t="t" r="r" b="b"/>
            <a:pathLst>
              <a:path w="5607" h="1216">
                <a:moveTo>
                  <a:pt x="521" y="124"/>
                </a:moveTo>
                <a:cubicBezTo>
                  <a:pt x="521" y="99"/>
                  <a:pt x="521" y="91"/>
                  <a:pt x="521" y="74"/>
                </a:cubicBezTo>
                <a:cubicBezTo>
                  <a:pt x="562" y="74"/>
                  <a:pt x="604" y="74"/>
                  <a:pt x="645" y="74"/>
                </a:cubicBezTo>
                <a:cubicBezTo>
                  <a:pt x="645" y="133"/>
                  <a:pt x="654" y="172"/>
                  <a:pt x="620" y="198"/>
                </a:cubicBezTo>
                <a:cubicBezTo>
                  <a:pt x="591" y="219"/>
                  <a:pt x="588" y="265"/>
                  <a:pt x="571" y="273"/>
                </a:cubicBezTo>
                <a:cubicBezTo>
                  <a:pt x="541" y="288"/>
                  <a:pt x="525" y="294"/>
                  <a:pt x="496" y="322"/>
                </a:cubicBezTo>
                <a:cubicBezTo>
                  <a:pt x="570" y="322"/>
                  <a:pt x="645" y="322"/>
                  <a:pt x="719" y="322"/>
                </a:cubicBezTo>
              </a:path>
              <a:path w="5607" h="1216">
                <a:moveTo>
                  <a:pt x="446" y="422"/>
                </a:moveTo>
                <a:cubicBezTo>
                  <a:pt x="587" y="422"/>
                  <a:pt x="727" y="422"/>
                  <a:pt x="868" y="422"/>
                </a:cubicBezTo>
              </a:path>
              <a:path w="5607" h="1216">
                <a:moveTo>
                  <a:pt x="446" y="546"/>
                </a:moveTo>
                <a:cubicBezTo>
                  <a:pt x="446" y="596"/>
                  <a:pt x="446" y="645"/>
                  <a:pt x="446" y="695"/>
                </a:cubicBezTo>
                <a:cubicBezTo>
                  <a:pt x="446" y="768"/>
                  <a:pt x="446" y="634"/>
                  <a:pt x="446" y="620"/>
                </a:cubicBezTo>
                <a:cubicBezTo>
                  <a:pt x="446" y="586"/>
                  <a:pt x="433" y="540"/>
                  <a:pt x="471" y="521"/>
                </a:cubicBezTo>
                <a:cubicBezTo>
                  <a:pt x="510" y="501"/>
                  <a:pt x="479" y="485"/>
                  <a:pt x="521" y="471"/>
                </a:cubicBezTo>
                <a:cubicBezTo>
                  <a:pt x="561" y="484"/>
                  <a:pt x="546" y="520"/>
                  <a:pt x="546" y="571"/>
                </a:cubicBezTo>
                <a:cubicBezTo>
                  <a:pt x="546" y="613"/>
                  <a:pt x="540" y="630"/>
                  <a:pt x="496" y="645"/>
                </a:cubicBezTo>
                <a:cubicBezTo>
                  <a:pt x="493" y="646"/>
                  <a:pt x="425" y="667"/>
                  <a:pt x="422" y="670"/>
                </a:cubicBezTo>
                <a:cubicBezTo>
                  <a:pt x="399" y="699"/>
                  <a:pt x="382" y="704"/>
                  <a:pt x="347" y="744"/>
                </a:cubicBezTo>
                <a:cubicBezTo>
                  <a:pt x="332" y="761"/>
                  <a:pt x="280" y="838"/>
                  <a:pt x="273" y="843"/>
                </a:cubicBezTo>
                <a:cubicBezTo>
                  <a:pt x="250" y="858"/>
                  <a:pt x="199" y="851"/>
                  <a:pt x="174" y="868"/>
                </a:cubicBezTo>
                <a:cubicBezTo>
                  <a:pt x="138" y="892"/>
                  <a:pt x="108" y="923"/>
                  <a:pt x="99" y="943"/>
                </a:cubicBezTo>
                <a:cubicBezTo>
                  <a:pt x="99" y="951"/>
                  <a:pt x="99" y="959"/>
                  <a:pt x="99" y="967"/>
                </a:cubicBezTo>
                <a:cubicBezTo>
                  <a:pt x="161" y="967"/>
                  <a:pt x="196" y="960"/>
                  <a:pt x="248" y="943"/>
                </a:cubicBezTo>
                <a:cubicBezTo>
                  <a:pt x="251" y="942"/>
                  <a:pt x="320" y="921"/>
                  <a:pt x="322" y="918"/>
                </a:cubicBezTo>
                <a:cubicBezTo>
                  <a:pt x="345" y="889"/>
                  <a:pt x="344" y="893"/>
                  <a:pt x="397" y="893"/>
                </a:cubicBezTo>
                <a:cubicBezTo>
                  <a:pt x="430" y="893"/>
                  <a:pt x="463" y="893"/>
                  <a:pt x="496" y="893"/>
                </a:cubicBezTo>
              </a:path>
              <a:path w="5607" h="1216">
                <a:moveTo>
                  <a:pt x="198" y="595"/>
                </a:moveTo>
                <a:cubicBezTo>
                  <a:pt x="198" y="571"/>
                  <a:pt x="198" y="562"/>
                  <a:pt x="198" y="546"/>
                </a:cubicBezTo>
                <a:cubicBezTo>
                  <a:pt x="257" y="546"/>
                  <a:pt x="277" y="536"/>
                  <a:pt x="322" y="521"/>
                </a:cubicBezTo>
                <a:cubicBezTo>
                  <a:pt x="361" y="508"/>
                  <a:pt x="429" y="521"/>
                  <a:pt x="471" y="521"/>
                </a:cubicBezTo>
              </a:path>
              <a:path w="5607" h="1216">
                <a:moveTo>
                  <a:pt x="1588" y="843"/>
                </a:moveTo>
                <a:cubicBezTo>
                  <a:pt x="1645" y="843"/>
                  <a:pt x="1682" y="831"/>
                  <a:pt x="1736" y="819"/>
                </a:cubicBezTo>
                <a:cubicBezTo>
                  <a:pt x="1781" y="809"/>
                  <a:pt x="1838" y="819"/>
                  <a:pt x="1885" y="819"/>
                </a:cubicBezTo>
                <a:cubicBezTo>
                  <a:pt x="1847" y="838"/>
                  <a:pt x="1735" y="873"/>
                  <a:pt x="1712" y="893"/>
                </a:cubicBezTo>
                <a:cubicBezTo>
                  <a:pt x="1684" y="917"/>
                  <a:pt x="1661" y="915"/>
                  <a:pt x="1637" y="943"/>
                </a:cubicBezTo>
                <a:cubicBezTo>
                  <a:pt x="1637" y="967"/>
                  <a:pt x="1637" y="975"/>
                  <a:pt x="1612" y="967"/>
                </a:cubicBezTo>
                <a:cubicBezTo>
                  <a:pt x="1629" y="1018"/>
                  <a:pt x="1728" y="992"/>
                  <a:pt x="1786" y="992"/>
                </a:cubicBezTo>
                <a:cubicBezTo>
                  <a:pt x="1860" y="992"/>
                  <a:pt x="1935" y="992"/>
                  <a:pt x="2009" y="992"/>
                </a:cubicBezTo>
                <a:cubicBezTo>
                  <a:pt x="1932" y="992"/>
                  <a:pt x="1882" y="1015"/>
                  <a:pt x="1811" y="1042"/>
                </a:cubicBezTo>
                <a:cubicBezTo>
                  <a:pt x="1760" y="1061"/>
                  <a:pt x="1608" y="1091"/>
                  <a:pt x="1662" y="1091"/>
                </a:cubicBezTo>
                <a:cubicBezTo>
                  <a:pt x="1670" y="1091"/>
                  <a:pt x="1679" y="1091"/>
                  <a:pt x="1687" y="1091"/>
                </a:cubicBezTo>
                <a:cubicBezTo>
                  <a:pt x="1753" y="1091"/>
                  <a:pt x="1991" y="1062"/>
                  <a:pt x="2009" y="1116"/>
                </a:cubicBezTo>
                <a:cubicBezTo>
                  <a:pt x="2002" y="1138"/>
                  <a:pt x="1967" y="1155"/>
                  <a:pt x="1935" y="1166"/>
                </a:cubicBezTo>
                <a:cubicBezTo>
                  <a:pt x="1878" y="1185"/>
                  <a:pt x="1910" y="1190"/>
                  <a:pt x="1860" y="1215"/>
                </a:cubicBezTo>
                <a:cubicBezTo>
                  <a:pt x="1836" y="1215"/>
                  <a:pt x="1827" y="1215"/>
                  <a:pt x="1811" y="1215"/>
                </a:cubicBezTo>
              </a:path>
              <a:path w="5607" h="1216">
                <a:moveTo>
                  <a:pt x="1240" y="99"/>
                </a:moveTo>
                <a:cubicBezTo>
                  <a:pt x="1240" y="74"/>
                  <a:pt x="1240" y="50"/>
                  <a:pt x="1240" y="25"/>
                </a:cubicBezTo>
                <a:cubicBezTo>
                  <a:pt x="1240" y="124"/>
                  <a:pt x="1240" y="223"/>
                  <a:pt x="1240" y="322"/>
                </a:cubicBezTo>
                <a:cubicBezTo>
                  <a:pt x="1199" y="322"/>
                  <a:pt x="1157" y="322"/>
                  <a:pt x="1116" y="322"/>
                </a:cubicBezTo>
                <a:cubicBezTo>
                  <a:pt x="1206" y="322"/>
                  <a:pt x="1309" y="324"/>
                  <a:pt x="1364" y="298"/>
                </a:cubicBezTo>
                <a:cubicBezTo>
                  <a:pt x="1391" y="285"/>
                  <a:pt x="1430" y="253"/>
                  <a:pt x="1439" y="248"/>
                </a:cubicBezTo>
                <a:cubicBezTo>
                  <a:pt x="1447" y="248"/>
                  <a:pt x="1455" y="248"/>
                  <a:pt x="1463" y="248"/>
                </a:cubicBezTo>
              </a:path>
              <a:path w="5607" h="1216">
                <a:moveTo>
                  <a:pt x="1091" y="496"/>
                </a:moveTo>
                <a:cubicBezTo>
                  <a:pt x="1156" y="496"/>
                  <a:pt x="1202" y="475"/>
                  <a:pt x="1265" y="471"/>
                </a:cubicBezTo>
                <a:cubicBezTo>
                  <a:pt x="1326" y="468"/>
                  <a:pt x="1378" y="446"/>
                  <a:pt x="1439" y="446"/>
                </a:cubicBezTo>
                <a:cubicBezTo>
                  <a:pt x="1483" y="446"/>
                  <a:pt x="1500" y="458"/>
                  <a:pt x="1513" y="422"/>
                </a:cubicBezTo>
              </a:path>
              <a:path w="5607" h="1216">
                <a:moveTo>
                  <a:pt x="1166" y="645"/>
                </a:moveTo>
                <a:cubicBezTo>
                  <a:pt x="1166" y="620"/>
                  <a:pt x="1166" y="612"/>
                  <a:pt x="1166" y="595"/>
                </a:cubicBezTo>
                <a:cubicBezTo>
                  <a:pt x="1208" y="595"/>
                  <a:pt x="1216" y="589"/>
                  <a:pt x="1240" y="571"/>
                </a:cubicBezTo>
                <a:cubicBezTo>
                  <a:pt x="1278" y="543"/>
                  <a:pt x="1291" y="546"/>
                  <a:pt x="1339" y="546"/>
                </a:cubicBezTo>
                <a:cubicBezTo>
                  <a:pt x="1347" y="546"/>
                  <a:pt x="1356" y="546"/>
                  <a:pt x="1364" y="546"/>
                </a:cubicBezTo>
                <a:cubicBezTo>
                  <a:pt x="1364" y="605"/>
                  <a:pt x="1373" y="644"/>
                  <a:pt x="1339" y="670"/>
                </a:cubicBezTo>
                <a:cubicBezTo>
                  <a:pt x="1305" y="696"/>
                  <a:pt x="1278" y="731"/>
                  <a:pt x="1240" y="744"/>
                </a:cubicBezTo>
                <a:cubicBezTo>
                  <a:pt x="1206" y="755"/>
                  <a:pt x="1212" y="784"/>
                  <a:pt x="1191" y="794"/>
                </a:cubicBezTo>
                <a:cubicBezTo>
                  <a:pt x="1159" y="810"/>
                  <a:pt x="1170" y="805"/>
                  <a:pt x="1141" y="843"/>
                </a:cubicBezTo>
                <a:cubicBezTo>
                  <a:pt x="1230" y="843"/>
                  <a:pt x="1313" y="834"/>
                  <a:pt x="1389" y="819"/>
                </a:cubicBezTo>
                <a:cubicBezTo>
                  <a:pt x="1417" y="814"/>
                  <a:pt x="1458" y="819"/>
                  <a:pt x="1488" y="819"/>
                </a:cubicBezTo>
              </a:path>
              <a:path w="5607" h="1216">
                <a:moveTo>
                  <a:pt x="1091" y="149"/>
                </a:moveTo>
                <a:cubicBezTo>
                  <a:pt x="1098" y="119"/>
                  <a:pt x="1109" y="104"/>
                  <a:pt x="1116" y="74"/>
                </a:cubicBezTo>
                <a:cubicBezTo>
                  <a:pt x="1156" y="61"/>
                  <a:pt x="1126" y="63"/>
                  <a:pt x="1166" y="50"/>
                </a:cubicBezTo>
                <a:cubicBezTo>
                  <a:pt x="1166" y="-2"/>
                  <a:pt x="1163" y="0"/>
                  <a:pt x="1215" y="0"/>
                </a:cubicBezTo>
              </a:path>
              <a:path w="5607" h="1216">
                <a:moveTo>
                  <a:pt x="3125" y="769"/>
                </a:moveTo>
                <a:cubicBezTo>
                  <a:pt x="3230" y="761"/>
                  <a:pt x="3305" y="712"/>
                  <a:pt x="3398" y="695"/>
                </a:cubicBezTo>
                <a:cubicBezTo>
                  <a:pt x="3406" y="695"/>
                  <a:pt x="3415" y="695"/>
                  <a:pt x="3423" y="695"/>
                </a:cubicBezTo>
                <a:cubicBezTo>
                  <a:pt x="3445" y="716"/>
                  <a:pt x="3352" y="742"/>
                  <a:pt x="3299" y="769"/>
                </a:cubicBezTo>
                <a:cubicBezTo>
                  <a:pt x="3252" y="793"/>
                  <a:pt x="3222" y="832"/>
                  <a:pt x="3175" y="843"/>
                </a:cubicBezTo>
                <a:cubicBezTo>
                  <a:pt x="3249" y="843"/>
                  <a:pt x="3324" y="843"/>
                  <a:pt x="3398" y="843"/>
                </a:cubicBezTo>
                <a:cubicBezTo>
                  <a:pt x="3331" y="857"/>
                  <a:pt x="3300" y="901"/>
                  <a:pt x="3249" y="943"/>
                </a:cubicBezTo>
                <a:cubicBezTo>
                  <a:pt x="3216" y="971"/>
                  <a:pt x="3190" y="973"/>
                  <a:pt x="3175" y="1017"/>
                </a:cubicBezTo>
                <a:cubicBezTo>
                  <a:pt x="3160" y="1062"/>
                  <a:pt x="3247" y="1042"/>
                  <a:pt x="3274" y="1042"/>
                </a:cubicBezTo>
                <a:cubicBezTo>
                  <a:pt x="3299" y="1042"/>
                  <a:pt x="3307" y="1042"/>
                  <a:pt x="3324" y="1042"/>
                </a:cubicBezTo>
                <a:cubicBezTo>
                  <a:pt x="3266" y="1083"/>
                  <a:pt x="3229" y="1153"/>
                  <a:pt x="3175" y="1191"/>
                </a:cubicBezTo>
                <a:cubicBezTo>
                  <a:pt x="3152" y="1207"/>
                  <a:pt x="3154" y="1206"/>
                  <a:pt x="3125" y="1215"/>
                </a:cubicBezTo>
              </a:path>
              <a:path w="5607" h="1216">
                <a:moveTo>
                  <a:pt x="2729" y="99"/>
                </a:moveTo>
                <a:cubicBezTo>
                  <a:pt x="2729" y="74"/>
                  <a:pt x="2729" y="50"/>
                  <a:pt x="2729" y="25"/>
                </a:cubicBezTo>
                <a:cubicBezTo>
                  <a:pt x="2729" y="83"/>
                  <a:pt x="2729" y="140"/>
                  <a:pt x="2729" y="198"/>
                </a:cubicBezTo>
              </a:path>
              <a:path w="5607" h="1216">
                <a:moveTo>
                  <a:pt x="2555" y="322"/>
                </a:moveTo>
                <a:cubicBezTo>
                  <a:pt x="2662" y="322"/>
                  <a:pt x="2770" y="322"/>
                  <a:pt x="2877" y="322"/>
                </a:cubicBezTo>
              </a:path>
              <a:path w="5607" h="1216">
                <a:moveTo>
                  <a:pt x="2753" y="471"/>
                </a:moveTo>
                <a:cubicBezTo>
                  <a:pt x="2695" y="471"/>
                  <a:pt x="2638" y="471"/>
                  <a:pt x="2580" y="471"/>
                </a:cubicBezTo>
              </a:path>
              <a:path w="5607" h="1216">
                <a:moveTo>
                  <a:pt x="2580" y="645"/>
                </a:moveTo>
                <a:cubicBezTo>
                  <a:pt x="2588" y="645"/>
                  <a:pt x="2596" y="645"/>
                  <a:pt x="2604" y="645"/>
                </a:cubicBezTo>
              </a:path>
              <a:path w="5607" h="1216">
                <a:moveTo>
                  <a:pt x="2629" y="843"/>
                </a:moveTo>
                <a:cubicBezTo>
                  <a:pt x="2550" y="843"/>
                  <a:pt x="2588" y="839"/>
                  <a:pt x="2530" y="794"/>
                </a:cubicBezTo>
                <a:cubicBezTo>
                  <a:pt x="2489" y="774"/>
                  <a:pt x="2473" y="776"/>
                  <a:pt x="2480" y="744"/>
                </a:cubicBezTo>
                <a:cubicBezTo>
                  <a:pt x="2438" y="744"/>
                  <a:pt x="2443" y="754"/>
                  <a:pt x="2431" y="719"/>
                </a:cubicBezTo>
              </a:path>
              <a:path w="5607" h="1216">
                <a:moveTo>
                  <a:pt x="2530" y="620"/>
                </a:moveTo>
                <a:cubicBezTo>
                  <a:pt x="2530" y="553"/>
                  <a:pt x="2530" y="659"/>
                  <a:pt x="2530" y="670"/>
                </a:cubicBezTo>
                <a:cubicBezTo>
                  <a:pt x="2568" y="657"/>
                  <a:pt x="2555" y="640"/>
                  <a:pt x="2555" y="595"/>
                </a:cubicBezTo>
                <a:cubicBezTo>
                  <a:pt x="2555" y="545"/>
                  <a:pt x="2555" y="496"/>
                  <a:pt x="2555" y="446"/>
                </a:cubicBezTo>
              </a:path>
              <a:path w="5607" h="1216">
                <a:moveTo>
                  <a:pt x="3572" y="298"/>
                </a:moveTo>
                <a:cubicBezTo>
                  <a:pt x="3625" y="287"/>
                  <a:pt x="3676" y="262"/>
                  <a:pt x="3721" y="248"/>
                </a:cubicBezTo>
                <a:cubicBezTo>
                  <a:pt x="3748" y="240"/>
                  <a:pt x="3792" y="248"/>
                  <a:pt x="3820" y="248"/>
                </a:cubicBezTo>
              </a:path>
              <a:path w="5607" h="1216">
                <a:moveTo>
                  <a:pt x="3646" y="546"/>
                </a:moveTo>
                <a:cubicBezTo>
                  <a:pt x="3663" y="478"/>
                  <a:pt x="3705" y="496"/>
                  <a:pt x="3770" y="496"/>
                </a:cubicBezTo>
                <a:cubicBezTo>
                  <a:pt x="3869" y="496"/>
                  <a:pt x="3969" y="496"/>
                  <a:pt x="4068" y="496"/>
                </a:cubicBezTo>
              </a:path>
              <a:path w="5607" h="1216">
                <a:moveTo>
                  <a:pt x="4738" y="124"/>
                </a:moveTo>
                <a:cubicBezTo>
                  <a:pt x="4630" y="124"/>
                  <a:pt x="4523" y="124"/>
                  <a:pt x="4415" y="124"/>
                </a:cubicBezTo>
                <a:cubicBezTo>
                  <a:pt x="4415" y="175"/>
                  <a:pt x="4426" y="182"/>
                  <a:pt x="4440" y="223"/>
                </a:cubicBezTo>
                <a:cubicBezTo>
                  <a:pt x="4449" y="250"/>
                  <a:pt x="4458" y="269"/>
                  <a:pt x="4490" y="273"/>
                </a:cubicBezTo>
                <a:cubicBezTo>
                  <a:pt x="4559" y="282"/>
                  <a:pt x="4827" y="229"/>
                  <a:pt x="4862" y="298"/>
                </a:cubicBezTo>
                <a:cubicBezTo>
                  <a:pt x="4886" y="344"/>
                  <a:pt x="4819" y="384"/>
                  <a:pt x="4787" y="397"/>
                </a:cubicBezTo>
                <a:cubicBezTo>
                  <a:pt x="4762" y="407"/>
                  <a:pt x="4713" y="420"/>
                  <a:pt x="4688" y="422"/>
                </a:cubicBezTo>
                <a:cubicBezTo>
                  <a:pt x="4639" y="425"/>
                  <a:pt x="4588" y="422"/>
                  <a:pt x="4539" y="422"/>
                </a:cubicBezTo>
              </a:path>
              <a:path w="5607" h="1216">
                <a:moveTo>
                  <a:pt x="4366" y="595"/>
                </a:moveTo>
                <a:cubicBezTo>
                  <a:pt x="4434" y="573"/>
                  <a:pt x="4639" y="528"/>
                  <a:pt x="4738" y="496"/>
                </a:cubicBezTo>
                <a:cubicBezTo>
                  <a:pt x="4973" y="419"/>
                  <a:pt x="5182" y="332"/>
                  <a:pt x="5432" y="322"/>
                </a:cubicBezTo>
                <a:cubicBezTo>
                  <a:pt x="5523" y="318"/>
                  <a:pt x="5614" y="322"/>
                  <a:pt x="5705" y="322"/>
                </a:cubicBezTo>
              </a:path>
              <a:path w="5607" h="1216">
                <a:moveTo>
                  <a:pt x="4787" y="645"/>
                </a:moveTo>
                <a:cubicBezTo>
                  <a:pt x="4801" y="618"/>
                  <a:pt x="4899" y="536"/>
                  <a:pt x="4936" y="521"/>
                </a:cubicBezTo>
                <a:cubicBezTo>
                  <a:pt x="4963" y="510"/>
                  <a:pt x="5028" y="521"/>
                  <a:pt x="5060" y="521"/>
                </a:cubicBezTo>
                <a:cubicBezTo>
                  <a:pt x="5060" y="568"/>
                  <a:pt x="5083" y="695"/>
                  <a:pt x="5035" y="719"/>
                </a:cubicBezTo>
                <a:cubicBezTo>
                  <a:pt x="5004" y="734"/>
                  <a:pt x="4951" y="785"/>
                  <a:pt x="4936" y="794"/>
                </a:cubicBezTo>
                <a:cubicBezTo>
                  <a:pt x="4913" y="807"/>
                  <a:pt x="4863" y="835"/>
                  <a:pt x="4837" y="843"/>
                </a:cubicBezTo>
                <a:cubicBezTo>
                  <a:pt x="4801" y="855"/>
                  <a:pt x="4776" y="886"/>
                  <a:pt x="4762" y="893"/>
                </a:cubicBezTo>
                <a:cubicBezTo>
                  <a:pt x="4727" y="911"/>
                  <a:pt x="4717" y="933"/>
                  <a:pt x="4688" y="943"/>
                </a:cubicBezTo>
                <a:cubicBezTo>
                  <a:pt x="4721" y="918"/>
                  <a:pt x="4730" y="884"/>
                  <a:pt x="4762" y="868"/>
                </a:cubicBezTo>
                <a:cubicBezTo>
                  <a:pt x="4792" y="853"/>
                  <a:pt x="4887" y="822"/>
                  <a:pt x="4911" y="794"/>
                </a:cubicBezTo>
                <a:cubicBezTo>
                  <a:pt x="4939" y="762"/>
                  <a:pt x="4971" y="749"/>
                  <a:pt x="5035" y="744"/>
                </a:cubicBezTo>
                <a:cubicBezTo>
                  <a:pt x="5080" y="740"/>
                  <a:pt x="5112" y="719"/>
                  <a:pt x="5159" y="719"/>
                </a:cubicBezTo>
                <a:cubicBezTo>
                  <a:pt x="5167" y="719"/>
                  <a:pt x="5176" y="719"/>
                  <a:pt x="5184" y="7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280" y="204840"/>
            <a:ext cx="1116000" cy="411120"/>
          </a:xfrm>
          <a:custGeom>
            <a:avLst/>
            <a:gdLst/>
            <a:ahLst/>
            <a:rect l="l" t="t" r="r" b="b"/>
            <a:pathLst>
              <a:path w="3102" h="1142">
                <a:moveTo>
                  <a:pt x="670" y="645"/>
                </a:moveTo>
                <a:cubicBezTo>
                  <a:pt x="670" y="681"/>
                  <a:pt x="666" y="676"/>
                  <a:pt x="595" y="719"/>
                </a:cubicBezTo>
                <a:cubicBezTo>
                  <a:pt x="470" y="794"/>
                  <a:pt x="430" y="932"/>
                  <a:pt x="397" y="1067"/>
                </a:cubicBezTo>
                <a:cubicBezTo>
                  <a:pt x="356" y="1233"/>
                  <a:pt x="328" y="1331"/>
                  <a:pt x="397" y="1488"/>
                </a:cubicBezTo>
                <a:cubicBezTo>
                  <a:pt x="458" y="1627"/>
                  <a:pt x="505" y="1706"/>
                  <a:pt x="670" y="1687"/>
                </a:cubicBezTo>
                <a:cubicBezTo>
                  <a:pt x="847" y="1667"/>
                  <a:pt x="922" y="1549"/>
                  <a:pt x="1017" y="1414"/>
                </a:cubicBezTo>
                <a:cubicBezTo>
                  <a:pt x="1084" y="1320"/>
                  <a:pt x="1128" y="1159"/>
                  <a:pt x="1091" y="1042"/>
                </a:cubicBezTo>
                <a:cubicBezTo>
                  <a:pt x="1049" y="908"/>
                  <a:pt x="941" y="826"/>
                  <a:pt x="819" y="769"/>
                </a:cubicBezTo>
                <a:cubicBezTo>
                  <a:pt x="715" y="721"/>
                  <a:pt x="687" y="748"/>
                  <a:pt x="595" y="794"/>
                </a:cubicBezTo>
              </a:path>
              <a:path w="3102" h="1142">
                <a:moveTo>
                  <a:pt x="1662" y="595"/>
                </a:moveTo>
                <a:cubicBezTo>
                  <a:pt x="1528" y="740"/>
                  <a:pt x="1493" y="793"/>
                  <a:pt x="1488" y="992"/>
                </a:cubicBezTo>
                <a:cubicBezTo>
                  <a:pt x="1485" y="1103"/>
                  <a:pt x="1495" y="1186"/>
                  <a:pt x="1538" y="1290"/>
                </a:cubicBezTo>
                <a:cubicBezTo>
                  <a:pt x="1561" y="1346"/>
                  <a:pt x="1627" y="1422"/>
                  <a:pt x="1687" y="1439"/>
                </a:cubicBezTo>
                <a:cubicBezTo>
                  <a:pt x="1762" y="1460"/>
                  <a:pt x="1931" y="1459"/>
                  <a:pt x="1984" y="1389"/>
                </a:cubicBezTo>
                <a:cubicBezTo>
                  <a:pt x="2045" y="1310"/>
                  <a:pt x="2176" y="1198"/>
                  <a:pt x="2208" y="1091"/>
                </a:cubicBezTo>
                <a:cubicBezTo>
                  <a:pt x="2228" y="1025"/>
                  <a:pt x="2234" y="877"/>
                  <a:pt x="2208" y="819"/>
                </a:cubicBezTo>
                <a:cubicBezTo>
                  <a:pt x="2167" y="727"/>
                  <a:pt x="2075" y="655"/>
                  <a:pt x="1984" y="620"/>
                </a:cubicBezTo>
                <a:cubicBezTo>
                  <a:pt x="1864" y="574"/>
                  <a:pt x="1798" y="604"/>
                  <a:pt x="1687" y="645"/>
                </a:cubicBezTo>
              </a:path>
              <a:path w="3102" h="1142">
                <a:moveTo>
                  <a:pt x="3001" y="595"/>
                </a:moveTo>
                <a:cubicBezTo>
                  <a:pt x="2913" y="563"/>
                  <a:pt x="2841" y="574"/>
                  <a:pt x="2753" y="620"/>
                </a:cubicBezTo>
                <a:cubicBezTo>
                  <a:pt x="2615" y="692"/>
                  <a:pt x="2587" y="796"/>
                  <a:pt x="2580" y="943"/>
                </a:cubicBezTo>
                <a:cubicBezTo>
                  <a:pt x="2576" y="1031"/>
                  <a:pt x="2586" y="1219"/>
                  <a:pt x="2654" y="1290"/>
                </a:cubicBezTo>
                <a:cubicBezTo>
                  <a:pt x="2747" y="1387"/>
                  <a:pt x="2873" y="1407"/>
                  <a:pt x="3001" y="1389"/>
                </a:cubicBezTo>
                <a:cubicBezTo>
                  <a:pt x="3116" y="1373"/>
                  <a:pt x="3193" y="1292"/>
                  <a:pt x="3274" y="1215"/>
                </a:cubicBezTo>
                <a:cubicBezTo>
                  <a:pt x="3358" y="1134"/>
                  <a:pt x="3422" y="1010"/>
                  <a:pt x="3448" y="893"/>
                </a:cubicBezTo>
                <a:cubicBezTo>
                  <a:pt x="3463" y="825"/>
                  <a:pt x="3455" y="740"/>
                  <a:pt x="3398" y="695"/>
                </a:cubicBezTo>
                <a:cubicBezTo>
                  <a:pt x="3317" y="631"/>
                  <a:pt x="3203" y="599"/>
                  <a:pt x="3101" y="595"/>
                </a:cubicBezTo>
                <a:cubicBezTo>
                  <a:pt x="3022" y="592"/>
                  <a:pt x="2975" y="606"/>
                  <a:pt x="2902" y="620"/>
                </a:cubicBezTo>
              </a:path>
              <a:path w="3102" h="1142">
                <a:moveTo>
                  <a:pt x="2977" y="595"/>
                </a:moveTo>
                <a:cubicBezTo>
                  <a:pt x="2928" y="724"/>
                  <a:pt x="2975" y="876"/>
                  <a:pt x="3001" y="1017"/>
                </a:cubicBezTo>
                <a:cubicBezTo>
                  <a:pt x="3021" y="1126"/>
                  <a:pt x="3013" y="1238"/>
                  <a:pt x="3051" y="1339"/>
                </a:cubicBezTo>
              </a:path>
              <a:path w="3102" h="1142">
                <a:moveTo>
                  <a:pt x="1811" y="645"/>
                </a:moveTo>
                <a:cubicBezTo>
                  <a:pt x="1811" y="867"/>
                  <a:pt x="1792" y="1099"/>
                  <a:pt x="1836" y="1315"/>
                </a:cubicBezTo>
                <a:cubicBezTo>
                  <a:pt x="1844" y="1354"/>
                  <a:pt x="1836" y="1399"/>
                  <a:pt x="1836" y="1439"/>
                </a:cubicBezTo>
              </a:path>
              <a:path w="3102" h="1142">
                <a:moveTo>
                  <a:pt x="744" y="695"/>
                </a:moveTo>
                <a:cubicBezTo>
                  <a:pt x="744" y="781"/>
                  <a:pt x="765" y="858"/>
                  <a:pt x="769" y="943"/>
                </a:cubicBezTo>
                <a:cubicBezTo>
                  <a:pt x="775" y="1071"/>
                  <a:pt x="764" y="1194"/>
                  <a:pt x="744" y="1315"/>
                </a:cubicBezTo>
                <a:cubicBezTo>
                  <a:pt x="733" y="1380"/>
                  <a:pt x="723" y="1449"/>
                  <a:pt x="719" y="1513"/>
                </a:cubicBezTo>
                <a:cubicBezTo>
                  <a:pt x="715" y="1585"/>
                  <a:pt x="701" y="1640"/>
                  <a:pt x="695" y="1712"/>
                </a:cubicBezTo>
              </a:path>
              <a:path w="3102" h="1142">
                <a:moveTo>
                  <a:pt x="595" y="1067"/>
                </a:moveTo>
                <a:cubicBezTo>
                  <a:pt x="595" y="1059"/>
                  <a:pt x="595" y="1050"/>
                  <a:pt x="595" y="1042"/>
                </a:cubicBezTo>
              </a:path>
              <a:path w="3102" h="1142">
                <a:moveTo>
                  <a:pt x="620" y="967"/>
                </a:moveTo>
                <a:cubicBezTo>
                  <a:pt x="770" y="923"/>
                  <a:pt x="906" y="871"/>
                  <a:pt x="1042" y="794"/>
                </a:cubicBezTo>
              </a:path>
              <a:path w="3102" h="1142">
                <a:moveTo>
                  <a:pt x="595" y="1141"/>
                </a:moveTo>
                <a:cubicBezTo>
                  <a:pt x="716" y="1092"/>
                  <a:pt x="755" y="1077"/>
                  <a:pt x="819" y="1017"/>
                </a:cubicBezTo>
              </a:path>
              <a:path w="3102" h="1142">
                <a:moveTo>
                  <a:pt x="595" y="1290"/>
                </a:moveTo>
                <a:cubicBezTo>
                  <a:pt x="694" y="1244"/>
                  <a:pt x="790" y="1203"/>
                  <a:pt x="893" y="1166"/>
                </a:cubicBezTo>
              </a:path>
              <a:path w="3102" h="1142">
                <a:moveTo>
                  <a:pt x="620" y="1439"/>
                </a:moveTo>
                <a:cubicBezTo>
                  <a:pt x="719" y="1389"/>
                  <a:pt x="753" y="1372"/>
                  <a:pt x="819" y="1339"/>
                </a:cubicBezTo>
              </a:path>
              <a:path w="3102" h="1142">
                <a:moveTo>
                  <a:pt x="645" y="1563"/>
                </a:moveTo>
                <a:cubicBezTo>
                  <a:pt x="742" y="1521"/>
                  <a:pt x="828" y="1471"/>
                  <a:pt x="918" y="14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8200" y="633240"/>
            <a:ext cx="608040" cy="546120"/>
          </a:xfrm>
          <a:custGeom>
            <a:avLst/>
            <a:gdLst/>
            <a:ahLst/>
            <a:rect l="l" t="t" r="r" b="b"/>
            <a:pathLst>
              <a:path w="1688" h="1514">
                <a:moveTo>
                  <a:pt x="1240" y="2108"/>
                </a:moveTo>
                <a:cubicBezTo>
                  <a:pt x="1308" y="2033"/>
                  <a:pt x="1381" y="1956"/>
                  <a:pt x="1488" y="1935"/>
                </a:cubicBezTo>
                <a:cubicBezTo>
                  <a:pt x="1572" y="1918"/>
                  <a:pt x="1600" y="2019"/>
                  <a:pt x="1612" y="2084"/>
                </a:cubicBezTo>
                <a:cubicBezTo>
                  <a:pt x="1638" y="2224"/>
                  <a:pt x="1477" y="2311"/>
                  <a:pt x="1389" y="2381"/>
                </a:cubicBezTo>
                <a:cubicBezTo>
                  <a:pt x="1264" y="2480"/>
                  <a:pt x="1118" y="2533"/>
                  <a:pt x="992" y="2629"/>
                </a:cubicBezTo>
                <a:cubicBezTo>
                  <a:pt x="873" y="2720"/>
                  <a:pt x="831" y="2872"/>
                  <a:pt x="769" y="3001"/>
                </a:cubicBezTo>
                <a:cubicBezTo>
                  <a:pt x="761" y="3018"/>
                  <a:pt x="752" y="3034"/>
                  <a:pt x="744" y="3051"/>
                </a:cubicBezTo>
                <a:cubicBezTo>
                  <a:pt x="895" y="3006"/>
                  <a:pt x="965" y="2875"/>
                  <a:pt x="1091" y="2778"/>
                </a:cubicBezTo>
                <a:cubicBezTo>
                  <a:pt x="1155" y="2736"/>
                  <a:pt x="1166" y="2720"/>
                  <a:pt x="1215" y="2729"/>
                </a:cubicBezTo>
                <a:cubicBezTo>
                  <a:pt x="1303" y="2881"/>
                  <a:pt x="1278" y="3076"/>
                  <a:pt x="1488" y="3001"/>
                </a:cubicBezTo>
                <a:cubicBezTo>
                  <a:pt x="1582" y="2931"/>
                  <a:pt x="1614" y="2914"/>
                  <a:pt x="1612" y="2828"/>
                </a:cubicBezTo>
              </a:path>
              <a:path w="1688" h="1514">
                <a:moveTo>
                  <a:pt x="2307" y="1761"/>
                </a:moveTo>
                <a:cubicBezTo>
                  <a:pt x="2259" y="1929"/>
                  <a:pt x="2273" y="2115"/>
                  <a:pt x="2232" y="2282"/>
                </a:cubicBezTo>
                <a:cubicBezTo>
                  <a:pt x="2224" y="2290"/>
                  <a:pt x="2216" y="2299"/>
                  <a:pt x="2208" y="2307"/>
                </a:cubicBezTo>
              </a:path>
              <a:path w="1688" h="1514">
                <a:moveTo>
                  <a:pt x="1935" y="2456"/>
                </a:moveTo>
                <a:cubicBezTo>
                  <a:pt x="2076" y="2470"/>
                  <a:pt x="2212" y="2480"/>
                  <a:pt x="2356" y="2480"/>
                </a:cubicBezTo>
                <a:cubicBezTo>
                  <a:pt x="2401" y="2480"/>
                  <a:pt x="2414" y="2477"/>
                  <a:pt x="2431" y="2505"/>
                </a:cubicBezTo>
              </a:path>
              <a:path w="1688" h="1514">
                <a:moveTo>
                  <a:pt x="2009" y="2753"/>
                </a:moveTo>
                <a:cubicBezTo>
                  <a:pt x="2062" y="2716"/>
                  <a:pt x="2104" y="2685"/>
                  <a:pt x="2158" y="2654"/>
                </a:cubicBezTo>
                <a:cubicBezTo>
                  <a:pt x="2173" y="2820"/>
                  <a:pt x="2193" y="2953"/>
                  <a:pt x="2059" y="3076"/>
                </a:cubicBezTo>
                <a:cubicBezTo>
                  <a:pt x="1994" y="3135"/>
                  <a:pt x="1896" y="3162"/>
                  <a:pt x="1836" y="3225"/>
                </a:cubicBezTo>
                <a:cubicBezTo>
                  <a:pt x="1828" y="3241"/>
                  <a:pt x="1819" y="3258"/>
                  <a:pt x="1811" y="3274"/>
                </a:cubicBezTo>
                <a:cubicBezTo>
                  <a:pt x="1858" y="3232"/>
                  <a:pt x="1928" y="3141"/>
                  <a:pt x="2009" y="3175"/>
                </a:cubicBezTo>
                <a:cubicBezTo>
                  <a:pt x="2063" y="3198"/>
                  <a:pt x="2100" y="3268"/>
                  <a:pt x="2158" y="3274"/>
                </a:cubicBezTo>
                <a:cubicBezTo>
                  <a:pt x="2237" y="3274"/>
                  <a:pt x="2266" y="3271"/>
                  <a:pt x="2307" y="32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82840" y="419040"/>
            <a:ext cx="1982520" cy="376200"/>
          </a:xfrm>
          <a:custGeom>
            <a:avLst/>
            <a:gdLst/>
            <a:ahLst/>
            <a:rect l="l" t="t" r="r" b="b"/>
            <a:pathLst>
              <a:path w="5507" h="1043">
                <a:moveTo>
                  <a:pt x="4688" y="1687"/>
                </a:moveTo>
                <a:cubicBezTo>
                  <a:pt x="4626" y="1809"/>
                  <a:pt x="4595" y="1924"/>
                  <a:pt x="4564" y="2059"/>
                </a:cubicBezTo>
                <a:cubicBezTo>
                  <a:pt x="4649" y="2014"/>
                  <a:pt x="4768" y="1826"/>
                  <a:pt x="4812" y="1910"/>
                </a:cubicBezTo>
                <a:cubicBezTo>
                  <a:pt x="4898" y="2076"/>
                  <a:pt x="4884" y="2070"/>
                  <a:pt x="5060" y="2059"/>
                </a:cubicBezTo>
                <a:cubicBezTo>
                  <a:pt x="5081" y="1860"/>
                  <a:pt x="5088" y="1765"/>
                  <a:pt x="4911" y="1662"/>
                </a:cubicBezTo>
              </a:path>
              <a:path w="5507" h="1043">
                <a:moveTo>
                  <a:pt x="5308" y="1588"/>
                </a:moveTo>
                <a:cubicBezTo>
                  <a:pt x="5292" y="1772"/>
                  <a:pt x="5283" y="1948"/>
                  <a:pt x="5283" y="2133"/>
                </a:cubicBezTo>
                <a:cubicBezTo>
                  <a:pt x="5305" y="1981"/>
                  <a:pt x="5304" y="1942"/>
                  <a:pt x="5358" y="1860"/>
                </a:cubicBezTo>
                <a:cubicBezTo>
                  <a:pt x="5497" y="1895"/>
                  <a:pt x="5523" y="2042"/>
                  <a:pt x="5507" y="2183"/>
                </a:cubicBezTo>
                <a:cubicBezTo>
                  <a:pt x="5499" y="2191"/>
                  <a:pt x="5490" y="2200"/>
                  <a:pt x="5482" y="2208"/>
                </a:cubicBezTo>
              </a:path>
              <a:path w="5507" h="1043">
                <a:moveTo>
                  <a:pt x="5730" y="1935"/>
                </a:moveTo>
                <a:cubicBezTo>
                  <a:pt x="5645" y="1990"/>
                  <a:pt x="5613" y="2016"/>
                  <a:pt x="5581" y="2084"/>
                </a:cubicBezTo>
                <a:cubicBezTo>
                  <a:pt x="5661" y="2208"/>
                  <a:pt x="5839" y="2270"/>
                  <a:pt x="5904" y="2059"/>
                </a:cubicBezTo>
                <a:cubicBezTo>
                  <a:pt x="5935" y="1958"/>
                  <a:pt x="5762" y="1932"/>
                  <a:pt x="5705" y="1910"/>
                </a:cubicBezTo>
              </a:path>
              <a:path w="5507" h="1043">
                <a:moveTo>
                  <a:pt x="6052" y="1637"/>
                </a:moveTo>
                <a:cubicBezTo>
                  <a:pt x="6052" y="1814"/>
                  <a:pt x="6055" y="1984"/>
                  <a:pt x="6028" y="2158"/>
                </a:cubicBezTo>
              </a:path>
              <a:path w="5507" h="1043">
                <a:moveTo>
                  <a:pt x="6152" y="2034"/>
                </a:moveTo>
                <a:cubicBezTo>
                  <a:pt x="6274" y="1977"/>
                  <a:pt x="6327" y="1981"/>
                  <a:pt x="6375" y="1860"/>
                </a:cubicBezTo>
                <a:cubicBezTo>
                  <a:pt x="6237" y="1792"/>
                  <a:pt x="6103" y="1810"/>
                  <a:pt x="6077" y="2009"/>
                </a:cubicBezTo>
                <a:cubicBezTo>
                  <a:pt x="6055" y="2176"/>
                  <a:pt x="6200" y="2166"/>
                  <a:pt x="6300" y="2183"/>
                </a:cubicBezTo>
              </a:path>
              <a:path w="5507" h="1043">
                <a:moveTo>
                  <a:pt x="6821" y="1761"/>
                </a:moveTo>
                <a:cubicBezTo>
                  <a:pt x="6869" y="1894"/>
                  <a:pt x="6921" y="2013"/>
                  <a:pt x="6995" y="2133"/>
                </a:cubicBezTo>
              </a:path>
              <a:path w="5507" h="1043">
                <a:moveTo>
                  <a:pt x="7094" y="1662"/>
                </a:moveTo>
                <a:cubicBezTo>
                  <a:pt x="6972" y="1829"/>
                  <a:pt x="6845" y="1991"/>
                  <a:pt x="6722" y="2158"/>
                </a:cubicBezTo>
              </a:path>
              <a:path w="5507" h="1043">
                <a:moveTo>
                  <a:pt x="7764" y="2059"/>
                </a:moveTo>
                <a:cubicBezTo>
                  <a:pt x="7764" y="1924"/>
                  <a:pt x="7770" y="1820"/>
                  <a:pt x="7640" y="1736"/>
                </a:cubicBezTo>
                <a:cubicBezTo>
                  <a:pt x="7615" y="1728"/>
                  <a:pt x="7590" y="1720"/>
                  <a:pt x="7565" y="1712"/>
                </a:cubicBezTo>
                <a:cubicBezTo>
                  <a:pt x="7489" y="1801"/>
                  <a:pt x="7268" y="2031"/>
                  <a:pt x="7466" y="2133"/>
                </a:cubicBezTo>
                <a:cubicBezTo>
                  <a:pt x="7602" y="2133"/>
                  <a:pt x="7652" y="2126"/>
                  <a:pt x="7714" y="2034"/>
                </a:cubicBezTo>
              </a:path>
              <a:path w="5507" h="1043">
                <a:moveTo>
                  <a:pt x="7838" y="1563"/>
                </a:moveTo>
                <a:cubicBezTo>
                  <a:pt x="7810" y="1756"/>
                  <a:pt x="7789" y="1938"/>
                  <a:pt x="7789" y="2133"/>
                </a:cubicBezTo>
                <a:cubicBezTo>
                  <a:pt x="7789" y="2141"/>
                  <a:pt x="7789" y="2150"/>
                  <a:pt x="7789" y="2158"/>
                </a:cubicBezTo>
              </a:path>
              <a:path w="5507" h="1043">
                <a:moveTo>
                  <a:pt x="8136" y="1265"/>
                </a:moveTo>
                <a:cubicBezTo>
                  <a:pt x="8218" y="1675"/>
                  <a:pt x="8231" y="1820"/>
                  <a:pt x="7962" y="2133"/>
                </a:cubicBezTo>
              </a:path>
              <a:path w="5507" h="1043">
                <a:moveTo>
                  <a:pt x="4539" y="1166"/>
                </a:moveTo>
                <a:cubicBezTo>
                  <a:pt x="4339" y="1306"/>
                  <a:pt x="4171" y="1507"/>
                  <a:pt x="4118" y="1761"/>
                </a:cubicBezTo>
                <a:cubicBezTo>
                  <a:pt x="4095" y="1870"/>
                  <a:pt x="4155" y="2152"/>
                  <a:pt x="4316" y="2158"/>
                </a:cubicBezTo>
                <a:cubicBezTo>
                  <a:pt x="4341" y="2150"/>
                  <a:pt x="4365" y="2141"/>
                  <a:pt x="4390" y="2133"/>
                </a:cubicBezTo>
              </a:path>
              <a:path w="5507" h="1043">
                <a:moveTo>
                  <a:pt x="8830" y="1538"/>
                </a:moveTo>
                <a:cubicBezTo>
                  <a:pt x="8790" y="1682"/>
                  <a:pt x="8779" y="1859"/>
                  <a:pt x="8706" y="1984"/>
                </a:cubicBezTo>
              </a:path>
              <a:path w="5507" h="1043">
                <a:moveTo>
                  <a:pt x="8533" y="1736"/>
                </a:moveTo>
                <a:cubicBezTo>
                  <a:pt x="8647" y="1736"/>
                  <a:pt x="8744" y="1741"/>
                  <a:pt x="8855" y="1761"/>
                </a:cubicBezTo>
              </a:path>
              <a:path w="5507" h="1043">
                <a:moveTo>
                  <a:pt x="9178" y="1612"/>
                </a:moveTo>
                <a:cubicBezTo>
                  <a:pt x="9171" y="1704"/>
                  <a:pt x="9160" y="1793"/>
                  <a:pt x="9153" y="1885"/>
                </a:cubicBezTo>
                <a:cubicBezTo>
                  <a:pt x="9121" y="1901"/>
                  <a:pt x="9134" y="1806"/>
                  <a:pt x="9153" y="1736"/>
                </a:cubicBezTo>
                <a:cubicBezTo>
                  <a:pt x="9178" y="1641"/>
                  <a:pt x="9200" y="1622"/>
                  <a:pt x="9277" y="1563"/>
                </a:cubicBezTo>
                <a:cubicBezTo>
                  <a:pt x="9322" y="1528"/>
                  <a:pt x="9390" y="1492"/>
                  <a:pt x="9451" y="1513"/>
                </a:cubicBezTo>
                <a:cubicBezTo>
                  <a:pt x="9521" y="1537"/>
                  <a:pt x="9565" y="1601"/>
                  <a:pt x="9599" y="1662"/>
                </a:cubicBezTo>
                <a:cubicBezTo>
                  <a:pt x="9638" y="1733"/>
                  <a:pt x="9622" y="1813"/>
                  <a:pt x="9599" y="1885"/>
                </a:cubicBezTo>
                <a:cubicBezTo>
                  <a:pt x="9583" y="1935"/>
                  <a:pt x="9575" y="1956"/>
                  <a:pt x="9575" y="2009"/>
                </a:cubicBezTo>
              </a:path>
              <a:path w="5507" h="1043">
                <a:moveTo>
                  <a:pt x="8954" y="1736"/>
                </a:moveTo>
                <a:cubicBezTo>
                  <a:pt x="8979" y="1736"/>
                  <a:pt x="9004" y="1736"/>
                  <a:pt x="9029" y="17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24080" y="946080"/>
            <a:ext cx="160200" cy="260280"/>
          </a:xfrm>
          <a:custGeom>
            <a:avLst/>
            <a:gdLst/>
            <a:ahLst/>
            <a:rect l="l" t="t" r="r" b="b"/>
            <a:pathLst>
              <a:path w="448" h="721">
                <a:moveTo>
                  <a:pt x="6623" y="3101"/>
                </a:moveTo>
                <a:cubicBezTo>
                  <a:pt x="6576" y="2988"/>
                  <a:pt x="6542" y="2878"/>
                  <a:pt x="6400" y="2927"/>
                </a:cubicBezTo>
                <a:cubicBezTo>
                  <a:pt x="6198" y="2997"/>
                  <a:pt x="6180" y="3145"/>
                  <a:pt x="6201" y="3324"/>
                </a:cubicBezTo>
                <a:cubicBezTo>
                  <a:pt x="6410" y="3372"/>
                  <a:pt x="6455" y="3301"/>
                  <a:pt x="6598" y="3150"/>
                </a:cubicBezTo>
              </a:path>
              <a:path w="448" h="721">
                <a:moveTo>
                  <a:pt x="6623" y="2629"/>
                </a:moveTo>
                <a:cubicBezTo>
                  <a:pt x="6623" y="2805"/>
                  <a:pt x="6609" y="2976"/>
                  <a:pt x="6598" y="3150"/>
                </a:cubicBezTo>
                <a:cubicBezTo>
                  <a:pt x="6598" y="3241"/>
                  <a:pt x="6598" y="3249"/>
                  <a:pt x="6598" y="32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8040" y="5160960"/>
            <a:ext cx="3062160" cy="1652760"/>
          </a:xfrm>
          <a:custGeom>
            <a:avLst/>
            <a:gdLst/>
            <a:ahLst/>
            <a:rect l="l" t="t" r="r" b="b"/>
            <a:pathLst>
              <a:path w="8509" h="4590">
                <a:moveTo>
                  <a:pt x="2084" y="14461"/>
                </a:moveTo>
                <a:cubicBezTo>
                  <a:pt x="2165" y="14562"/>
                  <a:pt x="2177" y="14582"/>
                  <a:pt x="2232" y="14635"/>
                </a:cubicBezTo>
              </a:path>
              <a:path w="8509" h="4590">
                <a:moveTo>
                  <a:pt x="2232" y="14436"/>
                </a:moveTo>
                <a:cubicBezTo>
                  <a:pt x="2208" y="14553"/>
                  <a:pt x="2177" y="14669"/>
                  <a:pt x="2158" y="14784"/>
                </a:cubicBezTo>
              </a:path>
              <a:path w="8509" h="4590">
                <a:moveTo>
                  <a:pt x="2307" y="15627"/>
                </a:moveTo>
                <a:cubicBezTo>
                  <a:pt x="2464" y="15669"/>
                  <a:pt x="2569" y="15795"/>
                  <a:pt x="2431" y="15974"/>
                </a:cubicBezTo>
                <a:cubicBezTo>
                  <a:pt x="2334" y="16052"/>
                  <a:pt x="2323" y="16069"/>
                  <a:pt x="2257" y="16098"/>
                </a:cubicBezTo>
                <a:cubicBezTo>
                  <a:pt x="2230" y="16010"/>
                  <a:pt x="2224" y="15846"/>
                  <a:pt x="2381" y="15875"/>
                </a:cubicBezTo>
                <a:cubicBezTo>
                  <a:pt x="2450" y="15921"/>
                  <a:pt x="2470" y="15933"/>
                  <a:pt x="2505" y="15974"/>
                </a:cubicBezTo>
              </a:path>
              <a:path w="8509" h="4590">
                <a:moveTo>
                  <a:pt x="2580" y="15652"/>
                </a:moveTo>
                <a:cubicBezTo>
                  <a:pt x="2580" y="15730"/>
                  <a:pt x="2547" y="15922"/>
                  <a:pt x="2704" y="15850"/>
                </a:cubicBezTo>
                <a:cubicBezTo>
                  <a:pt x="2734" y="15836"/>
                  <a:pt x="2796" y="15758"/>
                  <a:pt x="2828" y="15726"/>
                </a:cubicBezTo>
              </a:path>
              <a:path w="8509" h="4590">
                <a:moveTo>
                  <a:pt x="2778" y="15503"/>
                </a:moveTo>
                <a:cubicBezTo>
                  <a:pt x="2788" y="15692"/>
                  <a:pt x="2833" y="15866"/>
                  <a:pt x="2853" y="16049"/>
                </a:cubicBezTo>
              </a:path>
              <a:path w="8509" h="4590">
                <a:moveTo>
                  <a:pt x="2232" y="16073"/>
                </a:moveTo>
                <a:cubicBezTo>
                  <a:pt x="2473" y="16039"/>
                  <a:pt x="2703" y="15981"/>
                  <a:pt x="2952" y="15999"/>
                </a:cubicBezTo>
                <a:cubicBezTo>
                  <a:pt x="2985" y="16007"/>
                  <a:pt x="3018" y="16016"/>
                  <a:pt x="3051" y="16024"/>
                </a:cubicBezTo>
              </a:path>
              <a:path w="8509" h="4590">
                <a:moveTo>
                  <a:pt x="2828" y="16222"/>
                </a:moveTo>
                <a:cubicBezTo>
                  <a:pt x="2766" y="16274"/>
                  <a:pt x="2567" y="16338"/>
                  <a:pt x="2530" y="16396"/>
                </a:cubicBezTo>
                <a:cubicBezTo>
                  <a:pt x="2500" y="16442"/>
                  <a:pt x="2558" y="16512"/>
                  <a:pt x="2580" y="16545"/>
                </a:cubicBezTo>
                <a:cubicBezTo>
                  <a:pt x="2673" y="16490"/>
                  <a:pt x="2804" y="16398"/>
                  <a:pt x="2877" y="16545"/>
                </a:cubicBezTo>
                <a:cubicBezTo>
                  <a:pt x="2966" y="16725"/>
                  <a:pt x="2813" y="16939"/>
                  <a:pt x="2629" y="16966"/>
                </a:cubicBezTo>
                <a:cubicBezTo>
                  <a:pt x="2568" y="16946"/>
                  <a:pt x="2554" y="16948"/>
                  <a:pt x="2530" y="16917"/>
                </a:cubicBezTo>
              </a:path>
              <a:path w="8509" h="4590">
                <a:moveTo>
                  <a:pt x="3274" y="16148"/>
                </a:moveTo>
                <a:cubicBezTo>
                  <a:pt x="3372" y="16246"/>
                  <a:pt x="3463" y="16341"/>
                  <a:pt x="3547" y="16446"/>
                </a:cubicBezTo>
              </a:path>
              <a:path w="8509" h="4590">
                <a:moveTo>
                  <a:pt x="3473" y="16098"/>
                </a:moveTo>
                <a:cubicBezTo>
                  <a:pt x="3446" y="16238"/>
                  <a:pt x="3416" y="16379"/>
                  <a:pt x="3398" y="16520"/>
                </a:cubicBezTo>
              </a:path>
              <a:path w="8509" h="4590">
                <a:moveTo>
                  <a:pt x="4043" y="14436"/>
                </a:moveTo>
                <a:lnTo>
                  <a:pt x="4043" y="14436"/>
                </a:lnTo>
              </a:path>
              <a:path w="8509" h="4590">
                <a:moveTo>
                  <a:pt x="4093" y="14387"/>
                </a:moveTo>
                <a:cubicBezTo>
                  <a:pt x="4140" y="14471"/>
                  <a:pt x="4179" y="14537"/>
                  <a:pt x="4242" y="14610"/>
                </a:cubicBezTo>
              </a:path>
              <a:path w="8509" h="4590">
                <a:moveTo>
                  <a:pt x="4217" y="14337"/>
                </a:moveTo>
                <a:cubicBezTo>
                  <a:pt x="4153" y="14430"/>
                  <a:pt x="4078" y="14518"/>
                  <a:pt x="4018" y="14610"/>
                </a:cubicBezTo>
                <a:cubicBezTo>
                  <a:pt x="3994" y="14660"/>
                  <a:pt x="3986" y="14676"/>
                  <a:pt x="3969" y="14709"/>
                </a:cubicBezTo>
              </a:path>
              <a:path w="8509" h="4590">
                <a:moveTo>
                  <a:pt x="4043" y="15577"/>
                </a:moveTo>
                <a:cubicBezTo>
                  <a:pt x="4043" y="15734"/>
                  <a:pt x="4043" y="15892"/>
                  <a:pt x="4043" y="16049"/>
                </a:cubicBezTo>
              </a:path>
              <a:path w="8509" h="4590">
                <a:moveTo>
                  <a:pt x="4341" y="15677"/>
                </a:moveTo>
                <a:cubicBezTo>
                  <a:pt x="4252" y="15730"/>
                  <a:pt x="4208" y="15867"/>
                  <a:pt x="4266" y="15974"/>
                </a:cubicBezTo>
                <a:cubicBezTo>
                  <a:pt x="4283" y="15982"/>
                  <a:pt x="4299" y="15991"/>
                  <a:pt x="4316" y="15999"/>
                </a:cubicBezTo>
                <a:cubicBezTo>
                  <a:pt x="4430" y="15913"/>
                  <a:pt x="4524" y="15866"/>
                  <a:pt x="4415" y="15726"/>
                </a:cubicBezTo>
                <a:cubicBezTo>
                  <a:pt x="4390" y="15701"/>
                  <a:pt x="4366" y="15677"/>
                  <a:pt x="4341" y="15652"/>
                </a:cubicBezTo>
              </a:path>
              <a:path w="8509" h="4590">
                <a:moveTo>
                  <a:pt x="3969" y="16098"/>
                </a:moveTo>
                <a:cubicBezTo>
                  <a:pt x="4119" y="16143"/>
                  <a:pt x="4260" y="16111"/>
                  <a:pt x="4415" y="16098"/>
                </a:cubicBezTo>
                <a:cubicBezTo>
                  <a:pt x="4440" y="16098"/>
                  <a:pt x="4465" y="16098"/>
                  <a:pt x="4490" y="16098"/>
                </a:cubicBezTo>
              </a:path>
              <a:path w="8509" h="4590">
                <a:moveTo>
                  <a:pt x="4366" y="16421"/>
                </a:moveTo>
                <a:cubicBezTo>
                  <a:pt x="4332" y="16373"/>
                  <a:pt x="4280" y="16305"/>
                  <a:pt x="4217" y="16297"/>
                </a:cubicBezTo>
                <a:cubicBezTo>
                  <a:pt x="4064" y="16277"/>
                  <a:pt x="4093" y="16450"/>
                  <a:pt x="4093" y="16545"/>
                </a:cubicBezTo>
                <a:cubicBezTo>
                  <a:pt x="4220" y="16566"/>
                  <a:pt x="4217" y="16559"/>
                  <a:pt x="4291" y="16470"/>
                </a:cubicBezTo>
                <a:cubicBezTo>
                  <a:pt x="4338" y="16424"/>
                  <a:pt x="4356" y="16412"/>
                  <a:pt x="4316" y="16371"/>
                </a:cubicBezTo>
                <a:cubicBezTo>
                  <a:pt x="4316" y="16491"/>
                  <a:pt x="4335" y="16601"/>
                  <a:pt x="4341" y="16718"/>
                </a:cubicBezTo>
                <a:cubicBezTo>
                  <a:pt x="4341" y="16735"/>
                  <a:pt x="4341" y="16751"/>
                  <a:pt x="4341" y="16768"/>
                </a:cubicBezTo>
              </a:path>
              <a:path w="8509" h="4590">
                <a:moveTo>
                  <a:pt x="3125" y="16073"/>
                </a:moveTo>
                <a:cubicBezTo>
                  <a:pt x="3285" y="16202"/>
                  <a:pt x="3444" y="16334"/>
                  <a:pt x="3597" y="16470"/>
                </a:cubicBezTo>
                <a:cubicBezTo>
                  <a:pt x="3746" y="16603"/>
                  <a:pt x="3424" y="16275"/>
                  <a:pt x="3398" y="16247"/>
                </a:cubicBezTo>
                <a:cubicBezTo>
                  <a:pt x="3327" y="16176"/>
                  <a:pt x="3307" y="16154"/>
                  <a:pt x="3249" y="16123"/>
                </a:cubicBezTo>
                <a:cubicBezTo>
                  <a:pt x="3379" y="16273"/>
                  <a:pt x="3540" y="16396"/>
                  <a:pt x="3696" y="16520"/>
                </a:cubicBezTo>
                <a:cubicBezTo>
                  <a:pt x="3721" y="16537"/>
                  <a:pt x="3745" y="16553"/>
                  <a:pt x="3770" y="16570"/>
                </a:cubicBezTo>
                <a:cubicBezTo>
                  <a:pt x="3697" y="16496"/>
                  <a:pt x="3196" y="16064"/>
                  <a:pt x="3423" y="16247"/>
                </a:cubicBezTo>
                <a:cubicBezTo>
                  <a:pt x="3532" y="16335"/>
                  <a:pt x="3660" y="16388"/>
                  <a:pt x="3770" y="16470"/>
                </a:cubicBezTo>
              </a:path>
              <a:path w="8509" h="4590">
                <a:moveTo>
                  <a:pt x="4539" y="16321"/>
                </a:moveTo>
                <a:cubicBezTo>
                  <a:pt x="4306" y="16457"/>
                  <a:pt x="4109" y="16630"/>
                  <a:pt x="3894" y="16793"/>
                </a:cubicBezTo>
                <a:cubicBezTo>
                  <a:pt x="3835" y="16832"/>
                  <a:pt x="3823" y="16836"/>
                  <a:pt x="3795" y="16867"/>
                </a:cubicBezTo>
              </a:path>
              <a:path w="8509" h="4590">
                <a:moveTo>
                  <a:pt x="4192" y="17090"/>
                </a:moveTo>
                <a:cubicBezTo>
                  <a:pt x="4285" y="17026"/>
                  <a:pt x="4324" y="17023"/>
                  <a:pt x="4440" y="17016"/>
                </a:cubicBezTo>
                <a:cubicBezTo>
                  <a:pt x="4487" y="17173"/>
                  <a:pt x="4432" y="17231"/>
                  <a:pt x="4341" y="17363"/>
                </a:cubicBezTo>
                <a:cubicBezTo>
                  <a:pt x="4494" y="17352"/>
                  <a:pt x="4530" y="17477"/>
                  <a:pt x="4366" y="17537"/>
                </a:cubicBezTo>
                <a:cubicBezTo>
                  <a:pt x="4263" y="17563"/>
                  <a:pt x="4228" y="17570"/>
                  <a:pt x="4167" y="17512"/>
                </a:cubicBezTo>
              </a:path>
              <a:path w="8509" h="4590">
                <a:moveTo>
                  <a:pt x="2977" y="15429"/>
                </a:moveTo>
                <a:cubicBezTo>
                  <a:pt x="2736" y="15603"/>
                  <a:pt x="2525" y="15861"/>
                  <a:pt x="2257" y="15999"/>
                </a:cubicBezTo>
                <a:cubicBezTo>
                  <a:pt x="2129" y="16065"/>
                  <a:pt x="2082" y="16093"/>
                  <a:pt x="2059" y="15999"/>
                </a:cubicBezTo>
              </a:path>
              <a:path w="8509" h="4590">
                <a:moveTo>
                  <a:pt x="1935" y="15280"/>
                </a:moveTo>
                <a:cubicBezTo>
                  <a:pt x="1810" y="15305"/>
                  <a:pt x="1758" y="15347"/>
                  <a:pt x="1687" y="15453"/>
                </a:cubicBezTo>
                <a:cubicBezTo>
                  <a:pt x="1780" y="15547"/>
                  <a:pt x="1949" y="15637"/>
                  <a:pt x="1960" y="15776"/>
                </a:cubicBezTo>
                <a:cubicBezTo>
                  <a:pt x="1952" y="15792"/>
                  <a:pt x="1943" y="15809"/>
                  <a:pt x="1935" y="15825"/>
                </a:cubicBezTo>
                <a:cubicBezTo>
                  <a:pt x="1876" y="15779"/>
                  <a:pt x="1796" y="15745"/>
                  <a:pt x="1811" y="15652"/>
                </a:cubicBezTo>
                <a:cubicBezTo>
                  <a:pt x="1824" y="15574"/>
                  <a:pt x="1907" y="15484"/>
                  <a:pt x="1935" y="15404"/>
                </a:cubicBezTo>
                <a:cubicBezTo>
                  <a:pt x="1957" y="15337"/>
                  <a:pt x="1962" y="15319"/>
                  <a:pt x="1984" y="15280"/>
                </a:cubicBezTo>
              </a:path>
              <a:path w="8509" h="4590">
                <a:moveTo>
                  <a:pt x="3026" y="16520"/>
                </a:moveTo>
                <a:cubicBezTo>
                  <a:pt x="3218" y="16382"/>
                  <a:pt x="3417" y="16267"/>
                  <a:pt x="3621" y="16148"/>
                </a:cubicBezTo>
                <a:cubicBezTo>
                  <a:pt x="3663" y="16123"/>
                  <a:pt x="3704" y="16098"/>
                  <a:pt x="3746" y="16073"/>
                </a:cubicBezTo>
                <a:cubicBezTo>
                  <a:pt x="3745" y="16099"/>
                  <a:pt x="3478" y="16256"/>
                  <a:pt x="3398" y="16297"/>
                </a:cubicBezTo>
                <a:cubicBezTo>
                  <a:pt x="3357" y="16313"/>
                  <a:pt x="3315" y="16330"/>
                  <a:pt x="3274" y="16346"/>
                </a:cubicBezTo>
                <a:cubicBezTo>
                  <a:pt x="3108" y="16413"/>
                  <a:pt x="3475" y="16202"/>
                  <a:pt x="3621" y="16098"/>
                </a:cubicBezTo>
                <a:cubicBezTo>
                  <a:pt x="3717" y="16022"/>
                  <a:pt x="3722" y="15989"/>
                  <a:pt x="3795" y="15999"/>
                </a:cubicBezTo>
              </a:path>
              <a:path w="8509" h="4590">
                <a:moveTo>
                  <a:pt x="2480" y="16793"/>
                </a:moveTo>
                <a:cubicBezTo>
                  <a:pt x="2451" y="16763"/>
                  <a:pt x="2440" y="16748"/>
                  <a:pt x="2431" y="16718"/>
                </a:cubicBezTo>
                <a:cubicBezTo>
                  <a:pt x="2557" y="16660"/>
                  <a:pt x="2669" y="16590"/>
                  <a:pt x="2803" y="16545"/>
                </a:cubicBezTo>
                <a:cubicBezTo>
                  <a:pt x="2909" y="16510"/>
                  <a:pt x="3021" y="16488"/>
                  <a:pt x="3125" y="16446"/>
                </a:cubicBezTo>
                <a:cubicBezTo>
                  <a:pt x="3173" y="16422"/>
                  <a:pt x="3188" y="16414"/>
                  <a:pt x="3225" y="16421"/>
                </a:cubicBezTo>
              </a:path>
              <a:path w="8509" h="4590">
                <a:moveTo>
                  <a:pt x="2034" y="16966"/>
                </a:moveTo>
                <a:cubicBezTo>
                  <a:pt x="2019" y="17083"/>
                  <a:pt x="2012" y="17204"/>
                  <a:pt x="1984" y="17314"/>
                </a:cubicBezTo>
              </a:path>
              <a:path w="8509" h="4590">
                <a:moveTo>
                  <a:pt x="3919" y="15999"/>
                </a:moveTo>
                <a:cubicBezTo>
                  <a:pt x="4123" y="15875"/>
                  <a:pt x="4318" y="15767"/>
                  <a:pt x="4539" y="15677"/>
                </a:cubicBezTo>
              </a:path>
              <a:path w="8509" h="4590">
                <a:moveTo>
                  <a:pt x="4762" y="15503"/>
                </a:moveTo>
                <a:cubicBezTo>
                  <a:pt x="4961" y="15394"/>
                  <a:pt x="4885" y="15543"/>
                  <a:pt x="4787" y="15652"/>
                </a:cubicBezTo>
                <a:cubicBezTo>
                  <a:pt x="4598" y="15864"/>
                  <a:pt x="4804" y="15730"/>
                  <a:pt x="4936" y="15701"/>
                </a:cubicBezTo>
              </a:path>
              <a:path w="8509" h="4590">
                <a:moveTo>
                  <a:pt x="4936" y="16247"/>
                </a:moveTo>
                <a:cubicBezTo>
                  <a:pt x="5020" y="16239"/>
                  <a:pt x="5099" y="16227"/>
                  <a:pt x="5184" y="16222"/>
                </a:cubicBezTo>
              </a:path>
              <a:path w="8509" h="4590">
                <a:moveTo>
                  <a:pt x="4887" y="16421"/>
                </a:moveTo>
                <a:cubicBezTo>
                  <a:pt x="4978" y="16421"/>
                  <a:pt x="5068" y="16421"/>
                  <a:pt x="5159" y="16421"/>
                </a:cubicBezTo>
              </a:path>
              <a:path w="8509" h="4590">
                <a:moveTo>
                  <a:pt x="6077" y="15925"/>
                </a:moveTo>
                <a:cubicBezTo>
                  <a:pt x="6049" y="16043"/>
                  <a:pt x="6016" y="16156"/>
                  <a:pt x="5978" y="16272"/>
                </a:cubicBezTo>
              </a:path>
              <a:path w="8509" h="4590">
                <a:moveTo>
                  <a:pt x="6400" y="15900"/>
                </a:moveTo>
                <a:cubicBezTo>
                  <a:pt x="6400" y="16002"/>
                  <a:pt x="6383" y="16021"/>
                  <a:pt x="6350" y="16123"/>
                </a:cubicBezTo>
                <a:cubicBezTo>
                  <a:pt x="6325" y="16200"/>
                  <a:pt x="6267" y="16375"/>
                  <a:pt x="6424" y="16346"/>
                </a:cubicBezTo>
                <a:cubicBezTo>
                  <a:pt x="6546" y="16324"/>
                  <a:pt x="6567" y="16256"/>
                  <a:pt x="6623" y="16173"/>
                </a:cubicBezTo>
                <a:cubicBezTo>
                  <a:pt x="6526" y="16136"/>
                  <a:pt x="6478" y="16142"/>
                  <a:pt x="6424" y="16247"/>
                </a:cubicBezTo>
                <a:cubicBezTo>
                  <a:pt x="6416" y="16272"/>
                  <a:pt x="6408" y="16296"/>
                  <a:pt x="6400" y="16321"/>
                </a:cubicBezTo>
              </a:path>
              <a:path w="8509" h="4590">
                <a:moveTo>
                  <a:pt x="5755" y="16594"/>
                </a:moveTo>
                <a:cubicBezTo>
                  <a:pt x="5849" y="16548"/>
                  <a:pt x="5919" y="16534"/>
                  <a:pt x="6028" y="16545"/>
                </a:cubicBezTo>
                <a:cubicBezTo>
                  <a:pt x="6280" y="16570"/>
                  <a:pt x="6518" y="16594"/>
                  <a:pt x="6772" y="16594"/>
                </a:cubicBezTo>
                <a:cubicBezTo>
                  <a:pt x="6797" y="16594"/>
                  <a:pt x="6821" y="16594"/>
                  <a:pt x="6846" y="16594"/>
                </a:cubicBezTo>
              </a:path>
              <a:path w="8509" h="4590">
                <a:moveTo>
                  <a:pt x="6077" y="16818"/>
                </a:moveTo>
                <a:cubicBezTo>
                  <a:pt x="6131" y="16742"/>
                  <a:pt x="6178" y="16725"/>
                  <a:pt x="6276" y="16718"/>
                </a:cubicBezTo>
                <a:cubicBezTo>
                  <a:pt x="6428" y="16707"/>
                  <a:pt x="6300" y="16948"/>
                  <a:pt x="6276" y="16991"/>
                </a:cubicBezTo>
                <a:cubicBezTo>
                  <a:pt x="6227" y="17081"/>
                  <a:pt x="6195" y="17090"/>
                  <a:pt x="6102" y="17090"/>
                </a:cubicBezTo>
                <a:cubicBezTo>
                  <a:pt x="6169" y="17023"/>
                  <a:pt x="6181" y="17022"/>
                  <a:pt x="6276" y="17041"/>
                </a:cubicBezTo>
                <a:cubicBezTo>
                  <a:pt x="6299" y="17146"/>
                  <a:pt x="6277" y="17255"/>
                  <a:pt x="6152" y="17289"/>
                </a:cubicBezTo>
                <a:cubicBezTo>
                  <a:pt x="6084" y="17289"/>
                  <a:pt x="6065" y="17292"/>
                  <a:pt x="6028" y="17264"/>
                </a:cubicBezTo>
              </a:path>
              <a:path w="8509" h="4590">
                <a:moveTo>
                  <a:pt x="6772" y="17785"/>
                </a:moveTo>
                <a:cubicBezTo>
                  <a:pt x="6738" y="17954"/>
                  <a:pt x="6689" y="18134"/>
                  <a:pt x="6648" y="18306"/>
                </a:cubicBezTo>
                <a:cubicBezTo>
                  <a:pt x="6640" y="18339"/>
                  <a:pt x="6631" y="18372"/>
                  <a:pt x="6623" y="18405"/>
                </a:cubicBezTo>
              </a:path>
              <a:path w="8509" h="4590">
                <a:moveTo>
                  <a:pt x="6945" y="17884"/>
                </a:moveTo>
                <a:cubicBezTo>
                  <a:pt x="6921" y="18032"/>
                  <a:pt x="6870" y="18175"/>
                  <a:pt x="6896" y="18331"/>
                </a:cubicBezTo>
                <a:cubicBezTo>
                  <a:pt x="6924" y="18495"/>
                  <a:pt x="7149" y="18356"/>
                  <a:pt x="7193" y="18281"/>
                </a:cubicBezTo>
                <a:cubicBezTo>
                  <a:pt x="7201" y="18248"/>
                  <a:pt x="7210" y="18215"/>
                  <a:pt x="7218" y="18182"/>
                </a:cubicBezTo>
                <a:cubicBezTo>
                  <a:pt x="7086" y="18106"/>
                  <a:pt x="7022" y="18274"/>
                  <a:pt x="6945" y="18405"/>
                </a:cubicBezTo>
              </a:path>
              <a:path w="8509" h="4590">
                <a:moveTo>
                  <a:pt x="6474" y="18554"/>
                </a:moveTo>
                <a:cubicBezTo>
                  <a:pt x="6435" y="18373"/>
                  <a:pt x="6467" y="18193"/>
                  <a:pt x="6449" y="18008"/>
                </a:cubicBezTo>
                <a:cubicBezTo>
                  <a:pt x="6438" y="17897"/>
                  <a:pt x="6424" y="17798"/>
                  <a:pt x="6424" y="17686"/>
                </a:cubicBezTo>
                <a:cubicBezTo>
                  <a:pt x="6424" y="17678"/>
                  <a:pt x="6424" y="17669"/>
                  <a:pt x="6424" y="17661"/>
                </a:cubicBezTo>
                <a:cubicBezTo>
                  <a:pt x="6679" y="17622"/>
                  <a:pt x="6933" y="17614"/>
                  <a:pt x="7193" y="17611"/>
                </a:cubicBezTo>
                <a:cubicBezTo>
                  <a:pt x="7268" y="17611"/>
                  <a:pt x="7342" y="17611"/>
                  <a:pt x="7417" y="17611"/>
                </a:cubicBezTo>
              </a:path>
              <a:path w="8509" h="4590">
                <a:moveTo>
                  <a:pt x="5804" y="17983"/>
                </a:moveTo>
                <a:cubicBezTo>
                  <a:pt x="5819" y="17862"/>
                  <a:pt x="5862" y="17869"/>
                  <a:pt x="5978" y="17859"/>
                </a:cubicBezTo>
                <a:cubicBezTo>
                  <a:pt x="6032" y="17983"/>
                  <a:pt x="5981" y="18028"/>
                  <a:pt x="5879" y="18107"/>
                </a:cubicBezTo>
                <a:cubicBezTo>
                  <a:pt x="6023" y="18136"/>
                  <a:pt x="6098" y="18212"/>
                  <a:pt x="5978" y="18355"/>
                </a:cubicBezTo>
                <a:cubicBezTo>
                  <a:pt x="5852" y="18506"/>
                  <a:pt x="5772" y="18407"/>
                  <a:pt x="5655" y="18331"/>
                </a:cubicBezTo>
              </a:path>
              <a:path w="8509" h="4590">
                <a:moveTo>
                  <a:pt x="7094" y="17165"/>
                </a:moveTo>
                <a:cubicBezTo>
                  <a:pt x="7055" y="17157"/>
                  <a:pt x="6906" y="17130"/>
                  <a:pt x="6871" y="17165"/>
                </a:cubicBezTo>
                <a:cubicBezTo>
                  <a:pt x="6812" y="17224"/>
                  <a:pt x="6805" y="17287"/>
                  <a:pt x="6796" y="17363"/>
                </a:cubicBezTo>
                <a:cubicBezTo>
                  <a:pt x="6887" y="17333"/>
                  <a:pt x="7063" y="17255"/>
                  <a:pt x="7094" y="17413"/>
                </a:cubicBezTo>
                <a:cubicBezTo>
                  <a:pt x="7127" y="17583"/>
                  <a:pt x="6885" y="17582"/>
                  <a:pt x="6796" y="17562"/>
                </a:cubicBezTo>
                <a:cubicBezTo>
                  <a:pt x="6771" y="17554"/>
                  <a:pt x="6747" y="17545"/>
                  <a:pt x="6722" y="17537"/>
                </a:cubicBezTo>
              </a:path>
              <a:path w="8509" h="4590">
                <a:moveTo>
                  <a:pt x="6772" y="18479"/>
                </a:moveTo>
                <a:cubicBezTo>
                  <a:pt x="6762" y="18549"/>
                  <a:pt x="6735" y="18612"/>
                  <a:pt x="6722" y="18678"/>
                </a:cubicBezTo>
              </a:path>
              <a:path w="8509" h="4590">
                <a:moveTo>
                  <a:pt x="6995" y="18504"/>
                </a:moveTo>
                <a:cubicBezTo>
                  <a:pt x="6967" y="18504"/>
                  <a:pt x="6994" y="18589"/>
                  <a:pt x="6921" y="18678"/>
                </a:cubicBezTo>
              </a:path>
              <a:path w="8509" h="4590">
                <a:moveTo>
                  <a:pt x="6970" y="18455"/>
                </a:moveTo>
                <a:cubicBezTo>
                  <a:pt x="7066" y="18407"/>
                  <a:pt x="7095" y="18390"/>
                  <a:pt x="7169" y="18405"/>
                </a:cubicBezTo>
              </a:path>
              <a:path w="8509" h="4590">
                <a:moveTo>
                  <a:pt x="7243" y="18529"/>
                </a:moveTo>
                <a:cubicBezTo>
                  <a:pt x="7045" y="18672"/>
                  <a:pt x="6865" y="18789"/>
                  <a:pt x="6648" y="18901"/>
                </a:cubicBezTo>
              </a:path>
              <a:path w="8509" h="4590">
                <a:moveTo>
                  <a:pt x="7317" y="18703"/>
                </a:moveTo>
                <a:cubicBezTo>
                  <a:pt x="7267" y="18815"/>
                  <a:pt x="7260" y="18857"/>
                  <a:pt x="7169" y="18926"/>
                </a:cubicBezTo>
              </a:path>
              <a:path w="8509" h="4590">
                <a:moveTo>
                  <a:pt x="7466" y="16371"/>
                </a:moveTo>
                <a:cubicBezTo>
                  <a:pt x="7566" y="16344"/>
                  <a:pt x="7657" y="16346"/>
                  <a:pt x="7764" y="16346"/>
                </a:cubicBezTo>
              </a:path>
              <a:path w="8509" h="4590">
                <a:moveTo>
                  <a:pt x="7565" y="16619"/>
                </a:moveTo>
                <a:cubicBezTo>
                  <a:pt x="7606" y="16611"/>
                  <a:pt x="7648" y="16602"/>
                  <a:pt x="7689" y="16594"/>
                </a:cubicBezTo>
              </a:path>
              <a:path w="8509" h="4590">
                <a:moveTo>
                  <a:pt x="8706" y="15949"/>
                </a:moveTo>
                <a:cubicBezTo>
                  <a:pt x="8635" y="15970"/>
                  <a:pt x="8399" y="15968"/>
                  <a:pt x="8359" y="15999"/>
                </a:cubicBezTo>
                <a:cubicBezTo>
                  <a:pt x="8285" y="16056"/>
                  <a:pt x="8251" y="16280"/>
                  <a:pt x="8210" y="16371"/>
                </a:cubicBezTo>
                <a:cubicBezTo>
                  <a:pt x="8313" y="16332"/>
                  <a:pt x="8496" y="16209"/>
                  <a:pt x="8607" y="16297"/>
                </a:cubicBezTo>
                <a:cubicBezTo>
                  <a:pt x="8849" y="16489"/>
                  <a:pt x="8458" y="16692"/>
                  <a:pt x="8310" y="16718"/>
                </a:cubicBezTo>
                <a:cubicBezTo>
                  <a:pt x="8116" y="16718"/>
                  <a:pt x="8070" y="16729"/>
                  <a:pt x="7962" y="16669"/>
                </a:cubicBezTo>
              </a:path>
              <a:path w="8509" h="4590">
                <a:moveTo>
                  <a:pt x="9227" y="15801"/>
                </a:moveTo>
                <a:cubicBezTo>
                  <a:pt x="9258" y="15956"/>
                  <a:pt x="9246" y="16069"/>
                  <a:pt x="9203" y="16222"/>
                </a:cubicBezTo>
              </a:path>
              <a:path w="8509" h="4590">
                <a:moveTo>
                  <a:pt x="8905" y="16321"/>
                </a:moveTo>
                <a:cubicBezTo>
                  <a:pt x="9103" y="16291"/>
                  <a:pt x="9258" y="16258"/>
                  <a:pt x="9451" y="16321"/>
                </a:cubicBezTo>
              </a:path>
              <a:path w="8509" h="4590">
                <a:moveTo>
                  <a:pt x="9004" y="16520"/>
                </a:moveTo>
                <a:cubicBezTo>
                  <a:pt x="9126" y="16487"/>
                  <a:pt x="9204" y="16481"/>
                  <a:pt x="9327" y="16495"/>
                </a:cubicBezTo>
                <a:cubicBezTo>
                  <a:pt x="9299" y="16622"/>
                  <a:pt x="9197" y="16694"/>
                  <a:pt x="9054" y="16694"/>
                </a:cubicBezTo>
                <a:cubicBezTo>
                  <a:pt x="9070" y="16686"/>
                  <a:pt x="9087" y="16677"/>
                  <a:pt x="9103" y="16669"/>
                </a:cubicBezTo>
                <a:cubicBezTo>
                  <a:pt x="9324" y="16702"/>
                  <a:pt x="9368" y="16802"/>
                  <a:pt x="9103" y="16892"/>
                </a:cubicBezTo>
                <a:cubicBezTo>
                  <a:pt x="9053" y="16900"/>
                  <a:pt x="9004" y="16909"/>
                  <a:pt x="8954" y="16917"/>
                </a:cubicBezTo>
              </a:path>
              <a:path w="8509" h="4590">
                <a:moveTo>
                  <a:pt x="7913" y="16966"/>
                </a:moveTo>
                <a:cubicBezTo>
                  <a:pt x="8159" y="17124"/>
                  <a:pt x="8360" y="17261"/>
                  <a:pt x="8657" y="17289"/>
                </a:cubicBezTo>
                <a:cubicBezTo>
                  <a:pt x="8969" y="17318"/>
                  <a:pt x="9269" y="17215"/>
                  <a:pt x="9550" y="17090"/>
                </a:cubicBezTo>
                <a:cubicBezTo>
                  <a:pt x="9901" y="16933"/>
                  <a:pt x="10167" y="16733"/>
                  <a:pt x="10195" y="16321"/>
                </a:cubicBezTo>
                <a:cubicBezTo>
                  <a:pt x="10218" y="15986"/>
                  <a:pt x="10123" y="15701"/>
                  <a:pt x="9847" y="15503"/>
                </a:cubicBezTo>
                <a:cubicBezTo>
                  <a:pt x="9614" y="15336"/>
                  <a:pt x="9296" y="15177"/>
                  <a:pt x="9004" y="15255"/>
                </a:cubicBezTo>
                <a:cubicBezTo>
                  <a:pt x="8647" y="15351"/>
                  <a:pt x="8379" y="15660"/>
                  <a:pt x="8210" y="15974"/>
                </a:cubicBezTo>
                <a:cubicBezTo>
                  <a:pt x="8068" y="16238"/>
                  <a:pt x="8048" y="16577"/>
                  <a:pt x="8111" y="16867"/>
                </a:cubicBezTo>
                <a:cubicBezTo>
                  <a:pt x="8151" y="17048"/>
                  <a:pt x="8242" y="17097"/>
                  <a:pt x="8384" y="171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60880" y="5491080"/>
            <a:ext cx="992160" cy="662040"/>
          </a:xfrm>
          <a:custGeom>
            <a:avLst/>
            <a:gdLst/>
            <a:ahLst/>
            <a:rect l="l" t="t" r="r" b="b"/>
            <a:pathLst>
              <a:path w="2754" h="1836">
                <a:moveTo>
                  <a:pt x="11931" y="15602"/>
                </a:moveTo>
                <a:cubicBezTo>
                  <a:pt x="11890" y="15766"/>
                  <a:pt x="11867" y="15929"/>
                  <a:pt x="11857" y="16098"/>
                </a:cubicBezTo>
              </a:path>
              <a:path w="2754" h="1836">
                <a:moveTo>
                  <a:pt x="12179" y="15602"/>
                </a:moveTo>
                <a:cubicBezTo>
                  <a:pt x="12241" y="15759"/>
                  <a:pt x="12254" y="15878"/>
                  <a:pt x="12254" y="16049"/>
                </a:cubicBezTo>
              </a:path>
              <a:path w="2754" h="1836">
                <a:moveTo>
                  <a:pt x="11658" y="16321"/>
                </a:moveTo>
                <a:cubicBezTo>
                  <a:pt x="11844" y="16228"/>
                  <a:pt x="12084" y="16106"/>
                  <a:pt x="12303" y="16148"/>
                </a:cubicBezTo>
                <a:cubicBezTo>
                  <a:pt x="12328" y="16164"/>
                  <a:pt x="12353" y="16181"/>
                  <a:pt x="12378" y="16197"/>
                </a:cubicBezTo>
              </a:path>
              <a:path w="2754" h="1836">
                <a:moveTo>
                  <a:pt x="12105" y="16396"/>
                </a:moveTo>
                <a:cubicBezTo>
                  <a:pt x="12098" y="16496"/>
                  <a:pt x="12091" y="16573"/>
                  <a:pt x="12105" y="16669"/>
                </a:cubicBezTo>
                <a:cubicBezTo>
                  <a:pt x="12211" y="16616"/>
                  <a:pt x="12332" y="16579"/>
                  <a:pt x="12402" y="16495"/>
                </a:cubicBezTo>
              </a:path>
              <a:path w="2754" h="1836">
                <a:moveTo>
                  <a:pt x="12353" y="16272"/>
                </a:moveTo>
                <a:cubicBezTo>
                  <a:pt x="12353" y="16423"/>
                  <a:pt x="12367" y="16568"/>
                  <a:pt x="12378" y="16718"/>
                </a:cubicBezTo>
                <a:cubicBezTo>
                  <a:pt x="12378" y="16743"/>
                  <a:pt x="12378" y="16768"/>
                  <a:pt x="12378" y="16793"/>
                </a:cubicBezTo>
              </a:path>
              <a:path w="2754" h="1836">
                <a:moveTo>
                  <a:pt x="12626" y="16123"/>
                </a:moveTo>
                <a:cubicBezTo>
                  <a:pt x="12757" y="16225"/>
                  <a:pt x="12851" y="16335"/>
                  <a:pt x="12948" y="16470"/>
                </a:cubicBezTo>
              </a:path>
              <a:path w="2754" h="1836">
                <a:moveTo>
                  <a:pt x="12898" y="16073"/>
                </a:moveTo>
                <a:cubicBezTo>
                  <a:pt x="12809" y="16239"/>
                  <a:pt x="12765" y="16385"/>
                  <a:pt x="12725" y="16570"/>
                </a:cubicBezTo>
              </a:path>
              <a:path w="2754" h="1836">
                <a:moveTo>
                  <a:pt x="13171" y="15726"/>
                </a:moveTo>
                <a:cubicBezTo>
                  <a:pt x="13183" y="15829"/>
                  <a:pt x="13188" y="15961"/>
                  <a:pt x="13221" y="16049"/>
                </a:cubicBezTo>
              </a:path>
              <a:path w="2754" h="1836">
                <a:moveTo>
                  <a:pt x="13370" y="15677"/>
                </a:moveTo>
                <a:cubicBezTo>
                  <a:pt x="13409" y="15777"/>
                  <a:pt x="13433" y="15906"/>
                  <a:pt x="13543" y="15925"/>
                </a:cubicBezTo>
                <a:cubicBezTo>
                  <a:pt x="13641" y="15941"/>
                  <a:pt x="13658" y="15877"/>
                  <a:pt x="13667" y="15801"/>
                </a:cubicBezTo>
                <a:cubicBezTo>
                  <a:pt x="13541" y="15769"/>
                  <a:pt x="13528" y="15864"/>
                  <a:pt x="13469" y="15974"/>
                </a:cubicBezTo>
              </a:path>
              <a:path w="2754" h="1836">
                <a:moveTo>
                  <a:pt x="13370" y="16173"/>
                </a:moveTo>
                <a:cubicBezTo>
                  <a:pt x="13493" y="16106"/>
                  <a:pt x="13578" y="16074"/>
                  <a:pt x="13717" y="16123"/>
                </a:cubicBezTo>
                <a:cubicBezTo>
                  <a:pt x="13734" y="16131"/>
                  <a:pt x="13750" y="16140"/>
                  <a:pt x="13767" y="16148"/>
                </a:cubicBezTo>
              </a:path>
              <a:path w="2754" h="1836">
                <a:moveTo>
                  <a:pt x="13519" y="16396"/>
                </a:moveTo>
                <a:cubicBezTo>
                  <a:pt x="13528" y="16530"/>
                  <a:pt x="13543" y="16658"/>
                  <a:pt x="13543" y="16793"/>
                </a:cubicBezTo>
              </a:path>
              <a:path w="2754" h="1836">
                <a:moveTo>
                  <a:pt x="12601" y="16346"/>
                </a:moveTo>
                <a:cubicBezTo>
                  <a:pt x="12712" y="16309"/>
                  <a:pt x="12778" y="16199"/>
                  <a:pt x="12849" y="16098"/>
                </a:cubicBezTo>
                <a:cubicBezTo>
                  <a:pt x="12874" y="16049"/>
                  <a:pt x="12882" y="16033"/>
                  <a:pt x="12923" y="16024"/>
                </a:cubicBezTo>
                <a:cubicBezTo>
                  <a:pt x="12937" y="16146"/>
                  <a:pt x="12843" y="16204"/>
                  <a:pt x="12750" y="16297"/>
                </a:cubicBezTo>
                <a:cubicBezTo>
                  <a:pt x="12740" y="16307"/>
                  <a:pt x="12567" y="16452"/>
                  <a:pt x="12626" y="16346"/>
                </a:cubicBezTo>
                <a:cubicBezTo>
                  <a:pt x="12683" y="16243"/>
                  <a:pt x="12762" y="16170"/>
                  <a:pt x="12849" y="16098"/>
                </a:cubicBezTo>
                <a:cubicBezTo>
                  <a:pt x="12817" y="16202"/>
                  <a:pt x="12740" y="16317"/>
                  <a:pt x="12650" y="16396"/>
                </a:cubicBezTo>
                <a:cubicBezTo>
                  <a:pt x="12543" y="16490"/>
                  <a:pt x="12789" y="16208"/>
                  <a:pt x="12824" y="16173"/>
                </a:cubicBezTo>
              </a:path>
              <a:path w="2754" h="1836">
                <a:moveTo>
                  <a:pt x="13072" y="15726"/>
                </a:moveTo>
                <a:cubicBezTo>
                  <a:pt x="13223" y="15740"/>
                  <a:pt x="13353" y="15790"/>
                  <a:pt x="13494" y="15825"/>
                </a:cubicBezTo>
                <a:cubicBezTo>
                  <a:pt x="13535" y="15825"/>
                  <a:pt x="13543" y="15825"/>
                  <a:pt x="13568" y="15825"/>
                </a:cubicBezTo>
              </a:path>
              <a:path w="2754" h="1836">
                <a:moveTo>
                  <a:pt x="13593" y="15329"/>
                </a:moveTo>
                <a:cubicBezTo>
                  <a:pt x="13614" y="15422"/>
                  <a:pt x="13620" y="15463"/>
                  <a:pt x="13593" y="15553"/>
                </a:cubicBezTo>
                <a:cubicBezTo>
                  <a:pt x="13683" y="15538"/>
                  <a:pt x="13755" y="15511"/>
                  <a:pt x="13841" y="15478"/>
                </a:cubicBezTo>
              </a:path>
              <a:path w="2754" h="1836">
                <a:moveTo>
                  <a:pt x="13866" y="15255"/>
                </a:moveTo>
                <a:cubicBezTo>
                  <a:pt x="13830" y="15375"/>
                  <a:pt x="13860" y="15476"/>
                  <a:pt x="13866" y="15602"/>
                </a:cubicBezTo>
                <a:cubicBezTo>
                  <a:pt x="13866" y="15635"/>
                  <a:pt x="13866" y="15652"/>
                  <a:pt x="13866" y="15677"/>
                </a:cubicBezTo>
              </a:path>
              <a:path w="2754" h="1836">
                <a:moveTo>
                  <a:pt x="12055" y="16718"/>
                </a:moveTo>
                <a:cubicBezTo>
                  <a:pt x="12127" y="16576"/>
                  <a:pt x="12232" y="16524"/>
                  <a:pt x="12353" y="16421"/>
                </a:cubicBezTo>
                <a:cubicBezTo>
                  <a:pt x="12431" y="16354"/>
                  <a:pt x="12449" y="16378"/>
                  <a:pt x="12526" y="16346"/>
                </a:cubicBezTo>
                <a:cubicBezTo>
                  <a:pt x="12534" y="16338"/>
                  <a:pt x="12543" y="16329"/>
                  <a:pt x="12551" y="16321"/>
                </a:cubicBezTo>
              </a:path>
              <a:path w="2754" h="1836">
                <a:moveTo>
                  <a:pt x="11633" y="16768"/>
                </a:moveTo>
                <a:cubicBezTo>
                  <a:pt x="11586" y="16865"/>
                  <a:pt x="11569" y="16979"/>
                  <a:pt x="11559" y="17090"/>
                </a:cubicBezTo>
              </a:path>
              <a:path w="2754" h="1836">
                <a:moveTo>
                  <a:pt x="14089" y="16173"/>
                </a:moveTo>
                <a:cubicBezTo>
                  <a:pt x="14029" y="16173"/>
                  <a:pt x="14175" y="16173"/>
                  <a:pt x="14213" y="16173"/>
                </a:cubicBezTo>
                <a:cubicBezTo>
                  <a:pt x="14230" y="16173"/>
                  <a:pt x="14246" y="16173"/>
                  <a:pt x="14263" y="16173"/>
                </a:cubicBezTo>
              </a:path>
              <a:path w="2754" h="1836">
                <a:moveTo>
                  <a:pt x="14089" y="16421"/>
                </a:moveTo>
                <a:cubicBezTo>
                  <a:pt x="14166" y="16401"/>
                  <a:pt x="14252" y="16372"/>
                  <a:pt x="14312" y="163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84880" y="5133960"/>
            <a:ext cx="2840040" cy="1527120"/>
          </a:xfrm>
          <a:custGeom>
            <a:avLst/>
            <a:gdLst/>
            <a:ahLst/>
            <a:rect l="l" t="t" r="r" b="b"/>
            <a:pathLst>
              <a:path w="7889" h="4242">
                <a:moveTo>
                  <a:pt x="15007" y="15825"/>
                </a:moveTo>
                <a:cubicBezTo>
                  <a:pt x="14982" y="15900"/>
                  <a:pt x="14974" y="15924"/>
                  <a:pt x="14957" y="15974"/>
                </a:cubicBezTo>
                <a:cubicBezTo>
                  <a:pt x="15060" y="15974"/>
                  <a:pt x="15067" y="15965"/>
                  <a:pt x="15156" y="15925"/>
                </a:cubicBezTo>
              </a:path>
              <a:path w="7889" h="4242">
                <a:moveTo>
                  <a:pt x="15230" y="15701"/>
                </a:moveTo>
                <a:cubicBezTo>
                  <a:pt x="15230" y="15836"/>
                  <a:pt x="15214" y="15965"/>
                  <a:pt x="15205" y="16098"/>
                </a:cubicBezTo>
              </a:path>
              <a:path w="7889" h="4242">
                <a:moveTo>
                  <a:pt x="15429" y="15801"/>
                </a:moveTo>
                <a:cubicBezTo>
                  <a:pt x="15429" y="15885"/>
                  <a:pt x="15436" y="15905"/>
                  <a:pt x="15404" y="15949"/>
                </a:cubicBezTo>
                <a:cubicBezTo>
                  <a:pt x="15488" y="15942"/>
                  <a:pt x="15547" y="15927"/>
                  <a:pt x="15627" y="15900"/>
                </a:cubicBezTo>
              </a:path>
              <a:path w="7889" h="4242">
                <a:moveTo>
                  <a:pt x="15652" y="15627"/>
                </a:moveTo>
                <a:cubicBezTo>
                  <a:pt x="15652" y="15786"/>
                  <a:pt x="15669" y="15940"/>
                  <a:pt x="15677" y="16098"/>
                </a:cubicBezTo>
              </a:path>
              <a:path w="7889" h="4242">
                <a:moveTo>
                  <a:pt x="14982" y="16321"/>
                </a:moveTo>
                <a:cubicBezTo>
                  <a:pt x="15012" y="16205"/>
                  <a:pt x="15220" y="16255"/>
                  <a:pt x="15304" y="16247"/>
                </a:cubicBezTo>
                <a:cubicBezTo>
                  <a:pt x="15489" y="16229"/>
                  <a:pt x="15672" y="16207"/>
                  <a:pt x="15850" y="16222"/>
                </a:cubicBezTo>
                <a:cubicBezTo>
                  <a:pt x="15867" y="16222"/>
                  <a:pt x="15883" y="16222"/>
                  <a:pt x="15900" y="16222"/>
                </a:cubicBezTo>
              </a:path>
              <a:path w="7889" h="4242">
                <a:moveTo>
                  <a:pt x="15453" y="16446"/>
                </a:moveTo>
                <a:cubicBezTo>
                  <a:pt x="15534" y="16391"/>
                  <a:pt x="15476" y="16724"/>
                  <a:pt x="15453" y="16842"/>
                </a:cubicBezTo>
                <a:cubicBezTo>
                  <a:pt x="15445" y="16867"/>
                  <a:pt x="15437" y="16892"/>
                  <a:pt x="15429" y="16917"/>
                </a:cubicBezTo>
              </a:path>
              <a:path w="7889" h="4242">
                <a:moveTo>
                  <a:pt x="16371" y="16321"/>
                </a:moveTo>
                <a:cubicBezTo>
                  <a:pt x="16278" y="16276"/>
                  <a:pt x="16399" y="16309"/>
                  <a:pt x="16470" y="16297"/>
                </a:cubicBezTo>
              </a:path>
              <a:path w="7889" h="4242">
                <a:moveTo>
                  <a:pt x="16371" y="16570"/>
                </a:moveTo>
                <a:cubicBezTo>
                  <a:pt x="16441" y="16561"/>
                  <a:pt x="16480" y="16529"/>
                  <a:pt x="16545" y="16520"/>
                </a:cubicBezTo>
              </a:path>
              <a:path w="7889" h="4242">
                <a:moveTo>
                  <a:pt x="16867" y="16024"/>
                </a:moveTo>
                <a:cubicBezTo>
                  <a:pt x="16881" y="16117"/>
                  <a:pt x="16805" y="16317"/>
                  <a:pt x="16966" y="16297"/>
                </a:cubicBezTo>
                <a:cubicBezTo>
                  <a:pt x="17037" y="16288"/>
                  <a:pt x="17060" y="16236"/>
                  <a:pt x="17115" y="16222"/>
                </a:cubicBezTo>
              </a:path>
              <a:path w="7889" h="4242">
                <a:moveTo>
                  <a:pt x="17140" y="15974"/>
                </a:moveTo>
                <a:cubicBezTo>
                  <a:pt x="17152" y="16125"/>
                  <a:pt x="17198" y="16269"/>
                  <a:pt x="17214" y="16421"/>
                </a:cubicBezTo>
                <a:cubicBezTo>
                  <a:pt x="17214" y="16489"/>
                  <a:pt x="17217" y="16508"/>
                  <a:pt x="17190" y="16545"/>
                </a:cubicBezTo>
              </a:path>
              <a:path w="7889" h="4242">
                <a:moveTo>
                  <a:pt x="17338" y="15999"/>
                </a:moveTo>
                <a:cubicBezTo>
                  <a:pt x="17358" y="16085"/>
                  <a:pt x="17363" y="16158"/>
                  <a:pt x="17363" y="16247"/>
                </a:cubicBezTo>
                <a:cubicBezTo>
                  <a:pt x="17470" y="16241"/>
                  <a:pt x="17521" y="16249"/>
                  <a:pt x="17611" y="16197"/>
                </a:cubicBezTo>
              </a:path>
              <a:path w="7889" h="4242">
                <a:moveTo>
                  <a:pt x="17661" y="15974"/>
                </a:moveTo>
                <a:cubicBezTo>
                  <a:pt x="17643" y="16094"/>
                  <a:pt x="17646" y="16244"/>
                  <a:pt x="17661" y="16371"/>
                </a:cubicBezTo>
                <a:cubicBezTo>
                  <a:pt x="17679" y="16462"/>
                  <a:pt x="17688" y="16469"/>
                  <a:pt x="17686" y="16520"/>
                </a:cubicBezTo>
              </a:path>
              <a:path w="7889" h="4242">
                <a:moveTo>
                  <a:pt x="16842" y="16619"/>
                </a:moveTo>
                <a:cubicBezTo>
                  <a:pt x="16862" y="16739"/>
                  <a:pt x="16905" y="16823"/>
                  <a:pt x="17016" y="16892"/>
                </a:cubicBezTo>
                <a:cubicBezTo>
                  <a:pt x="17163" y="16983"/>
                  <a:pt x="17256" y="16956"/>
                  <a:pt x="17413" y="16917"/>
                </a:cubicBezTo>
                <a:cubicBezTo>
                  <a:pt x="17562" y="16879"/>
                  <a:pt x="17679" y="16853"/>
                  <a:pt x="17810" y="16768"/>
                </a:cubicBezTo>
                <a:cubicBezTo>
                  <a:pt x="17925" y="16693"/>
                  <a:pt x="17981" y="16626"/>
                  <a:pt x="18033" y="16495"/>
                </a:cubicBezTo>
                <a:cubicBezTo>
                  <a:pt x="18093" y="16344"/>
                  <a:pt x="18111" y="16157"/>
                  <a:pt x="18058" y="15999"/>
                </a:cubicBezTo>
                <a:cubicBezTo>
                  <a:pt x="18030" y="15917"/>
                  <a:pt x="17981" y="15777"/>
                  <a:pt x="17934" y="15701"/>
                </a:cubicBezTo>
                <a:cubicBezTo>
                  <a:pt x="17834" y="15539"/>
                  <a:pt x="17671" y="15473"/>
                  <a:pt x="17487" y="15453"/>
                </a:cubicBezTo>
                <a:cubicBezTo>
                  <a:pt x="17270" y="15429"/>
                  <a:pt x="17145" y="15528"/>
                  <a:pt x="16966" y="15627"/>
                </a:cubicBezTo>
                <a:cubicBezTo>
                  <a:pt x="16820" y="15708"/>
                  <a:pt x="16659" y="15774"/>
                  <a:pt x="16545" y="15900"/>
                </a:cubicBezTo>
                <a:cubicBezTo>
                  <a:pt x="16417" y="16041"/>
                  <a:pt x="16446" y="16193"/>
                  <a:pt x="16446" y="16371"/>
                </a:cubicBezTo>
                <a:cubicBezTo>
                  <a:pt x="16446" y="16546"/>
                  <a:pt x="16494" y="16757"/>
                  <a:pt x="16570" y="16917"/>
                </a:cubicBezTo>
                <a:cubicBezTo>
                  <a:pt x="16613" y="16982"/>
                  <a:pt x="16619" y="17002"/>
                  <a:pt x="16669" y="17016"/>
                </a:cubicBezTo>
              </a:path>
              <a:path w="7889" h="4242">
                <a:moveTo>
                  <a:pt x="18653" y="14263"/>
                </a:moveTo>
                <a:cubicBezTo>
                  <a:pt x="18694" y="14355"/>
                  <a:pt x="18722" y="14432"/>
                  <a:pt x="18777" y="14511"/>
                </a:cubicBezTo>
              </a:path>
              <a:path w="7889" h="4242">
                <a:moveTo>
                  <a:pt x="18802" y="14288"/>
                </a:moveTo>
                <a:cubicBezTo>
                  <a:pt x="18707" y="14398"/>
                  <a:pt x="18643" y="14523"/>
                  <a:pt x="18554" y="14635"/>
                </a:cubicBezTo>
              </a:path>
              <a:path w="7889" h="4242">
                <a:moveTo>
                  <a:pt x="19100" y="15577"/>
                </a:moveTo>
                <a:cubicBezTo>
                  <a:pt x="19067" y="15643"/>
                  <a:pt x="19033" y="15710"/>
                  <a:pt x="19000" y="15776"/>
                </a:cubicBezTo>
                <a:cubicBezTo>
                  <a:pt x="19093" y="15797"/>
                  <a:pt x="19134" y="15803"/>
                  <a:pt x="19224" y="15776"/>
                </a:cubicBezTo>
              </a:path>
              <a:path w="7889" h="4242">
                <a:moveTo>
                  <a:pt x="19248" y="15602"/>
                </a:moveTo>
                <a:cubicBezTo>
                  <a:pt x="19224" y="15750"/>
                  <a:pt x="19182" y="15900"/>
                  <a:pt x="19149" y="16049"/>
                </a:cubicBezTo>
              </a:path>
              <a:path w="7889" h="4242">
                <a:moveTo>
                  <a:pt x="19323" y="15677"/>
                </a:moveTo>
                <a:cubicBezTo>
                  <a:pt x="19305" y="15768"/>
                  <a:pt x="19296" y="15775"/>
                  <a:pt x="19298" y="15825"/>
                </a:cubicBezTo>
                <a:cubicBezTo>
                  <a:pt x="19399" y="15816"/>
                  <a:pt x="19496" y="15796"/>
                  <a:pt x="19596" y="15776"/>
                </a:cubicBezTo>
              </a:path>
              <a:path w="7889" h="4242">
                <a:moveTo>
                  <a:pt x="19621" y="15503"/>
                </a:moveTo>
                <a:cubicBezTo>
                  <a:pt x="19613" y="15686"/>
                  <a:pt x="19601" y="15869"/>
                  <a:pt x="19571" y="16049"/>
                </a:cubicBezTo>
              </a:path>
              <a:path w="7889" h="4242">
                <a:moveTo>
                  <a:pt x="18951" y="16247"/>
                </a:moveTo>
                <a:cubicBezTo>
                  <a:pt x="19139" y="16196"/>
                  <a:pt x="19331" y="16190"/>
                  <a:pt x="19521" y="16148"/>
                </a:cubicBezTo>
                <a:cubicBezTo>
                  <a:pt x="19546" y="16140"/>
                  <a:pt x="19571" y="16131"/>
                  <a:pt x="19596" y="16123"/>
                </a:cubicBezTo>
              </a:path>
              <a:path w="7889" h="4242">
                <a:moveTo>
                  <a:pt x="19372" y="16421"/>
                </a:moveTo>
                <a:cubicBezTo>
                  <a:pt x="19265" y="16367"/>
                  <a:pt x="19240" y="16432"/>
                  <a:pt x="19224" y="16545"/>
                </a:cubicBezTo>
                <a:cubicBezTo>
                  <a:pt x="19224" y="16570"/>
                  <a:pt x="19224" y="16594"/>
                  <a:pt x="19224" y="16619"/>
                </a:cubicBezTo>
                <a:cubicBezTo>
                  <a:pt x="19344" y="16552"/>
                  <a:pt x="19385" y="16538"/>
                  <a:pt x="19521" y="16570"/>
                </a:cubicBezTo>
                <a:cubicBezTo>
                  <a:pt x="19504" y="16742"/>
                  <a:pt x="19437" y="16813"/>
                  <a:pt x="19248" y="16818"/>
                </a:cubicBezTo>
                <a:cubicBezTo>
                  <a:pt x="19215" y="16810"/>
                  <a:pt x="19182" y="16801"/>
                  <a:pt x="19149" y="16793"/>
                </a:cubicBezTo>
              </a:path>
              <a:path w="7889" h="4242">
                <a:moveTo>
                  <a:pt x="20017" y="16123"/>
                </a:moveTo>
                <a:cubicBezTo>
                  <a:pt x="20095" y="16230"/>
                  <a:pt x="20160" y="16337"/>
                  <a:pt x="20241" y="16446"/>
                </a:cubicBezTo>
              </a:path>
              <a:path w="7889" h="4242">
                <a:moveTo>
                  <a:pt x="20265" y="16049"/>
                </a:moveTo>
                <a:cubicBezTo>
                  <a:pt x="20190" y="16167"/>
                  <a:pt x="20171" y="16309"/>
                  <a:pt x="20117" y="16446"/>
                </a:cubicBezTo>
                <a:cubicBezTo>
                  <a:pt x="20109" y="16462"/>
                  <a:pt x="20100" y="16479"/>
                  <a:pt x="20092" y="16495"/>
                </a:cubicBezTo>
              </a:path>
              <a:path w="7889" h="4242">
                <a:moveTo>
                  <a:pt x="20687" y="15602"/>
                </a:moveTo>
                <a:cubicBezTo>
                  <a:pt x="20659" y="15712"/>
                  <a:pt x="20628" y="15815"/>
                  <a:pt x="20613" y="15925"/>
                </a:cubicBezTo>
                <a:cubicBezTo>
                  <a:pt x="20653" y="15920"/>
                  <a:pt x="20916" y="15783"/>
                  <a:pt x="20861" y="15776"/>
                </a:cubicBezTo>
                <a:cubicBezTo>
                  <a:pt x="20778" y="15766"/>
                  <a:pt x="20738" y="15876"/>
                  <a:pt x="20712" y="15925"/>
                </a:cubicBezTo>
              </a:path>
              <a:path w="7889" h="4242">
                <a:moveTo>
                  <a:pt x="21010" y="15652"/>
                </a:moveTo>
                <a:cubicBezTo>
                  <a:pt x="20920" y="15716"/>
                  <a:pt x="20915" y="15823"/>
                  <a:pt x="20935" y="15949"/>
                </a:cubicBezTo>
                <a:cubicBezTo>
                  <a:pt x="21026" y="15919"/>
                  <a:pt x="21180" y="15803"/>
                  <a:pt x="21084" y="15677"/>
                </a:cubicBezTo>
                <a:cubicBezTo>
                  <a:pt x="21059" y="15669"/>
                  <a:pt x="21035" y="15660"/>
                  <a:pt x="21010" y="15652"/>
                </a:cubicBezTo>
              </a:path>
              <a:path w="7889" h="4242">
                <a:moveTo>
                  <a:pt x="20687" y="15974"/>
                </a:moveTo>
                <a:cubicBezTo>
                  <a:pt x="20762" y="16038"/>
                  <a:pt x="20914" y="16056"/>
                  <a:pt x="21034" y="16073"/>
                </a:cubicBezTo>
                <a:cubicBezTo>
                  <a:pt x="21086" y="16073"/>
                  <a:pt x="21104" y="16074"/>
                  <a:pt x="21134" y="16098"/>
                </a:cubicBezTo>
              </a:path>
              <a:path w="7889" h="4242">
                <a:moveTo>
                  <a:pt x="20662" y="16321"/>
                </a:moveTo>
                <a:cubicBezTo>
                  <a:pt x="20643" y="16438"/>
                  <a:pt x="20595" y="16554"/>
                  <a:pt x="20563" y="16669"/>
                </a:cubicBezTo>
              </a:path>
              <a:path w="7889" h="4242">
                <a:moveTo>
                  <a:pt x="20811" y="16272"/>
                </a:moveTo>
                <a:cubicBezTo>
                  <a:pt x="20840" y="16406"/>
                  <a:pt x="20823" y="16509"/>
                  <a:pt x="20811" y="16644"/>
                </a:cubicBezTo>
              </a:path>
              <a:path w="7889" h="4242">
                <a:moveTo>
                  <a:pt x="19447" y="16396"/>
                </a:moveTo>
                <a:cubicBezTo>
                  <a:pt x="19466" y="16321"/>
                  <a:pt x="19504" y="16366"/>
                  <a:pt x="19571" y="16371"/>
                </a:cubicBezTo>
                <a:cubicBezTo>
                  <a:pt x="19579" y="16371"/>
                  <a:pt x="19588" y="16371"/>
                  <a:pt x="19596" y="16371"/>
                </a:cubicBezTo>
              </a:path>
              <a:path w="7889" h="4242">
                <a:moveTo>
                  <a:pt x="19993" y="16123"/>
                </a:moveTo>
                <a:cubicBezTo>
                  <a:pt x="20063" y="16242"/>
                  <a:pt x="20147" y="16344"/>
                  <a:pt x="20241" y="16446"/>
                </a:cubicBezTo>
                <a:cubicBezTo>
                  <a:pt x="20372" y="16577"/>
                  <a:pt x="20112" y="16304"/>
                  <a:pt x="20092" y="16272"/>
                </a:cubicBezTo>
                <a:cubicBezTo>
                  <a:pt x="20054" y="16212"/>
                  <a:pt x="19899" y="16022"/>
                  <a:pt x="20092" y="16197"/>
                </a:cubicBezTo>
                <a:cubicBezTo>
                  <a:pt x="20181" y="16278"/>
                  <a:pt x="20407" y="16546"/>
                  <a:pt x="20340" y="16446"/>
                </a:cubicBezTo>
                <a:cubicBezTo>
                  <a:pt x="20322" y="16419"/>
                  <a:pt x="20000" y="16018"/>
                  <a:pt x="19993" y="16024"/>
                </a:cubicBezTo>
                <a:cubicBezTo>
                  <a:pt x="20009" y="16049"/>
                  <a:pt x="20026" y="16073"/>
                  <a:pt x="20042" y="16098"/>
                </a:cubicBezTo>
                <a:cubicBezTo>
                  <a:pt x="20134" y="16201"/>
                  <a:pt x="20227" y="16292"/>
                  <a:pt x="20315" y="16396"/>
                </a:cubicBezTo>
                <a:cubicBezTo>
                  <a:pt x="20234" y="16287"/>
                  <a:pt x="19952" y="15996"/>
                  <a:pt x="20042" y="16098"/>
                </a:cubicBezTo>
                <a:cubicBezTo>
                  <a:pt x="20080" y="16140"/>
                  <a:pt x="20352" y="16394"/>
                  <a:pt x="20265" y="16297"/>
                </a:cubicBezTo>
                <a:cubicBezTo>
                  <a:pt x="20232" y="16261"/>
                  <a:pt x="20038" y="16033"/>
                  <a:pt x="20017" y="16073"/>
                </a:cubicBezTo>
              </a:path>
              <a:path w="7889" h="4242">
                <a:moveTo>
                  <a:pt x="19100" y="15429"/>
                </a:moveTo>
                <a:cubicBezTo>
                  <a:pt x="19219" y="15559"/>
                  <a:pt x="19352" y="15674"/>
                  <a:pt x="19472" y="15801"/>
                </a:cubicBezTo>
                <a:cubicBezTo>
                  <a:pt x="19546" y="15879"/>
                  <a:pt x="19653" y="15927"/>
                  <a:pt x="19720" y="15999"/>
                </a:cubicBezTo>
                <a:cubicBezTo>
                  <a:pt x="19740" y="16039"/>
                  <a:pt x="19749" y="16046"/>
                  <a:pt x="19745" y="16073"/>
                </a:cubicBezTo>
              </a:path>
              <a:path w="7889" h="4242">
                <a:moveTo>
                  <a:pt x="18529" y="15131"/>
                </a:moveTo>
                <a:cubicBezTo>
                  <a:pt x="18494" y="15210"/>
                  <a:pt x="18470" y="15312"/>
                  <a:pt x="18455" y="15404"/>
                </a:cubicBezTo>
                <a:cubicBezTo>
                  <a:pt x="18545" y="15419"/>
                  <a:pt x="18609" y="15404"/>
                  <a:pt x="18703" y="15404"/>
                </a:cubicBezTo>
              </a:path>
              <a:path w="7889" h="4242">
                <a:moveTo>
                  <a:pt x="18752" y="15106"/>
                </a:moveTo>
                <a:cubicBezTo>
                  <a:pt x="18709" y="15283"/>
                  <a:pt x="18676" y="15470"/>
                  <a:pt x="18653" y="15652"/>
                </a:cubicBezTo>
                <a:cubicBezTo>
                  <a:pt x="18653" y="15668"/>
                  <a:pt x="18653" y="15685"/>
                  <a:pt x="18653" y="15701"/>
                </a:cubicBezTo>
              </a:path>
              <a:path w="7889" h="4242">
                <a:moveTo>
                  <a:pt x="20513" y="16297"/>
                </a:moveTo>
                <a:cubicBezTo>
                  <a:pt x="20638" y="16338"/>
                  <a:pt x="20727" y="16458"/>
                  <a:pt x="20836" y="16545"/>
                </a:cubicBezTo>
                <a:cubicBezTo>
                  <a:pt x="20895" y="16584"/>
                  <a:pt x="20907" y="16588"/>
                  <a:pt x="20935" y="16619"/>
                </a:cubicBezTo>
              </a:path>
              <a:path w="7889" h="4242">
                <a:moveTo>
                  <a:pt x="21010" y="17066"/>
                </a:moveTo>
                <a:cubicBezTo>
                  <a:pt x="21010" y="17033"/>
                  <a:pt x="21010" y="16999"/>
                  <a:pt x="21010" y="16966"/>
                </a:cubicBezTo>
                <a:cubicBezTo>
                  <a:pt x="21029" y="17098"/>
                  <a:pt x="21049" y="17231"/>
                  <a:pt x="21059" y="17363"/>
                </a:cubicBezTo>
                <a:cubicBezTo>
                  <a:pt x="21059" y="17371"/>
                  <a:pt x="21059" y="17380"/>
                  <a:pt x="21059" y="17388"/>
                </a:cubicBezTo>
              </a:path>
              <a:path w="7889" h="4242">
                <a:moveTo>
                  <a:pt x="20414" y="16049"/>
                </a:moveTo>
                <a:cubicBezTo>
                  <a:pt x="20396" y="16043"/>
                  <a:pt x="20276" y="16192"/>
                  <a:pt x="20191" y="16297"/>
                </a:cubicBezTo>
                <a:cubicBezTo>
                  <a:pt x="20115" y="16391"/>
                  <a:pt x="20044" y="16457"/>
                  <a:pt x="19943" y="16520"/>
                </a:cubicBezTo>
                <a:cubicBezTo>
                  <a:pt x="19908" y="16625"/>
                  <a:pt x="20109" y="16354"/>
                  <a:pt x="20166" y="16297"/>
                </a:cubicBezTo>
                <a:cubicBezTo>
                  <a:pt x="20191" y="16272"/>
                  <a:pt x="20216" y="16247"/>
                  <a:pt x="20241" y="16222"/>
                </a:cubicBezTo>
              </a:path>
              <a:path w="7889" h="4242">
                <a:moveTo>
                  <a:pt x="18901" y="16743"/>
                </a:moveTo>
                <a:cubicBezTo>
                  <a:pt x="19043" y="16696"/>
                  <a:pt x="19232" y="16552"/>
                  <a:pt x="19372" y="16470"/>
                </a:cubicBezTo>
                <a:cubicBezTo>
                  <a:pt x="19506" y="16391"/>
                  <a:pt x="19630" y="16317"/>
                  <a:pt x="19769" y="16247"/>
                </a:cubicBezTo>
              </a:path>
              <a:path w="7889" h="4242">
                <a:moveTo>
                  <a:pt x="18926" y="16892"/>
                </a:moveTo>
                <a:cubicBezTo>
                  <a:pt x="18917" y="17021"/>
                  <a:pt x="18907" y="17151"/>
                  <a:pt x="18852" y="17264"/>
                </a:cubicBezTo>
              </a:path>
              <a:path w="7889" h="4242">
                <a:moveTo>
                  <a:pt x="20712" y="15875"/>
                </a:moveTo>
                <a:lnTo>
                  <a:pt x="20712" y="15875"/>
                </a:lnTo>
              </a:path>
              <a:path w="7889" h="4242">
                <a:moveTo>
                  <a:pt x="20439" y="15974"/>
                </a:moveTo>
                <a:cubicBezTo>
                  <a:pt x="20556" y="15935"/>
                  <a:pt x="20686" y="15836"/>
                  <a:pt x="20811" y="15776"/>
                </a:cubicBezTo>
                <a:cubicBezTo>
                  <a:pt x="20919" y="15724"/>
                  <a:pt x="21069" y="15683"/>
                  <a:pt x="21158" y="15602"/>
                </a:cubicBezTo>
                <a:cubicBezTo>
                  <a:pt x="21166" y="15594"/>
                  <a:pt x="21175" y="15585"/>
                  <a:pt x="21183" y="15577"/>
                </a:cubicBezTo>
              </a:path>
              <a:path w="7889" h="4242">
                <a:moveTo>
                  <a:pt x="20389" y="15131"/>
                </a:moveTo>
                <a:cubicBezTo>
                  <a:pt x="20336" y="15293"/>
                  <a:pt x="20338" y="15458"/>
                  <a:pt x="20315" y="15627"/>
                </a:cubicBezTo>
              </a:path>
              <a:path w="7889" h="4242">
                <a:moveTo>
                  <a:pt x="20513" y="15156"/>
                </a:moveTo>
                <a:cubicBezTo>
                  <a:pt x="20576" y="15125"/>
                  <a:pt x="20584" y="15109"/>
                  <a:pt x="20638" y="15131"/>
                </a:cubicBezTo>
                <a:cubicBezTo>
                  <a:pt x="20663" y="15270"/>
                  <a:pt x="20627" y="15343"/>
                  <a:pt x="20538" y="15453"/>
                </a:cubicBezTo>
                <a:cubicBezTo>
                  <a:pt x="20622" y="15445"/>
                  <a:pt x="20717" y="15439"/>
                  <a:pt x="20786" y="15404"/>
                </a:cubicBezTo>
              </a:path>
              <a:path w="7889" h="4242">
                <a:moveTo>
                  <a:pt x="21183" y="16321"/>
                </a:moveTo>
                <a:cubicBezTo>
                  <a:pt x="21255" y="16345"/>
                  <a:pt x="21304" y="16346"/>
                  <a:pt x="21382" y="16346"/>
                </a:cubicBezTo>
              </a:path>
              <a:path w="7889" h="4242">
                <a:moveTo>
                  <a:pt x="21158" y="16570"/>
                </a:moveTo>
                <a:cubicBezTo>
                  <a:pt x="21214" y="16551"/>
                  <a:pt x="21246" y="16545"/>
                  <a:pt x="21307" y="16545"/>
                </a:cubicBezTo>
              </a:path>
              <a:path w="7889" h="4242">
                <a:moveTo>
                  <a:pt x="21704" y="15875"/>
                </a:moveTo>
                <a:cubicBezTo>
                  <a:pt x="21666" y="15968"/>
                  <a:pt x="21673" y="15986"/>
                  <a:pt x="21630" y="16024"/>
                </a:cubicBezTo>
                <a:cubicBezTo>
                  <a:pt x="21736" y="16032"/>
                  <a:pt x="21796" y="16012"/>
                  <a:pt x="21903" y="15974"/>
                </a:cubicBezTo>
              </a:path>
              <a:path w="7889" h="4242">
                <a:moveTo>
                  <a:pt x="21903" y="15751"/>
                </a:moveTo>
                <a:cubicBezTo>
                  <a:pt x="21888" y="15861"/>
                  <a:pt x="21859" y="15964"/>
                  <a:pt x="21828" y="16073"/>
                </a:cubicBezTo>
              </a:path>
              <a:path w="7889" h="4242">
                <a:moveTo>
                  <a:pt x="22151" y="15726"/>
                </a:moveTo>
                <a:cubicBezTo>
                  <a:pt x="22086" y="15772"/>
                  <a:pt x="21993" y="15821"/>
                  <a:pt x="22027" y="15900"/>
                </a:cubicBezTo>
                <a:cubicBezTo>
                  <a:pt x="22079" y="15979"/>
                  <a:pt x="22100" y="16008"/>
                  <a:pt x="22151" y="16049"/>
                </a:cubicBezTo>
                <a:cubicBezTo>
                  <a:pt x="22143" y="16065"/>
                  <a:pt x="22134" y="16082"/>
                  <a:pt x="22126" y="16098"/>
                </a:cubicBezTo>
                <a:cubicBezTo>
                  <a:pt x="21987" y="16039"/>
                  <a:pt x="22087" y="15956"/>
                  <a:pt x="22151" y="15850"/>
                </a:cubicBezTo>
                <a:cubicBezTo>
                  <a:pt x="22159" y="15834"/>
                  <a:pt x="22167" y="15817"/>
                  <a:pt x="22175" y="15801"/>
                </a:cubicBezTo>
              </a:path>
              <a:path w="7889" h="4242">
                <a:moveTo>
                  <a:pt x="21828" y="16272"/>
                </a:moveTo>
                <a:cubicBezTo>
                  <a:pt x="21952" y="16251"/>
                  <a:pt x="22081" y="16216"/>
                  <a:pt x="22200" y="16173"/>
                </a:cubicBezTo>
              </a:path>
              <a:path w="7889" h="4242">
                <a:moveTo>
                  <a:pt x="22027" y="16470"/>
                </a:moveTo>
                <a:cubicBezTo>
                  <a:pt x="22002" y="16594"/>
                  <a:pt x="21977" y="16718"/>
                  <a:pt x="21952" y="16842"/>
                </a:cubicBezTo>
              </a:path>
              <a:path w="7889" h="4242">
                <a:moveTo>
                  <a:pt x="22374" y="16421"/>
                </a:moveTo>
                <a:cubicBezTo>
                  <a:pt x="22443" y="16413"/>
                  <a:pt x="22502" y="16396"/>
                  <a:pt x="22572" y="16396"/>
                </a:cubicBezTo>
              </a:path>
              <a:path w="7889" h="4242">
                <a:moveTo>
                  <a:pt x="22374" y="16520"/>
                </a:moveTo>
                <a:cubicBezTo>
                  <a:pt x="22466" y="16520"/>
                  <a:pt x="22492" y="16522"/>
                  <a:pt x="22547" y="16495"/>
                </a:cubicBezTo>
              </a:path>
              <a:path w="7889" h="4242">
                <a:moveTo>
                  <a:pt x="21754" y="17487"/>
                </a:moveTo>
                <a:cubicBezTo>
                  <a:pt x="21780" y="17666"/>
                  <a:pt x="21738" y="17738"/>
                  <a:pt x="21605" y="17859"/>
                </a:cubicBezTo>
                <a:cubicBezTo>
                  <a:pt x="21733" y="17831"/>
                  <a:pt x="21860" y="17785"/>
                  <a:pt x="21977" y="17835"/>
                </a:cubicBezTo>
              </a:path>
              <a:path w="7889" h="4242">
                <a:moveTo>
                  <a:pt x="22126" y="17363"/>
                </a:moveTo>
                <a:cubicBezTo>
                  <a:pt x="22061" y="17583"/>
                  <a:pt x="22005" y="17805"/>
                  <a:pt x="21977" y="18033"/>
                </a:cubicBezTo>
                <a:cubicBezTo>
                  <a:pt x="21977" y="18050"/>
                  <a:pt x="21977" y="18066"/>
                  <a:pt x="21977" y="18083"/>
                </a:cubicBezTo>
              </a:path>
              <a:path w="7889" h="4242">
                <a:moveTo>
                  <a:pt x="22374" y="17413"/>
                </a:moveTo>
                <a:cubicBezTo>
                  <a:pt x="22291" y="17441"/>
                  <a:pt x="22260" y="17455"/>
                  <a:pt x="22225" y="17512"/>
                </a:cubicBezTo>
                <a:cubicBezTo>
                  <a:pt x="22246" y="17614"/>
                  <a:pt x="22386" y="17675"/>
                  <a:pt x="22399" y="17785"/>
                </a:cubicBezTo>
                <a:cubicBezTo>
                  <a:pt x="22414" y="17913"/>
                  <a:pt x="22332" y="17936"/>
                  <a:pt x="22250" y="17959"/>
                </a:cubicBezTo>
                <a:cubicBezTo>
                  <a:pt x="22276" y="17762"/>
                  <a:pt x="22397" y="17648"/>
                  <a:pt x="22448" y="17462"/>
                </a:cubicBezTo>
                <a:cubicBezTo>
                  <a:pt x="22448" y="17437"/>
                  <a:pt x="22448" y="17413"/>
                  <a:pt x="22448" y="17388"/>
                </a:cubicBezTo>
              </a:path>
              <a:path w="7889" h="4242">
                <a:moveTo>
                  <a:pt x="21654" y="18256"/>
                </a:moveTo>
                <a:cubicBezTo>
                  <a:pt x="21803" y="18405"/>
                  <a:pt x="22025" y="18375"/>
                  <a:pt x="22225" y="18306"/>
                </a:cubicBezTo>
                <a:cubicBezTo>
                  <a:pt x="22459" y="18225"/>
                  <a:pt x="22693" y="18012"/>
                  <a:pt x="22796" y="17785"/>
                </a:cubicBezTo>
                <a:cubicBezTo>
                  <a:pt x="22900" y="17556"/>
                  <a:pt x="22866" y="17356"/>
                  <a:pt x="22696" y="17190"/>
                </a:cubicBezTo>
                <a:cubicBezTo>
                  <a:pt x="22527" y="17025"/>
                  <a:pt x="22244" y="16912"/>
                  <a:pt x="22002" y="16966"/>
                </a:cubicBezTo>
                <a:cubicBezTo>
                  <a:pt x="21618" y="17052"/>
                  <a:pt x="21397" y="17356"/>
                  <a:pt x="21332" y="17735"/>
                </a:cubicBezTo>
                <a:cubicBezTo>
                  <a:pt x="21256" y="18181"/>
                  <a:pt x="21421" y="18593"/>
                  <a:pt x="21927" y="18479"/>
                </a:cubicBezTo>
                <a:cubicBezTo>
                  <a:pt x="22026" y="18438"/>
                  <a:pt x="22126" y="18396"/>
                  <a:pt x="22225" y="183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89640" y="5456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750" y="15156"/>
                </a:moveTo>
                <a:lnTo>
                  <a:pt x="12750" y="1515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05200" y="5143680"/>
            <a:ext cx="455760" cy="277560"/>
          </a:xfrm>
          <a:custGeom>
            <a:avLst/>
            <a:gdLst/>
            <a:ahLst/>
            <a:rect l="l" t="t" r="r" b="b"/>
            <a:pathLst>
              <a:path w="1266" h="769">
                <a:moveTo>
                  <a:pt x="13171" y="14312"/>
                </a:moveTo>
                <a:cubicBezTo>
                  <a:pt x="13123" y="14336"/>
                  <a:pt x="13109" y="14345"/>
                  <a:pt x="13072" y="14337"/>
                </a:cubicBezTo>
                <a:cubicBezTo>
                  <a:pt x="13193" y="14313"/>
                  <a:pt x="13321" y="14298"/>
                  <a:pt x="13444" y="14288"/>
                </a:cubicBezTo>
                <a:cubicBezTo>
                  <a:pt x="13558" y="14279"/>
                  <a:pt x="13677" y="14288"/>
                  <a:pt x="13791" y="14288"/>
                </a:cubicBezTo>
              </a:path>
              <a:path w="1266" h="769">
                <a:moveTo>
                  <a:pt x="13519" y="14585"/>
                </a:moveTo>
                <a:cubicBezTo>
                  <a:pt x="13496" y="14562"/>
                  <a:pt x="13492" y="14554"/>
                  <a:pt x="13469" y="14560"/>
                </a:cubicBezTo>
                <a:cubicBezTo>
                  <a:pt x="13410" y="14678"/>
                  <a:pt x="13444" y="14870"/>
                  <a:pt x="13444" y="15007"/>
                </a:cubicBezTo>
                <a:cubicBezTo>
                  <a:pt x="13444" y="15051"/>
                  <a:pt x="13441" y="15071"/>
                  <a:pt x="13469" y="15032"/>
                </a:cubicBezTo>
              </a:path>
              <a:path w="1266" h="769">
                <a:moveTo>
                  <a:pt x="14337" y="14412"/>
                </a:moveTo>
                <a:lnTo>
                  <a:pt x="14337" y="1441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29040" y="5116680"/>
            <a:ext cx="44640" cy="134640"/>
          </a:xfrm>
          <a:custGeom>
            <a:avLst/>
            <a:gdLst/>
            <a:ahLst/>
            <a:rect l="l" t="t" r="r" b="b"/>
            <a:pathLst>
              <a:path w="125" h="373">
                <a:moveTo>
                  <a:pt x="10914" y="14213"/>
                </a:moveTo>
                <a:cubicBezTo>
                  <a:pt x="10956" y="14285"/>
                  <a:pt x="10995" y="14343"/>
                  <a:pt x="11038" y="14412"/>
                </a:cubicBezTo>
              </a:path>
              <a:path w="125" h="373">
                <a:moveTo>
                  <a:pt x="11013" y="14238"/>
                </a:moveTo>
                <a:cubicBezTo>
                  <a:pt x="10957" y="14352"/>
                  <a:pt x="10927" y="14457"/>
                  <a:pt x="10914" y="145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83040" y="4446720"/>
            <a:ext cx="44280" cy="71280"/>
          </a:xfrm>
          <a:custGeom>
            <a:avLst/>
            <a:gdLst/>
            <a:ahLst/>
            <a:rect l="l" t="t" r="r" b="b"/>
            <a:pathLst>
              <a:path w="125" h="199">
                <a:moveTo>
                  <a:pt x="11162" y="12353"/>
                </a:moveTo>
                <a:cubicBezTo>
                  <a:pt x="11100" y="12399"/>
                  <a:pt x="11112" y="12464"/>
                  <a:pt x="11112" y="12551"/>
                </a:cubicBezTo>
              </a:path>
              <a:path w="125" h="199">
                <a:moveTo>
                  <a:pt x="11063" y="12502"/>
                </a:moveTo>
                <a:cubicBezTo>
                  <a:pt x="11130" y="12479"/>
                  <a:pt x="11148" y="12474"/>
                  <a:pt x="11187" y="124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00120" y="874800"/>
            <a:ext cx="1992240" cy="54000"/>
          </a:xfrm>
          <a:custGeom>
            <a:avLst/>
            <a:gdLst/>
            <a:ahLst/>
            <a:rect l="l" t="t" r="r" b="b"/>
            <a:pathLst>
              <a:path w="5533" h="150">
                <a:moveTo>
                  <a:pt x="4167" y="2456"/>
                </a:moveTo>
                <a:cubicBezTo>
                  <a:pt x="4269" y="2438"/>
                  <a:pt x="4359" y="2421"/>
                  <a:pt x="4465" y="2431"/>
                </a:cubicBezTo>
                <a:cubicBezTo>
                  <a:pt x="4587" y="2442"/>
                  <a:pt x="4717" y="2461"/>
                  <a:pt x="4837" y="2480"/>
                </a:cubicBezTo>
                <a:cubicBezTo>
                  <a:pt x="4952" y="2498"/>
                  <a:pt x="5070" y="2508"/>
                  <a:pt x="5184" y="2530"/>
                </a:cubicBezTo>
                <a:cubicBezTo>
                  <a:pt x="5304" y="2553"/>
                  <a:pt x="5409" y="2552"/>
                  <a:pt x="5531" y="2555"/>
                </a:cubicBezTo>
                <a:cubicBezTo>
                  <a:pt x="5648" y="2557"/>
                  <a:pt x="5742" y="2561"/>
                  <a:pt x="5854" y="2555"/>
                </a:cubicBezTo>
                <a:cubicBezTo>
                  <a:pt x="6217" y="2535"/>
                  <a:pt x="6582" y="2552"/>
                  <a:pt x="6945" y="2530"/>
                </a:cubicBezTo>
                <a:cubicBezTo>
                  <a:pt x="7515" y="2496"/>
                  <a:pt x="8088" y="2560"/>
                  <a:pt x="8657" y="2505"/>
                </a:cubicBezTo>
                <a:cubicBezTo>
                  <a:pt x="8877" y="2484"/>
                  <a:pt x="9106" y="2424"/>
                  <a:pt x="9327" y="2431"/>
                </a:cubicBezTo>
                <a:cubicBezTo>
                  <a:pt x="9450" y="2435"/>
                  <a:pt x="9575" y="2452"/>
                  <a:pt x="9699" y="24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cript MT Bold"/>
              </a:rPr>
              <a:t>Objective:  Students will multiply fractions and mixed number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a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2590920"/>
            <a:ext cx="3200400" cy="13716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72200" y="2819520"/>
          <a:ext cx="8380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8195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975120" y="1752480"/>
          <a:ext cx="78120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75120" y="1752480"/>
                    <a:ext cx="7812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534960" y="2108160"/>
            <a:ext cx="689040" cy="463680"/>
          </a:xfrm>
          <a:custGeom>
            <a:avLst/>
            <a:gdLst/>
            <a:ahLst/>
            <a:rect l="l" t="t" r="r" b="b"/>
            <a:pathLst>
              <a:path w="1911" h="1291">
                <a:moveTo>
                  <a:pt x="1488" y="7144"/>
                </a:moveTo>
                <a:cubicBezTo>
                  <a:pt x="1748" y="6813"/>
                  <a:pt x="1923" y="6479"/>
                  <a:pt x="2108" y="6102"/>
                </a:cubicBezTo>
                <a:cubicBezTo>
                  <a:pt x="2185" y="5949"/>
                  <a:pt x="2183" y="5919"/>
                  <a:pt x="2257" y="5854"/>
                </a:cubicBezTo>
                <a:cubicBezTo>
                  <a:pt x="2300" y="6246"/>
                  <a:pt x="2300" y="6603"/>
                  <a:pt x="2257" y="6995"/>
                </a:cubicBezTo>
              </a:path>
              <a:path w="1911" h="1291">
                <a:moveTo>
                  <a:pt x="1935" y="6598"/>
                </a:moveTo>
                <a:cubicBezTo>
                  <a:pt x="2176" y="6571"/>
                  <a:pt x="2267" y="6560"/>
                  <a:pt x="2431" y="6524"/>
                </a:cubicBezTo>
              </a:path>
              <a:path w="1911" h="1291">
                <a:moveTo>
                  <a:pt x="2480" y="6697"/>
                </a:moveTo>
                <a:cubicBezTo>
                  <a:pt x="2713" y="6651"/>
                  <a:pt x="2780" y="6639"/>
                  <a:pt x="2927" y="6598"/>
                </a:cubicBezTo>
              </a:path>
              <a:path w="1911" h="1291">
                <a:moveTo>
                  <a:pt x="2580" y="6871"/>
                </a:moveTo>
                <a:cubicBezTo>
                  <a:pt x="2638" y="6854"/>
                  <a:pt x="2695" y="6838"/>
                  <a:pt x="2753" y="6821"/>
                </a:cubicBezTo>
              </a:path>
              <a:path w="1911" h="1291">
                <a:moveTo>
                  <a:pt x="3349" y="5978"/>
                </a:moveTo>
                <a:cubicBezTo>
                  <a:pt x="3386" y="6313"/>
                  <a:pt x="3398" y="6633"/>
                  <a:pt x="3398" y="6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28840" y="2170080"/>
            <a:ext cx="590400" cy="303120"/>
          </a:xfrm>
          <a:custGeom>
            <a:avLst/>
            <a:gdLst/>
            <a:ahLst/>
            <a:rect l="l" t="t" r="r" b="b"/>
            <a:pathLst>
              <a:path w="1638" h="844">
                <a:moveTo>
                  <a:pt x="4018" y="6400"/>
                </a:moveTo>
                <a:cubicBezTo>
                  <a:pt x="4094" y="6551"/>
                  <a:pt x="4163" y="6661"/>
                  <a:pt x="4266" y="6796"/>
                </a:cubicBezTo>
              </a:path>
              <a:path w="1638" h="844">
                <a:moveTo>
                  <a:pt x="4266" y="6276"/>
                </a:moveTo>
                <a:cubicBezTo>
                  <a:pt x="4173" y="6482"/>
                  <a:pt x="4087" y="6680"/>
                  <a:pt x="3969" y="6871"/>
                </a:cubicBezTo>
              </a:path>
              <a:path w="1638" h="844">
                <a:moveTo>
                  <a:pt x="4762" y="6226"/>
                </a:moveTo>
                <a:cubicBezTo>
                  <a:pt x="4728" y="6420"/>
                  <a:pt x="4712" y="6556"/>
                  <a:pt x="4762" y="6747"/>
                </a:cubicBezTo>
                <a:cubicBezTo>
                  <a:pt x="4940" y="6622"/>
                  <a:pt x="5024" y="6516"/>
                  <a:pt x="5085" y="6300"/>
                </a:cubicBezTo>
                <a:cubicBezTo>
                  <a:pt x="5085" y="6438"/>
                  <a:pt x="5122" y="6714"/>
                  <a:pt x="5358" y="6598"/>
                </a:cubicBezTo>
                <a:cubicBezTo>
                  <a:pt x="5640" y="6460"/>
                  <a:pt x="5654" y="6175"/>
                  <a:pt x="5457" y="60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1800" y="3348000"/>
            <a:ext cx="2546280" cy="822240"/>
          </a:xfrm>
          <a:custGeom>
            <a:avLst/>
            <a:gdLst/>
            <a:ahLst/>
            <a:rect l="l" t="t" r="r" b="b"/>
            <a:pathLst>
              <a:path w="7071" h="2283">
                <a:moveTo>
                  <a:pt x="3870" y="10393"/>
                </a:moveTo>
                <a:cubicBezTo>
                  <a:pt x="3914" y="10520"/>
                  <a:pt x="3977" y="10622"/>
                  <a:pt x="4043" y="10740"/>
                </a:cubicBezTo>
              </a:path>
              <a:path w="7071" h="2283">
                <a:moveTo>
                  <a:pt x="4167" y="10294"/>
                </a:moveTo>
                <a:cubicBezTo>
                  <a:pt x="4085" y="10446"/>
                  <a:pt x="4007" y="10585"/>
                  <a:pt x="3894" y="10716"/>
                </a:cubicBezTo>
              </a:path>
              <a:path w="7071" h="2283">
                <a:moveTo>
                  <a:pt x="4614" y="9773"/>
                </a:moveTo>
                <a:cubicBezTo>
                  <a:pt x="4614" y="9932"/>
                  <a:pt x="4614" y="10069"/>
                  <a:pt x="4564" y="10220"/>
                </a:cubicBezTo>
              </a:path>
              <a:path w="7071" h="2283">
                <a:moveTo>
                  <a:pt x="5035" y="9699"/>
                </a:moveTo>
                <a:cubicBezTo>
                  <a:pt x="4997" y="9704"/>
                  <a:pt x="4884" y="9733"/>
                  <a:pt x="4862" y="9773"/>
                </a:cubicBezTo>
                <a:cubicBezTo>
                  <a:pt x="4862" y="9790"/>
                  <a:pt x="4862" y="9806"/>
                  <a:pt x="4862" y="9823"/>
                </a:cubicBezTo>
                <a:cubicBezTo>
                  <a:pt x="4924" y="9877"/>
                  <a:pt x="5115" y="9890"/>
                  <a:pt x="5110" y="9996"/>
                </a:cubicBezTo>
                <a:cubicBezTo>
                  <a:pt x="5101" y="10191"/>
                  <a:pt x="4888" y="10106"/>
                  <a:pt x="4787" y="10071"/>
                </a:cubicBezTo>
              </a:path>
              <a:path w="7071" h="2283">
                <a:moveTo>
                  <a:pt x="4465" y="10393"/>
                </a:moveTo>
                <a:cubicBezTo>
                  <a:pt x="4699" y="10312"/>
                  <a:pt x="4934" y="10281"/>
                  <a:pt x="5184" y="10319"/>
                </a:cubicBezTo>
                <a:cubicBezTo>
                  <a:pt x="5209" y="10327"/>
                  <a:pt x="5234" y="10336"/>
                  <a:pt x="5259" y="10344"/>
                </a:cubicBezTo>
              </a:path>
              <a:path w="7071" h="2283">
                <a:moveTo>
                  <a:pt x="4688" y="10468"/>
                </a:moveTo>
                <a:cubicBezTo>
                  <a:pt x="4674" y="10564"/>
                  <a:pt x="4647" y="10646"/>
                  <a:pt x="4614" y="10740"/>
                </a:cubicBezTo>
                <a:cubicBezTo>
                  <a:pt x="4726" y="10771"/>
                  <a:pt x="4793" y="10758"/>
                  <a:pt x="4911" y="10740"/>
                </a:cubicBezTo>
              </a:path>
              <a:path w="7071" h="2283">
                <a:moveTo>
                  <a:pt x="4961" y="10418"/>
                </a:moveTo>
                <a:cubicBezTo>
                  <a:pt x="4877" y="10569"/>
                  <a:pt x="4826" y="10767"/>
                  <a:pt x="4787" y="10939"/>
                </a:cubicBezTo>
                <a:cubicBezTo>
                  <a:pt x="4766" y="11064"/>
                  <a:pt x="4765" y="11090"/>
                  <a:pt x="4738" y="11162"/>
                </a:cubicBezTo>
              </a:path>
              <a:path w="7071" h="2283">
                <a:moveTo>
                  <a:pt x="4167" y="10344"/>
                </a:moveTo>
                <a:cubicBezTo>
                  <a:pt x="4053" y="10484"/>
                  <a:pt x="3935" y="10602"/>
                  <a:pt x="3795" y="10716"/>
                </a:cubicBezTo>
                <a:cubicBezTo>
                  <a:pt x="3795" y="10767"/>
                  <a:pt x="4042" y="10489"/>
                  <a:pt x="4093" y="10443"/>
                </a:cubicBezTo>
                <a:cubicBezTo>
                  <a:pt x="4143" y="10402"/>
                  <a:pt x="4192" y="10360"/>
                  <a:pt x="4242" y="10319"/>
                </a:cubicBezTo>
                <a:cubicBezTo>
                  <a:pt x="4472" y="10219"/>
                  <a:pt x="3966" y="10537"/>
                  <a:pt x="3919" y="10567"/>
                </a:cubicBezTo>
                <a:cubicBezTo>
                  <a:pt x="3595" y="10774"/>
                  <a:pt x="3901" y="10562"/>
                  <a:pt x="4018" y="10468"/>
                </a:cubicBezTo>
                <a:cubicBezTo>
                  <a:pt x="4100" y="10407"/>
                  <a:pt x="4154" y="10372"/>
                  <a:pt x="4068" y="10418"/>
                </a:cubicBezTo>
                <a:cubicBezTo>
                  <a:pt x="4050" y="10434"/>
                  <a:pt x="3703" y="10756"/>
                  <a:pt x="3870" y="10567"/>
                </a:cubicBezTo>
                <a:cubicBezTo>
                  <a:pt x="3952" y="10474"/>
                  <a:pt x="4081" y="10339"/>
                  <a:pt x="4192" y="10294"/>
                </a:cubicBezTo>
              </a:path>
              <a:path w="7071" h="2283">
                <a:moveTo>
                  <a:pt x="4242" y="10294"/>
                </a:moveTo>
                <a:lnTo>
                  <a:pt x="4242" y="10294"/>
                </a:lnTo>
              </a:path>
              <a:path w="7071" h="2283">
                <a:moveTo>
                  <a:pt x="4564" y="9575"/>
                </a:moveTo>
                <a:cubicBezTo>
                  <a:pt x="4761" y="9781"/>
                  <a:pt x="4935" y="9996"/>
                  <a:pt x="5110" y="10220"/>
                </a:cubicBezTo>
              </a:path>
              <a:path w="7071" h="2283">
                <a:moveTo>
                  <a:pt x="5482" y="9327"/>
                </a:moveTo>
                <a:cubicBezTo>
                  <a:pt x="5440" y="9322"/>
                  <a:pt x="5305" y="9265"/>
                  <a:pt x="5283" y="9327"/>
                </a:cubicBezTo>
                <a:cubicBezTo>
                  <a:pt x="5264" y="9428"/>
                  <a:pt x="5266" y="9448"/>
                  <a:pt x="5234" y="9500"/>
                </a:cubicBezTo>
                <a:cubicBezTo>
                  <a:pt x="5322" y="9533"/>
                  <a:pt x="5407" y="9505"/>
                  <a:pt x="5482" y="9575"/>
                </a:cubicBezTo>
                <a:cubicBezTo>
                  <a:pt x="5506" y="9623"/>
                  <a:pt x="5515" y="9637"/>
                  <a:pt x="5507" y="9674"/>
                </a:cubicBezTo>
                <a:cubicBezTo>
                  <a:pt x="5429" y="9718"/>
                  <a:pt x="5351" y="9729"/>
                  <a:pt x="5259" y="9748"/>
                </a:cubicBezTo>
              </a:path>
              <a:path w="7071" h="2283">
                <a:moveTo>
                  <a:pt x="3026" y="10691"/>
                </a:moveTo>
                <a:cubicBezTo>
                  <a:pt x="3217" y="10805"/>
                  <a:pt x="3359" y="10980"/>
                  <a:pt x="3497" y="11162"/>
                </a:cubicBezTo>
                <a:cubicBezTo>
                  <a:pt x="3514" y="11187"/>
                  <a:pt x="3530" y="11212"/>
                  <a:pt x="3547" y="11237"/>
                </a:cubicBezTo>
              </a:path>
              <a:path w="7071" h="2283">
                <a:moveTo>
                  <a:pt x="2729" y="11162"/>
                </a:moveTo>
                <a:cubicBezTo>
                  <a:pt x="2729" y="11303"/>
                  <a:pt x="2729" y="11443"/>
                  <a:pt x="2729" y="11584"/>
                </a:cubicBezTo>
              </a:path>
              <a:path w="7071" h="2283">
                <a:moveTo>
                  <a:pt x="3820" y="10368"/>
                </a:moveTo>
                <a:cubicBezTo>
                  <a:pt x="3978" y="10503"/>
                  <a:pt x="4155" y="10607"/>
                  <a:pt x="4316" y="10740"/>
                </a:cubicBezTo>
                <a:cubicBezTo>
                  <a:pt x="4152" y="10576"/>
                  <a:pt x="3997" y="10407"/>
                  <a:pt x="3820" y="10269"/>
                </a:cubicBezTo>
                <a:cubicBezTo>
                  <a:pt x="3812" y="10261"/>
                  <a:pt x="3803" y="10252"/>
                  <a:pt x="3795" y="10244"/>
                </a:cubicBezTo>
              </a:path>
              <a:path w="7071" h="2283">
                <a:moveTo>
                  <a:pt x="3522" y="9798"/>
                </a:moveTo>
                <a:cubicBezTo>
                  <a:pt x="3268" y="9903"/>
                  <a:pt x="2991" y="10006"/>
                  <a:pt x="2753" y="10145"/>
                </a:cubicBezTo>
                <a:cubicBezTo>
                  <a:pt x="2667" y="10195"/>
                  <a:pt x="2582" y="10258"/>
                  <a:pt x="2505" y="10319"/>
                </a:cubicBezTo>
              </a:path>
              <a:path w="7071" h="2283">
                <a:moveTo>
                  <a:pt x="2877" y="9351"/>
                </a:moveTo>
                <a:cubicBezTo>
                  <a:pt x="2856" y="9452"/>
                  <a:pt x="2795" y="9575"/>
                  <a:pt x="2952" y="9575"/>
                </a:cubicBezTo>
                <a:cubicBezTo>
                  <a:pt x="2985" y="9567"/>
                  <a:pt x="3018" y="9558"/>
                  <a:pt x="3051" y="9550"/>
                </a:cubicBezTo>
              </a:path>
              <a:path w="7071" h="2283">
                <a:moveTo>
                  <a:pt x="3101" y="9302"/>
                </a:moveTo>
                <a:cubicBezTo>
                  <a:pt x="3074" y="9461"/>
                  <a:pt x="3068" y="9615"/>
                  <a:pt x="3026" y="9773"/>
                </a:cubicBezTo>
              </a:path>
              <a:path w="7071" h="2283">
                <a:moveTo>
                  <a:pt x="5060" y="10517"/>
                </a:moveTo>
                <a:cubicBezTo>
                  <a:pt x="4870" y="10750"/>
                  <a:pt x="4692" y="10966"/>
                  <a:pt x="4465" y="11162"/>
                </a:cubicBezTo>
              </a:path>
              <a:path w="7071" h="2283">
                <a:moveTo>
                  <a:pt x="5234" y="11088"/>
                </a:moveTo>
                <a:cubicBezTo>
                  <a:pt x="5245" y="11228"/>
                  <a:pt x="5243" y="11344"/>
                  <a:pt x="5234" y="11485"/>
                </a:cubicBezTo>
              </a:path>
              <a:path w="7071" h="2283">
                <a:moveTo>
                  <a:pt x="5606" y="10393"/>
                </a:moveTo>
                <a:cubicBezTo>
                  <a:pt x="5715" y="10393"/>
                  <a:pt x="5742" y="10398"/>
                  <a:pt x="5804" y="10368"/>
                </a:cubicBezTo>
              </a:path>
              <a:path w="7071" h="2283">
                <a:moveTo>
                  <a:pt x="5680" y="10567"/>
                </a:moveTo>
                <a:cubicBezTo>
                  <a:pt x="5755" y="10567"/>
                  <a:pt x="5779" y="10567"/>
                  <a:pt x="5829" y="10567"/>
                </a:cubicBezTo>
              </a:path>
              <a:path w="7071" h="2283">
                <a:moveTo>
                  <a:pt x="6474" y="9872"/>
                </a:moveTo>
                <a:cubicBezTo>
                  <a:pt x="6403" y="9990"/>
                  <a:pt x="6520" y="9785"/>
                  <a:pt x="6598" y="9922"/>
                </a:cubicBezTo>
                <a:cubicBezTo>
                  <a:pt x="6713" y="10125"/>
                  <a:pt x="6491" y="10259"/>
                  <a:pt x="6350" y="10269"/>
                </a:cubicBezTo>
                <a:cubicBezTo>
                  <a:pt x="6366" y="10101"/>
                  <a:pt x="6468" y="10190"/>
                  <a:pt x="6598" y="10269"/>
                </a:cubicBezTo>
              </a:path>
              <a:path w="7071" h="2283">
                <a:moveTo>
                  <a:pt x="6821" y="9971"/>
                </a:moveTo>
                <a:cubicBezTo>
                  <a:pt x="6770" y="10080"/>
                  <a:pt x="6654" y="10231"/>
                  <a:pt x="6772" y="10319"/>
                </a:cubicBezTo>
                <a:cubicBezTo>
                  <a:pt x="6894" y="10237"/>
                  <a:pt x="7053" y="10076"/>
                  <a:pt x="6821" y="9971"/>
                </a:cubicBezTo>
                <a:cubicBezTo>
                  <a:pt x="6788" y="9971"/>
                  <a:pt x="6755" y="9971"/>
                  <a:pt x="6722" y="9971"/>
                </a:cubicBezTo>
              </a:path>
              <a:path w="7071" h="2283">
                <a:moveTo>
                  <a:pt x="6300" y="10592"/>
                </a:moveTo>
                <a:cubicBezTo>
                  <a:pt x="6449" y="10592"/>
                  <a:pt x="6598" y="10592"/>
                  <a:pt x="6747" y="10592"/>
                </a:cubicBezTo>
              </a:path>
              <a:path w="7071" h="2283">
                <a:moveTo>
                  <a:pt x="6400" y="10815"/>
                </a:moveTo>
                <a:cubicBezTo>
                  <a:pt x="6369" y="10904"/>
                  <a:pt x="6340" y="11009"/>
                  <a:pt x="6300" y="11088"/>
                </a:cubicBezTo>
              </a:path>
              <a:path w="7071" h="2283">
                <a:moveTo>
                  <a:pt x="6796" y="10542"/>
                </a:moveTo>
                <a:cubicBezTo>
                  <a:pt x="6862" y="10542"/>
                  <a:pt x="6895" y="10542"/>
                  <a:pt x="6945" y="10542"/>
                </a:cubicBezTo>
              </a:path>
              <a:path w="7071" h="2283">
                <a:moveTo>
                  <a:pt x="6772" y="10716"/>
                </a:moveTo>
                <a:cubicBezTo>
                  <a:pt x="6788" y="10716"/>
                  <a:pt x="6805" y="10716"/>
                  <a:pt x="6821" y="10716"/>
                </a:cubicBezTo>
              </a:path>
              <a:path w="7071" h="2283">
                <a:moveTo>
                  <a:pt x="7094" y="10492"/>
                </a:moveTo>
                <a:cubicBezTo>
                  <a:pt x="7152" y="10492"/>
                  <a:pt x="7177" y="10492"/>
                  <a:pt x="7218" y="10492"/>
                </a:cubicBezTo>
                <a:cubicBezTo>
                  <a:pt x="7235" y="10662"/>
                  <a:pt x="7220" y="10747"/>
                  <a:pt x="7069" y="10864"/>
                </a:cubicBezTo>
                <a:cubicBezTo>
                  <a:pt x="7036" y="10881"/>
                  <a:pt x="7003" y="10897"/>
                  <a:pt x="6970" y="10914"/>
                </a:cubicBezTo>
                <a:cubicBezTo>
                  <a:pt x="7094" y="10930"/>
                  <a:pt x="7172" y="10903"/>
                  <a:pt x="7293" y="10889"/>
                </a:cubicBezTo>
              </a:path>
              <a:path w="7071" h="2283">
                <a:moveTo>
                  <a:pt x="7516" y="10542"/>
                </a:moveTo>
                <a:cubicBezTo>
                  <a:pt x="7423" y="10583"/>
                  <a:pt x="7337" y="10688"/>
                  <a:pt x="7342" y="10815"/>
                </a:cubicBezTo>
                <a:cubicBezTo>
                  <a:pt x="7350" y="10831"/>
                  <a:pt x="7359" y="10848"/>
                  <a:pt x="7367" y="10864"/>
                </a:cubicBezTo>
                <a:cubicBezTo>
                  <a:pt x="7470" y="10883"/>
                  <a:pt x="7643" y="10867"/>
                  <a:pt x="7665" y="10716"/>
                </a:cubicBezTo>
                <a:cubicBezTo>
                  <a:pt x="7675" y="10648"/>
                  <a:pt x="7584" y="10533"/>
                  <a:pt x="7516" y="10517"/>
                </a:cubicBezTo>
                <a:cubicBezTo>
                  <a:pt x="7499" y="10517"/>
                  <a:pt x="7483" y="10517"/>
                  <a:pt x="7466" y="10517"/>
                </a:cubicBezTo>
              </a:path>
              <a:path w="7071" h="2283">
                <a:moveTo>
                  <a:pt x="7913" y="10790"/>
                </a:moveTo>
                <a:cubicBezTo>
                  <a:pt x="7913" y="10666"/>
                  <a:pt x="7906" y="10927"/>
                  <a:pt x="7913" y="10964"/>
                </a:cubicBezTo>
                <a:cubicBezTo>
                  <a:pt x="8029" y="10975"/>
                  <a:pt x="8056" y="10739"/>
                  <a:pt x="8161" y="10790"/>
                </a:cubicBezTo>
                <a:cubicBezTo>
                  <a:pt x="8161" y="10873"/>
                  <a:pt x="8161" y="10906"/>
                  <a:pt x="8161" y="10964"/>
                </a:cubicBezTo>
                <a:cubicBezTo>
                  <a:pt x="8141" y="10863"/>
                  <a:pt x="8122" y="10843"/>
                  <a:pt x="8161" y="10790"/>
                </a:cubicBezTo>
                <a:cubicBezTo>
                  <a:pt x="8301" y="10755"/>
                  <a:pt x="8376" y="10758"/>
                  <a:pt x="8434" y="10914"/>
                </a:cubicBezTo>
                <a:cubicBezTo>
                  <a:pt x="8434" y="10931"/>
                  <a:pt x="8434" y="10947"/>
                  <a:pt x="8434" y="10964"/>
                </a:cubicBezTo>
              </a:path>
              <a:path w="7071" h="2283">
                <a:moveTo>
                  <a:pt x="7987" y="10542"/>
                </a:moveTo>
                <a:lnTo>
                  <a:pt x="7987" y="10542"/>
                </a:lnTo>
              </a:path>
              <a:path w="7071" h="2283">
                <a:moveTo>
                  <a:pt x="8632" y="10517"/>
                </a:moveTo>
                <a:cubicBezTo>
                  <a:pt x="8708" y="10475"/>
                  <a:pt x="8747" y="10457"/>
                  <a:pt x="8830" y="10443"/>
                </a:cubicBezTo>
                <a:cubicBezTo>
                  <a:pt x="8803" y="10559"/>
                  <a:pt x="8776" y="10587"/>
                  <a:pt x="8682" y="10666"/>
                </a:cubicBezTo>
                <a:cubicBezTo>
                  <a:pt x="8794" y="10683"/>
                  <a:pt x="8864" y="10657"/>
                  <a:pt x="8979" y="10641"/>
                </a:cubicBezTo>
              </a:path>
              <a:path w="7071" h="2283">
                <a:moveTo>
                  <a:pt x="7144" y="11187"/>
                </a:moveTo>
                <a:cubicBezTo>
                  <a:pt x="7353" y="11187"/>
                  <a:pt x="7533" y="11230"/>
                  <a:pt x="7739" y="11261"/>
                </a:cubicBezTo>
                <a:cubicBezTo>
                  <a:pt x="8040" y="11307"/>
                  <a:pt x="8355" y="11287"/>
                  <a:pt x="8657" y="11261"/>
                </a:cubicBezTo>
                <a:cubicBezTo>
                  <a:pt x="8878" y="11242"/>
                  <a:pt x="9063" y="11172"/>
                  <a:pt x="9252" y="11063"/>
                </a:cubicBezTo>
                <a:cubicBezTo>
                  <a:pt x="9416" y="10968"/>
                  <a:pt x="9547" y="10892"/>
                  <a:pt x="9575" y="10691"/>
                </a:cubicBezTo>
                <a:cubicBezTo>
                  <a:pt x="9595" y="10546"/>
                  <a:pt x="9583" y="10380"/>
                  <a:pt x="9525" y="10244"/>
                </a:cubicBezTo>
                <a:cubicBezTo>
                  <a:pt x="9502" y="10190"/>
                  <a:pt x="9438" y="10053"/>
                  <a:pt x="9401" y="10021"/>
                </a:cubicBezTo>
                <a:cubicBezTo>
                  <a:pt x="9279" y="9918"/>
                  <a:pt x="9084" y="9863"/>
                  <a:pt x="8930" y="9847"/>
                </a:cubicBezTo>
                <a:cubicBezTo>
                  <a:pt x="8751" y="9829"/>
                  <a:pt x="8560" y="9845"/>
                  <a:pt x="8384" y="9872"/>
                </a:cubicBezTo>
                <a:cubicBezTo>
                  <a:pt x="8200" y="9900"/>
                  <a:pt x="8037" y="9940"/>
                  <a:pt x="7863" y="9996"/>
                </a:cubicBezTo>
                <a:cubicBezTo>
                  <a:pt x="7766" y="10027"/>
                  <a:pt x="7652" y="10064"/>
                  <a:pt x="7565" y="10120"/>
                </a:cubicBezTo>
                <a:cubicBezTo>
                  <a:pt x="7493" y="10167"/>
                  <a:pt x="7435" y="10242"/>
                  <a:pt x="7367" y="10294"/>
                </a:cubicBezTo>
                <a:cubicBezTo>
                  <a:pt x="7300" y="10345"/>
                  <a:pt x="7231" y="10423"/>
                  <a:pt x="7169" y="10468"/>
                </a:cubicBezTo>
                <a:cubicBezTo>
                  <a:pt x="7114" y="10508"/>
                  <a:pt x="7048" y="10522"/>
                  <a:pt x="6995" y="10567"/>
                </a:cubicBezTo>
                <a:cubicBezTo>
                  <a:pt x="6936" y="10617"/>
                  <a:pt x="6885" y="10670"/>
                  <a:pt x="6846" y="10740"/>
                </a:cubicBezTo>
                <a:cubicBezTo>
                  <a:pt x="6808" y="10807"/>
                  <a:pt x="6782" y="10865"/>
                  <a:pt x="6772" y="10939"/>
                </a:cubicBezTo>
                <a:cubicBezTo>
                  <a:pt x="6762" y="11015"/>
                  <a:pt x="6789" y="11086"/>
                  <a:pt x="6846" y="11137"/>
                </a:cubicBezTo>
                <a:cubicBezTo>
                  <a:pt x="6899" y="11185"/>
                  <a:pt x="7021" y="11228"/>
                  <a:pt x="7094" y="11237"/>
                </a:cubicBezTo>
                <a:cubicBezTo>
                  <a:pt x="7209" y="11251"/>
                  <a:pt x="7328" y="11273"/>
                  <a:pt x="7441" y="11286"/>
                </a:cubicBezTo>
                <a:cubicBezTo>
                  <a:pt x="7513" y="11294"/>
                  <a:pt x="7568" y="11306"/>
                  <a:pt x="7640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57160" y="3081240"/>
            <a:ext cx="63720" cy="7920"/>
          </a:xfrm>
          <a:custGeom>
            <a:avLst/>
            <a:gdLst/>
            <a:ahLst/>
            <a:rect l="l" t="t" r="r" b="b"/>
            <a:pathLst>
              <a:path w="175" h="25">
                <a:moveTo>
                  <a:pt x="2381" y="8582"/>
                </a:moveTo>
                <a:cubicBezTo>
                  <a:pt x="2448" y="8582"/>
                  <a:pt x="2498" y="8575"/>
                  <a:pt x="2555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57160" y="3152880"/>
            <a:ext cx="71640" cy="1440"/>
          </a:xfrm>
          <a:custGeom>
            <a:avLst/>
            <a:gdLst/>
            <a:ahLst/>
            <a:rect l="l" t="t" r="r" b="b"/>
            <a:pathLst>
              <a:path w="200" h="1">
                <a:moveTo>
                  <a:pt x="2381" y="8756"/>
                </a:moveTo>
                <a:cubicBezTo>
                  <a:pt x="2480" y="8756"/>
                  <a:pt x="2514" y="8756"/>
                  <a:pt x="2580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00080" y="2946240"/>
            <a:ext cx="152280" cy="285840"/>
          </a:xfrm>
          <a:custGeom>
            <a:avLst/>
            <a:gdLst/>
            <a:ahLst/>
            <a:rect l="l" t="t" r="r" b="b"/>
            <a:pathLst>
              <a:path w="423" h="794">
                <a:moveTo>
                  <a:pt x="3200" y="8186"/>
                </a:moveTo>
                <a:cubicBezTo>
                  <a:pt x="2987" y="8200"/>
                  <a:pt x="3009" y="8260"/>
                  <a:pt x="2952" y="8458"/>
                </a:cubicBezTo>
                <a:cubicBezTo>
                  <a:pt x="2944" y="8483"/>
                  <a:pt x="2935" y="8508"/>
                  <a:pt x="2927" y="8533"/>
                </a:cubicBezTo>
                <a:cubicBezTo>
                  <a:pt x="3076" y="8522"/>
                  <a:pt x="3276" y="8480"/>
                  <a:pt x="3200" y="8731"/>
                </a:cubicBezTo>
                <a:cubicBezTo>
                  <a:pt x="3163" y="8853"/>
                  <a:pt x="2913" y="9132"/>
                  <a:pt x="2778" y="8930"/>
                </a:cubicBezTo>
                <a:cubicBezTo>
                  <a:pt x="2778" y="8905"/>
                  <a:pt x="2778" y="8880"/>
                  <a:pt x="2778" y="88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0200" y="2911320"/>
            <a:ext cx="9720" cy="88920"/>
          </a:xfrm>
          <a:custGeom>
            <a:avLst/>
            <a:gdLst/>
            <a:ahLst/>
            <a:rect l="l" t="t" r="r" b="b"/>
            <a:pathLst>
              <a:path w="26" h="249">
                <a:moveTo>
                  <a:pt x="3696" y="8086"/>
                </a:moveTo>
                <a:cubicBezTo>
                  <a:pt x="3721" y="8209"/>
                  <a:pt x="3729" y="8250"/>
                  <a:pt x="3721" y="8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31920" y="3062160"/>
            <a:ext cx="152280" cy="27000"/>
          </a:xfrm>
          <a:custGeom>
            <a:avLst/>
            <a:gdLst/>
            <a:ahLst/>
            <a:rect l="l" t="t" r="r" b="b"/>
            <a:pathLst>
              <a:path w="423" h="75">
                <a:moveTo>
                  <a:pt x="3423" y="8582"/>
                </a:moveTo>
                <a:cubicBezTo>
                  <a:pt x="3569" y="8548"/>
                  <a:pt x="3694" y="8508"/>
                  <a:pt x="3845" y="85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31920" y="3106800"/>
            <a:ext cx="142920" cy="17136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3547" y="8657"/>
                </a:moveTo>
                <a:cubicBezTo>
                  <a:pt x="3632" y="8640"/>
                  <a:pt x="3850" y="8568"/>
                  <a:pt x="3795" y="8706"/>
                </a:cubicBezTo>
                <a:cubicBezTo>
                  <a:pt x="3744" y="8810"/>
                  <a:pt x="3724" y="8846"/>
                  <a:pt x="3646" y="8880"/>
                </a:cubicBezTo>
                <a:cubicBezTo>
                  <a:pt x="3730" y="8859"/>
                  <a:pt x="3750" y="8843"/>
                  <a:pt x="3795" y="8880"/>
                </a:cubicBezTo>
                <a:cubicBezTo>
                  <a:pt x="3779" y="9024"/>
                  <a:pt x="3679" y="9091"/>
                  <a:pt x="3522" y="9103"/>
                </a:cubicBezTo>
                <a:cubicBezTo>
                  <a:pt x="3489" y="9095"/>
                  <a:pt x="3456" y="9087"/>
                  <a:pt x="3423" y="90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00120" y="3036960"/>
            <a:ext cx="88920" cy="106200"/>
          </a:xfrm>
          <a:custGeom>
            <a:avLst/>
            <a:gdLst/>
            <a:ahLst/>
            <a:rect l="l" t="t" r="r" b="b"/>
            <a:pathLst>
              <a:path w="249" h="298">
                <a:moveTo>
                  <a:pt x="4167" y="8434"/>
                </a:moveTo>
                <a:cubicBezTo>
                  <a:pt x="4254" y="8529"/>
                  <a:pt x="4342" y="8627"/>
                  <a:pt x="4415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54120" y="3017880"/>
            <a:ext cx="54000" cy="144360"/>
          </a:xfrm>
          <a:custGeom>
            <a:avLst/>
            <a:gdLst/>
            <a:ahLst/>
            <a:rect l="l" t="t" r="r" b="b"/>
            <a:pathLst>
              <a:path w="150" h="398">
                <a:moveTo>
                  <a:pt x="4465" y="8384"/>
                </a:moveTo>
                <a:cubicBezTo>
                  <a:pt x="4406" y="8518"/>
                  <a:pt x="4360" y="8641"/>
                  <a:pt x="4316" y="87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4720" y="3554280"/>
            <a:ext cx="54000" cy="177840"/>
          </a:xfrm>
          <a:custGeom>
            <a:avLst/>
            <a:gdLst/>
            <a:ahLst/>
            <a:rect l="l" t="t" r="r" b="b"/>
            <a:pathLst>
              <a:path w="150" h="497">
                <a:moveTo>
                  <a:pt x="3051" y="9872"/>
                </a:moveTo>
                <a:cubicBezTo>
                  <a:pt x="3008" y="10044"/>
                  <a:pt x="2965" y="10201"/>
                  <a:pt x="2902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70000" y="3544920"/>
            <a:ext cx="125280" cy="179280"/>
          </a:xfrm>
          <a:custGeom>
            <a:avLst/>
            <a:gdLst/>
            <a:ahLst/>
            <a:rect l="l" t="t" r="r" b="b"/>
            <a:pathLst>
              <a:path w="349" h="498">
                <a:moveTo>
                  <a:pt x="3299" y="9847"/>
                </a:moveTo>
                <a:cubicBezTo>
                  <a:pt x="3261" y="10016"/>
                  <a:pt x="3240" y="10149"/>
                  <a:pt x="3274" y="10319"/>
                </a:cubicBezTo>
                <a:cubicBezTo>
                  <a:pt x="3430" y="10319"/>
                  <a:pt x="3489" y="10303"/>
                  <a:pt x="3597" y="10195"/>
                </a:cubicBezTo>
                <a:cubicBezTo>
                  <a:pt x="3441" y="10077"/>
                  <a:pt x="3365" y="10211"/>
                  <a:pt x="3249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27080" y="3732120"/>
            <a:ext cx="241200" cy="63720"/>
          </a:xfrm>
          <a:custGeom>
            <a:avLst/>
            <a:gdLst/>
            <a:ahLst/>
            <a:rect l="l" t="t" r="r" b="b"/>
            <a:pathLst>
              <a:path w="670" h="175">
                <a:moveTo>
                  <a:pt x="2853" y="10542"/>
                </a:moveTo>
                <a:cubicBezTo>
                  <a:pt x="3076" y="10477"/>
                  <a:pt x="3295" y="10415"/>
                  <a:pt x="3522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1080" y="3857760"/>
            <a:ext cx="177840" cy="258480"/>
          </a:xfrm>
          <a:custGeom>
            <a:avLst/>
            <a:gdLst/>
            <a:ahLst/>
            <a:rect l="l" t="t" r="r" b="b"/>
            <a:pathLst>
              <a:path w="497" h="720">
                <a:moveTo>
                  <a:pt x="3076" y="10765"/>
                </a:moveTo>
                <a:cubicBezTo>
                  <a:pt x="3237" y="10715"/>
                  <a:pt x="3355" y="10695"/>
                  <a:pt x="3497" y="10765"/>
                </a:cubicBezTo>
                <a:cubicBezTo>
                  <a:pt x="3403" y="10882"/>
                  <a:pt x="3305" y="10949"/>
                  <a:pt x="3175" y="11038"/>
                </a:cubicBezTo>
                <a:cubicBezTo>
                  <a:pt x="3298" y="11026"/>
                  <a:pt x="3636" y="10999"/>
                  <a:pt x="3448" y="11237"/>
                </a:cubicBezTo>
                <a:cubicBezTo>
                  <a:pt x="3331" y="11386"/>
                  <a:pt x="3078" y="11527"/>
                  <a:pt x="3001" y="113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43040" y="2955960"/>
            <a:ext cx="142920" cy="223920"/>
          </a:xfrm>
          <a:custGeom>
            <a:avLst/>
            <a:gdLst/>
            <a:ahLst/>
            <a:rect l="l" t="t" r="r" b="b"/>
            <a:pathLst>
              <a:path w="398" h="621">
                <a:moveTo>
                  <a:pt x="4787" y="8334"/>
                </a:moveTo>
                <a:cubicBezTo>
                  <a:pt x="4829" y="8251"/>
                  <a:pt x="4829" y="8227"/>
                  <a:pt x="4887" y="8210"/>
                </a:cubicBezTo>
                <a:cubicBezTo>
                  <a:pt x="4976" y="8339"/>
                  <a:pt x="4974" y="8466"/>
                  <a:pt x="4837" y="8582"/>
                </a:cubicBezTo>
                <a:cubicBezTo>
                  <a:pt x="4812" y="8590"/>
                  <a:pt x="4787" y="8599"/>
                  <a:pt x="4762" y="8607"/>
                </a:cubicBezTo>
                <a:cubicBezTo>
                  <a:pt x="4825" y="8515"/>
                  <a:pt x="4954" y="8572"/>
                  <a:pt x="4887" y="8706"/>
                </a:cubicBezTo>
                <a:cubicBezTo>
                  <a:pt x="4808" y="8864"/>
                  <a:pt x="4705" y="8821"/>
                  <a:pt x="4564" y="88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74880" y="2840040"/>
            <a:ext cx="108000" cy="125280"/>
          </a:xfrm>
          <a:custGeom>
            <a:avLst/>
            <a:gdLst/>
            <a:ahLst/>
            <a:rect l="l" t="t" r="r" b="b"/>
            <a:pathLst>
              <a:path w="299" h="348">
                <a:moveTo>
                  <a:pt x="5333" y="7888"/>
                </a:moveTo>
                <a:cubicBezTo>
                  <a:pt x="5399" y="7895"/>
                  <a:pt x="5446" y="7911"/>
                  <a:pt x="5507" y="7938"/>
                </a:cubicBezTo>
                <a:cubicBezTo>
                  <a:pt x="5461" y="8022"/>
                  <a:pt x="5445" y="8038"/>
                  <a:pt x="5358" y="8086"/>
                </a:cubicBezTo>
                <a:cubicBezTo>
                  <a:pt x="5508" y="8086"/>
                  <a:pt x="5519" y="8151"/>
                  <a:pt x="5358" y="8210"/>
                </a:cubicBezTo>
                <a:cubicBezTo>
                  <a:pt x="5267" y="8228"/>
                  <a:pt x="5260" y="8237"/>
                  <a:pt x="5209" y="82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57240" y="3027240"/>
            <a:ext cx="179640" cy="27000"/>
          </a:xfrm>
          <a:custGeom>
            <a:avLst/>
            <a:gdLst/>
            <a:ahLst/>
            <a:rect l="l" t="t" r="r" b="b"/>
            <a:pathLst>
              <a:path w="497" h="75">
                <a:moveTo>
                  <a:pt x="5159" y="8483"/>
                </a:moveTo>
                <a:cubicBezTo>
                  <a:pt x="5331" y="8437"/>
                  <a:pt x="5476" y="8416"/>
                  <a:pt x="5655" y="84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93960" y="3081240"/>
            <a:ext cx="71280" cy="61920"/>
          </a:xfrm>
          <a:custGeom>
            <a:avLst/>
            <a:gdLst/>
            <a:ahLst/>
            <a:rect l="l" t="t" r="r" b="b"/>
            <a:pathLst>
              <a:path w="199" h="174">
                <a:moveTo>
                  <a:pt x="5333" y="8558"/>
                </a:moveTo>
                <a:cubicBezTo>
                  <a:pt x="5230" y="8720"/>
                  <a:pt x="5280" y="8712"/>
                  <a:pt x="5457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55880" y="3054240"/>
            <a:ext cx="27000" cy="169920"/>
          </a:xfrm>
          <a:custGeom>
            <a:avLst/>
            <a:gdLst/>
            <a:ahLst/>
            <a:rect l="l" t="t" r="r" b="b"/>
            <a:pathLst>
              <a:path w="76" h="472">
                <a:moveTo>
                  <a:pt x="5507" y="8483"/>
                </a:moveTo>
                <a:cubicBezTo>
                  <a:pt x="5467" y="8632"/>
                  <a:pt x="5439" y="8776"/>
                  <a:pt x="5432" y="8930"/>
                </a:cubicBezTo>
                <a:cubicBezTo>
                  <a:pt x="5432" y="8938"/>
                  <a:pt x="5432" y="8946"/>
                  <a:pt x="5432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pg. 59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8760" y="1812960"/>
            <a:ext cx="366480" cy="268200"/>
          </a:xfrm>
          <a:custGeom>
            <a:avLst/>
            <a:gdLst/>
            <a:ahLst/>
            <a:rect l="l" t="t" r="r" b="b"/>
            <a:pathLst>
              <a:path w="1018" h="745">
                <a:moveTo>
                  <a:pt x="1191" y="5383"/>
                </a:moveTo>
                <a:cubicBezTo>
                  <a:pt x="1285" y="5301"/>
                  <a:pt x="1401" y="5355"/>
                  <a:pt x="1538" y="5358"/>
                </a:cubicBezTo>
                <a:cubicBezTo>
                  <a:pt x="1761" y="5362"/>
                  <a:pt x="1985" y="5358"/>
                  <a:pt x="2208" y="5358"/>
                </a:cubicBezTo>
              </a:path>
              <a:path w="1018" h="745">
                <a:moveTo>
                  <a:pt x="1736" y="5234"/>
                </a:moveTo>
                <a:cubicBezTo>
                  <a:pt x="1885" y="5283"/>
                  <a:pt x="2022" y="5330"/>
                  <a:pt x="2158" y="5407"/>
                </a:cubicBezTo>
                <a:cubicBezTo>
                  <a:pt x="2058" y="5549"/>
                  <a:pt x="1938" y="5654"/>
                  <a:pt x="1811" y="5779"/>
                </a:cubicBezTo>
              </a:path>
              <a:path w="1018" h="745">
                <a:moveTo>
                  <a:pt x="1811" y="5135"/>
                </a:moveTo>
                <a:cubicBezTo>
                  <a:pt x="1916" y="5183"/>
                  <a:pt x="2008" y="5245"/>
                  <a:pt x="2108" y="5308"/>
                </a:cubicBezTo>
                <a:cubicBezTo>
                  <a:pt x="2208" y="5455"/>
                  <a:pt x="1945" y="5119"/>
                  <a:pt x="1910" y="5060"/>
                </a:cubicBezTo>
                <a:cubicBezTo>
                  <a:pt x="1880" y="5060"/>
                  <a:pt x="2037" y="5265"/>
                  <a:pt x="2108" y="5333"/>
                </a:cubicBezTo>
                <a:cubicBezTo>
                  <a:pt x="2163" y="5361"/>
                  <a:pt x="2180" y="5375"/>
                  <a:pt x="2158" y="5432"/>
                </a:cubicBezTo>
                <a:cubicBezTo>
                  <a:pt x="2029" y="5527"/>
                  <a:pt x="1924" y="5616"/>
                  <a:pt x="1811" y="57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0:35:32Z</dcterms:created>
  <dc:creator>ccps</dc:creator>
  <dc:description/>
  <dc:language>en-US</dc:language>
  <cp:lastModifiedBy>deanne elizabeth mcgrath</cp:lastModifiedBy>
  <dcterms:modified xsi:type="dcterms:W3CDTF">2010-11-01T17:57:03Z</dcterms:modified>
  <cp:revision>8</cp:revision>
  <dc:subject/>
  <dc:title>Obj 5.3:  To multiply fractions &amp; mixed numbers.</dc:title>
</cp:coreProperties>
</file>